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DCF-93FF-49BA-B6C3-C3469E67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46A-F5C1-434C-82C5-6351EEC6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CB6-CA11-4816-96BF-91FDEF94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B44-FAB3-4CD6-A304-9061A2DC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2F0-5D54-40FA-8955-4B88D511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BF1-8E9E-44C6-AD33-AA6DEC03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34D-8F34-457E-8D44-8AA8B5D1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354-633F-4B7E-80E5-2F578743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ACB-14FF-4ED2-8BB7-92A9E000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1F9-4853-463A-939E-7FED4659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BB2-8CEE-4A3D-A321-98C397B2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4FE-D269-472C-B920-58C12617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EF23-183B-40DE-8A63-464CB8EFF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9 Pán Boh tvoj žia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bre pozn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Boh tvoj žiaľ dobre pozn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o tvojej bolesti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dí, že niečo ťa trápi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eď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ad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tebou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každý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čas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bdie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úcit má s tebou a túž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ateľom tvojím sa st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o všetkým obráť sa naň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omôže, veď má ťa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Boh je pri tebe blízk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očuje, ver, nie si sá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úžení každom ho vzýv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s dôverou hľaď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ebe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kúškach on silu ti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elkom sa spoľahni na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dbá o tvoje bla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os: Tvoja len vôľa sa staň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Boh ťa miluje vrúc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, za každých okolno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eba dal Syna svoj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môžeš žiť vo ve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tvoj záchranca ver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tvoj nebeský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rdci mu prvé daj miest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raduj 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e ho chvá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10:45:27Z</dcterms:modified>
  <cp:revision>21</cp:revision>
  <dc:subject/>
  <dc:title>Je veľký náš Pán, on slávy je Kráľ Nech do všetkých strán  spev vrúcnych znie chvál.</dc:title>
</cp:coreProperties>
</file>