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0DB0-AE22-4CE8-8FF2-B68C8625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A24-17E1-41A6-A332-766A402C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F03B-10A3-4431-ADF5-1178B3C0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3073-2AB1-4567-ABEC-5C0546ED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E7A6-1C10-4618-B91E-FD49A171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1ECC-52B2-473C-B553-CA5C1D4F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E99-EE8F-4910-B98B-4C44F9C8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DCDA-D023-401F-88AF-B68734E9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5905-53C5-4008-99AF-4A1895EA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4059-F791-4106-92DB-8F17AA16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DB5-6B99-4188-BE94-EF16429D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67BD-DFC3-4E9E-AD39-D26B67F7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5A5C-FEA7-40F7-8E27-FDC3906D8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69 V tvojom do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vätý Pan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tvojom dome, svätý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cem tebe chválu vzd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dnes nové požehna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z ruky tvojej smieme vzi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dvráť myseľ od már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som neba naplň z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nás vedie k posluš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voj Duch Svätý v k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ý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žalmoch chvá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lovách pies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ijmi našej vďaky hlas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e si s nami v každej tiesn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voja láska bl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í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dvráť myseľ od már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som neba naplň z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nás vedie k posluš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voj Duch Svätý v k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ý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úžobne už, Spasiteľ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a tvoj príchod čaká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rak svoj denne k viery cieľ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 nebu smelo dvíh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dvráť myseľ od már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som neba naplň z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nás vedie k posluš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voj Duch Svätý v k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ý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6:35:03Z</dcterms:modified>
  <cp:revision>22</cp:revision>
  <dc:subject/>
  <dc:title>Je veľký náš Pán, on slávy je Kráľ Nech do všetkých strán  spev vrúcnych znie chvál.</dc:title>
</cp:coreProperties>
</file>