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460-892C-45F0-A98C-D9C92237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E09-38D9-42A9-B41C-A5882EA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F8E-0E99-4D0E-AE5B-FA6046BF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3D6-FE01-4CBC-B829-9FFAFB84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F9E-2031-4723-83EE-D9F4448F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140-19D2-4C97-AFB3-A0EC495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725-1A33-4871-A571-C90D347F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011-ACE3-48A4-BCD7-79B9200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E92-58E6-447F-A536-756AB36C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4C5-4737-4AF4-B73E-4E111BB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0A0-5098-4F57-8F00-D5F00C9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430-ADBC-41E7-AEA0-778EADA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FE6-2DF6-4602-990A-1C6B0277D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5 Sobota Pán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zácny t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, túžime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rou sa do Bož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ízkosti vz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ovi ochot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rdcia chceme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za jeho dobro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o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, pokoja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háňa únavnej časnosti ti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raz sa všetko z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vždy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í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d u Pána si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, vzácny to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uši sa rozlieva nebeský j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posie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ej spásy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dostne mu vzdávajme chválu a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a Pán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chce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pokoja zdr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 všednosti cie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nám stôl hojnosti pripravuje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nás chlebom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sýti s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obotný deň vždy tak drah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u dal pečať na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spodi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eho vrúcny náš chválospev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n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nami bd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01:32Z</dcterms:modified>
  <cp:revision>22</cp:revision>
  <dc:subject/>
  <dc:title>Je veľký náš Pán, on slávy je Kráľ Nech do všetkých strán  spev vrúcnych znie chvál.</dc:title>
</cp:coreProperties>
</file>