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06D-F3B0-4807-BD97-DC78F87C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D7D-5361-49E0-952C-D36DADF1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014-8855-44A9-9849-6A6F38F4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449-7E41-4DC7-93E9-D7D3E7B0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F2C-5B16-44CC-BC9B-F2814D03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49C-3F17-4E6C-A596-EC3CE776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1A3-3BD9-48F5-8DF1-A2CBBB6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2CD-FCB8-48A6-A68E-52E2083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3F6-910D-4F11-BD22-473602C9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909-57EA-4E6F-A1D7-9559358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6F8-9E72-470C-9A41-E5B9780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489-2223-4F32-AA77-BFD2D4F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3F1C-50C4-45A2-A552-DCF1F5B3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89 Pane, svoje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 svoje požehn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sobotný nám udeľ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om dni tebou oddele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Duch Svätý vládne v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uč chodiť v posluš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er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pros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v úprim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osväť srdce, očisť mys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d zlom víťaziť nám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eď je smútok, úzkosť v du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ieru našu podpie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svieť rozum, daj nám sil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orozumieť tvojmu die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, tvoje Slovo vzá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tvára nám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ucho svojím pôsob moc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 nás vidieť obraz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Očisť ústa, otvor u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rnu pravdy vzrast daj v du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, nech v svätej horliv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áčame vždy za tebou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bav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etkých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ochybností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ieť nám tohto sveta tmou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ou láskou vykúpe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pút hriechu pozbavený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etkých spolu priprav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príchod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ojh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26:06Z</dcterms:modified>
  <cp:revision>22</cp:revision>
  <dc:subject/>
  <dc:title>Je veľký náš Pán, on slávy je Kráľ Nech do všetkých strán  spev vrúcnych znie chvál.</dc:title>
</cp:coreProperties>
</file>