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4A5-FE31-4CE0-BB6F-53DED64A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677-595C-4A2E-9D3A-C58066B4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E09-1D23-4DF9-A7F1-7E237303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F5A-4715-4CEB-BA02-5D6E0AD7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CEA-951D-41FF-B2FA-92D0C697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CF7-1939-4759-9411-8CD9CFA4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75A-AADD-4768-9C51-2B977CB0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476-29DD-431C-A85C-E54EF1E4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685-2053-49F3-8D24-D355097A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71B-ED72-4D91-A949-9DF0A530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C83-ADE7-4FF8-8F0C-AC20B0B5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A11-7200-441B-A0F4-AB92F87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C963-4186-4795-AF31-BC55FCB93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3 Tá vzácna mil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vzácna milosť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tvojím smiem sa z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o tme sveta svetla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d ňu môžem ma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hriechu zvod ma pokú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d číha z všetkých str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d krížom milosť okúš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m, Kriste, z tvojich 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milosť tvoja zbav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strachu, tráp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odpustení dar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radosť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tisíc rokov by som ž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šiel cel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milosť by som veleb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ktorú v svete ni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12:18Z</dcterms:modified>
  <cp:revision>12</cp:revision>
  <dc:subject/>
  <dc:title>Je veľký náš Pán, on slávy je Kráľ Nech do všetkých strán  spev vrúcnych znie chvál.</dc:title>
</cp:coreProperties>
</file>