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1E5-FE2E-41A8-A796-4477A0A0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99C-5664-4F62-9330-A603ED5A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F6F-7F06-4EB8-BA2A-BD8CA665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7E6-8C5F-4B64-9AF3-5A2D3160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3C5-1448-4611-80EA-DF83B087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A68-AF16-42A7-AFD4-C6249D61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AE1-2BC1-4674-958C-9ED83EEF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137-0330-4CC5-B25A-8CA68E4B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B52-3E96-4AAF-8DEA-FDCAB0B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139-5D21-4B3C-9FC4-6B53390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62E-FFFB-413A-991D-5E8319B4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881-4F26-4229-B3E2-D929759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9786-36F6-4507-9B5B-EE6A8067C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8 Len lístie m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lístie máš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vážny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žiali Spasiteľ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málo si ma milov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álo pre mňa pracov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čas si vypĺňal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lístie máš, len lístie má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lístie má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rásny vzhľa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je však ovoc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 milosti čas zanedbá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árnotratne premrh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 súdu deň mi dáš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Len lístie máš, len lístie má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lístie máš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rád ťa 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ádej chcem ti dať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úž svojim blížnym ochot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 stálou láskou, nezišt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život zasväť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ovocie mi odovzdá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2:00:44Z</dcterms:modified>
  <cp:revision>21</cp:revision>
  <dc:subject/>
  <dc:title>Je veľký náš Pán, on slávy je Kráľ Nech do všetkých strán  spev vrúcnych znie chvál.</dc:title>
</cp:coreProperties>
</file>