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6A89-194B-4F38-AA04-8DDCDFF05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6989-BC22-4B5F-B066-FCCE0614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B392-A7DF-43AB-8746-17D15E4D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F6B3-7677-4407-838D-DB80A8C20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567D-4A4D-4EFF-93D3-E2802C5C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D5E5-9C80-4FD0-B599-73584E05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26B4-20EF-4397-BD1C-91F6204D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1BA2-4A42-4133-B301-668C7F05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3F6B-3243-48DB-8807-29B666D2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FE22-37A2-4DBF-8D16-EEBAC9D3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564C-0395-4153-8793-F32A61EE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DE57-8856-4B6B-A814-35567018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8A45-3915-4B94-A780-EE5DF4977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94 Príď, Svätý Duchu, k n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íď, Svätý Duchu, k n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lam viery roznieť v ná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lahozvesť vzácn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môž niesť a šíriť svetla j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, Svätý Duchu, k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lej do sŕdc vrúcny ci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by pre dielo záchran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s mohol zjednot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, Svätý Duchu, k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i vždy máme by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 teba žiadny sveta zvo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s nemá odlúč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, Svätý Duchu, k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osti stálosť d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si v nás z lásky započ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 slávne dokonaj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5T10:15:20Z</dcterms:modified>
  <cp:revision>19</cp:revision>
  <dc:subject/>
  <dc:title>Je veľký náš Pán, on slávy je Kráľ Nech do všetkých strán  spev vrúcnych znie chvál.</dc:title>
</cp:coreProperties>
</file>