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9AC-9CF3-461E-A7C9-20841BCD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2C8-8322-4985-8E12-829B3B1F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D5E-EDBB-4436-839E-AE552681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59B-39BE-4B31-ABF8-A4446B0B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53B-C2DA-44F1-AB9E-D831C8D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50D-0496-4701-9334-A3D1F0BB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598-A4AB-44B9-B007-3C956DE1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F54-C19D-4E37-AA0B-F7DA41B9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AD8-2773-479E-AB65-005411FD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B4B-6E28-44F0-9B9E-2271606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5C6-2C37-442F-B82C-7A2610D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6F9-F0B7-4C68-A2BA-680CCEF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7C8B-F946-4F33-BAE9-F164C9DF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6 S Ježiš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Ježišom chcem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aždú chví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ť týmto sveta údol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a vedie, on mi dáva si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eď j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ieľ svoj nestratí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chcem í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okoľvek sa 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esť tíši, rany zahoj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dna búrka s Kr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zná nie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keď som s n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zlého nebojím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dobia vždy ces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nné kve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býva tŕním pokrytá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aj v skúšk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 svoje d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v svojej lás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 pamätá.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len tv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lieham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je tvoj, ten iste nezhyn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ba ty si, Pane,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chcem byť s te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ávy otčine.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0T10:04:53Z</dcterms:modified>
  <cp:revision>20</cp:revision>
  <dc:subject/>
  <dc:title>Je veľký náš Pán, on slávy je Kráľ Nech do všetkých strán  spev vrúcnych znie chvál.</dc:title>
</cp:coreProperties>
</file>