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B74-A860-41B8-B1C4-64BFA199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8E5-C3F0-4F60-962D-7630D4BC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141-534F-41AC-87B6-BDB82442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545-4053-42CB-9693-CE2819ED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E4-32EA-442E-BA90-00EF4CF5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EC9-DADE-4494-A2A7-7DFB8C7F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221-9C9B-4B21-95ED-0B1361A7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8B7-0F46-42E8-941E-BF51B3F4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7AD-77BD-49CD-AF34-DD463311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9CB-74E7-4632-A4F9-523121A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B8E-72F0-4F9E-A7EF-A59DCE2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1EC-7E40-45DE-8C52-D92A1168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23E3-6C5D-4D3F-B585-5A3594AE0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354 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úmrak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rný pad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U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úmrak v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rný pad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bl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 sa tmavá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 vt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t spev t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chne v diali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elebí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elebí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m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velebí Bo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u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 kvietky zvl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né ros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vorcovi vzdá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ko v modlitbe tich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si hla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y skl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i hla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y skl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ú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si hlav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ky skl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ň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es šumí, akoby vzýval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to meno tak vzneše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potok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blnkotom vzd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ánovi nadše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ánovi nadšene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es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Pánovi nadšene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k všetko velebí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o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lovek by rob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al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Má v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ne k nemu sa blí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a sp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piesne chv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sp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piesne chv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,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a spiev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 mu piesne chvá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Times New Roman"/>
              </a:rPr>
              <a:t>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11T15:59:03Z</dcterms:modified>
  <cp:revision>22</cp:revision>
  <dc:subject/>
  <dc:title>Je veľký náš Pán, on slávy je Kráľ Nech do všetkých strán  spev vrúcnych znie chvál.</dc:title>
</cp:coreProperties>
</file>