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2CA4-6B6E-47B3-9857-219D0D8D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417-6BD3-4530-B928-FCD31948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1D9-27A4-4E24-8829-FF453892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888-401D-48EF-9BEC-9E11522E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38C-F4A1-478F-B67E-35BEECE7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B377-FE8A-4361-B691-EA05513A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B21-D9C3-413C-B4C8-76AC2C21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953-52B8-491C-B089-2362E784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9BC-12C2-4B48-A521-F45C5779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C5C-1F56-4D56-8E5A-86BA93EF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C5C-B317-4A20-8B8F-6862FAF0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192-52A8-4E73-98BC-61D26B5D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0311-EEE5-4AB0-994D-FB329DE1E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4 Kriste, Darca zmiere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e, Darca zmier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ala môjho spas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vojej láske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tiekam sa v úzkost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teba živej vody prú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dá duši zahy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by som dňom, nocou lk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šu v žiali vyplak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adna ľútosť, žiadny či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zbaví ma tiesne ví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lh za hriechy, zloči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splatil, Nevin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y pohľad upier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, kde mrel si za mňa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úchom svojím prikry m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ovu prijmi za syn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bav ma bôľu, tráp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ráť mi radosť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svoj beh tu konať sm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tvoj kríž sa oprieť chc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eď príde smrti noc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môže ju tvoja moc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svit tvojho vzkries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e, Skala spaseni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17:11:30Z</dcterms:modified>
  <cp:revision>20</cp:revision>
  <dc:subject/>
  <dc:title>Je veľký náš Pán, on slávy je Kráľ Nech do všetkých strán  spev vrúcnych znie chvál.</dc:title>
</cp:coreProperties>
</file>