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499-655D-411C-964E-43CD7F0C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BCD-9198-4609-AE55-E93271C2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DEE-8F53-45E4-96D6-6836E228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6B38-0FB0-4E76-9F44-1A8CE4CD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A20-4D08-4C60-991A-D55ADC3C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1FA-570F-4350-B765-8398E2F5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368-AC55-4B70-867A-5B7757C0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968-620E-45BB-89F3-C20146D0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145-5148-4F16-A445-13EB5255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DCE4-C838-408D-861E-346399F0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236B-0387-4182-94FE-4BB20174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E3B-625E-45C1-B305-11863FE0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9EFA-F90B-4ABF-B64F-C1A0B74EFCE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59 Svit slnka hasne v dial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it slnka hasne v diali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adá n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tmy sa všetko halí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 Božia mo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die otcovsky nad nami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chráni ná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 diabla nástraha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m pokojný sen, Pa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práci pra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nového dňa úsvit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s uzrieť da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y radostne sme vsta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ten ranný č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ďačne uvíta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plný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raz všetko zotm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tratí sa j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počuť nám aj vo t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 spásn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prijmi nás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d krídla tej mil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pre nás chyst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ídla vo večnost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20:01:05Z</dcterms:modified>
  <cp:revision>61</cp:revision>
  <dc:subject/>
  <dc:title>Je veľký náš Pán, on slávy je Kráľ Nech do všetkých strán  spev vrúcnych znie chvál.</dc:title>
</cp:coreProperties>
</file>