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8FF-D4C3-40A3-9E60-FC08D9F9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95E-67E4-456C-80DC-74CF05D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7D6-2DC7-4F18-97BF-85107603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ECE-0276-4698-9BFA-25F4976B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D06-8DEB-4AB5-B1AD-DE87925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8CE-AF43-40B5-B333-F5EFB2D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AF0-761A-4D2E-B210-F3A5EC2E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EB8-1E1D-48E3-84F2-B8949B0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3B5-80AB-4B9C-8667-CE3FBB8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884-E4C3-43E5-8B88-057DEE6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80-352F-41C9-88B5-1967FE5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458-2146-4670-ACC5-2524844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6F62-1570-4AF6-ACCC-2FEBE547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9 Spievajme všetci radost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 radost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nost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ym nádej pri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ádu nás dvíha, povz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a zvesť tá dotkne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námte zvesť tú v šír i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e nás človekom sa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Spasiteľ pre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ieť na výšinách Golg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í sme, ja i ty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všetci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si ho prijal, za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ľkú milosť vďaku 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vetlo i štít máme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, lásky on je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 raz všetku žalosť,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oh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2:49Z</dcterms:modified>
  <cp:revision>29</cp:revision>
  <dc:subject/>
  <dc:title>Je veľký náš Pán, on slávy je Kráľ Nech do všetkých strán  spev vrúcnych znie chvál.</dc:title>
</cp:coreProperties>
</file>