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5FC-DB62-45FD-B5B1-16FF332A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F0B-935D-4757-98D0-61819E02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5AC-0F62-4672-BD6E-F2EE63FA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943-73AE-479C-8F13-F3A02F2F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A80-7ECA-469E-9D15-33E571A2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909-A392-495F-B75D-925A9946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38B-0D1C-4D13-9210-4E3D515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F7D-3E0E-4F30-AE57-42A8EE96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6EF-9471-4866-BE5C-D2BC90CB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1C8-C694-40C0-BB0A-58175663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DC0-1794-4A08-A9D1-0CD7418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C20-F7D8-4DF1-8282-F9661B8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2CFB-52E3-455E-8C8E-A4FFA69C50B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1 Hneď za r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my chcme v Božom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svojmu dielu vykroči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neď za rána chváľme Pá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jný nám doprial se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me zase v rannom čas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tať piesňou nový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my chcme v Božom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svojmu dielu vykro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mavou nocou svojou moc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 nad nami držal strá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vej sily, Pane mi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ašej práci dať nám ráč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my chcme v Božom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svojmu dielu vykro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, Pane, odhodla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ráčať vpred, hoc ťaží krí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tvrď vieru, veď nás k cieľ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ú úzkosť duše 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a chváli kvietok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táčí spev i slnka sv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my chcme v Božom me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svojmu dielu vykroč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aj v žia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rak sa kal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taň s nami, Pane ná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, chlieb z neba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š, čo tr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len radosť srdcu dáš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14:41Z</dcterms:modified>
  <cp:revision>63</cp:revision>
  <dc:subject/>
  <dc:title>Je veľký náš Pán, on slávy je Kráľ Nech do všetkých strán  spev vrúcnych znie chvál.</dc:title>
</cp:coreProperties>
</file>