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1B25-66E9-49C7-86C3-3A8A914E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571-2CD6-4BBE-879C-4F361711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CC1C-E165-486E-A812-B359E268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3BE0-DC5B-429C-B53A-F3454133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B850-35CD-4B14-95A3-E23EEA55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B51-B00B-4C2F-BDC5-996136CA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6C4-8F8E-4E67-B949-3C5C8248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FCA4-BCBE-41C7-836D-94E25019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E6D0-A178-4638-8857-7B6F072E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92F5-3FD0-4732-ACB0-8C74417B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6F0-345E-4B0F-A628-C92D9AD8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DDE-3A7D-458C-97BA-1AE3E70A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E463-B570-49A2-A498-D2986BE59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74 Haleluja! Krásne rá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Haleluja! Krásne rán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 srdci blaho, pokoj mám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Oddelený deň je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ánov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torý posvätil on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ho Tvorcu veleb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dpočinku deň si ct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ypočuj nás, drah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ho Ducha zošli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dnes nebies požehna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bohatí všetkých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Láskou svojou skloň sa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našich 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d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prav si chrá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luhov svojho Slova žehn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o tebe šíria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šetkým všade dopomáh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lížnych k zdroju spásy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modlitbám sa priznáv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ášmu spevu sluchu praj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o sŕdc vsiate dobré semä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aštep, zvlažuj, vzrast mu d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ech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raz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šetci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poznať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mie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ríšu tvoju, nový ra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nám tvojej lásky da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zr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dá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 tvoju tvár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18:55Z</dcterms:modified>
  <cp:revision>22</cp:revision>
  <dc:subject/>
  <dc:title>Je veľký náš Pán, on slávy je Kráľ Nech do všetkých strán  spev vrúcnych znie chvál.</dc:title>
</cp:coreProperties>
</file>