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235-2011-491E-A6F2-12B31175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6A61-9A62-41F2-AD2E-020C5A28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09E-57E9-4A98-B07A-9E233646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051-BBEF-44EE-B6C6-52777C9F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8903-AB4D-4B8A-8EF8-7683346C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642-017C-4220-BE24-52F15306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FE5C-56AA-4218-83CF-72C90609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5E14-3AE0-40EA-B1A0-23076E15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952-BCA2-4C8F-A6D0-131A56EE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469-96AD-4FE8-BC17-6C9EDE5E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1FF-777A-4AA0-B82D-D5DA2B4E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95A-2AA2-40BB-8B30-6B1F3405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EDD8-AC72-4D91-882E-AA0C81719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02 To Slovo tvoje, Pane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Slovo tvoje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vzácne dedičstv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máme stály sily zdr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iery bohatstv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tvojej láske čítam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j zámer poznať sm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voje rady pomôž db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zákon plni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ť spásy je vždy útech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srdcia skrúše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v kríži nádej z tvojich slo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lásky znam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Slovo v tôni lúče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tvojho svetla svit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prijme milosť spas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bude večne ži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07:19:48Z</dcterms:modified>
  <cp:revision>20</cp:revision>
  <dc:subject/>
  <dc:title>Je veľký náš Pán, on slávy je Kráľ Nech do všetkých strán  spev vrúcnych znie chvál.</dc:title>
</cp:coreProperties>
</file>