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89A-22A8-4E48-BC6C-C5EF66F1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ED7-F8F1-4E10-824A-A680F6ED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064-AF9C-4BD2-8BF0-A319CC1E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F64-0B2B-4149-8E56-19DB287E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4AF-F4F8-4E89-877E-E9FC401C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B90-4C19-4E42-A03B-C4CD5D8B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DA17-17F9-4100-9A7C-934B7CD9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C55-0520-45DC-89FE-77176E35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A31-297A-411B-807F-506DA60E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6B7-24AB-4DC7-AA87-73D29E47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3AB-A1D0-47A3-9154-244F8A3E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C29-AAD4-4EC4-B49C-0641A4D7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3440-186E-44C9-8B5B-49CD0CCA0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5 Koľko lásky má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Kr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ľko lásky máš pre Krista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 teba niesol krí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u radosť on ti chy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 mu srdce otvor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, Pána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i ochotne 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duši tvojej pr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z lásky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p sa vďačne mocnej ru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va ti ju Ježiš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 teba trpel mu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a prúdi z jeho 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, Pána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i ochotne 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duši tvojej pr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z lásky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časný je len krát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y ako klamný sen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ťastia prelud je v ňom vratk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však ešte spásy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, Pána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i ochotne 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duši tvojej pr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z lásky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remeškaj príležit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ti ponúka tvoj Pán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a bude každá ľút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zavrhni spásy pl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, Pána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i ochotne 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duši tvojej pr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z lásky darov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7:23:08Z</dcterms:modified>
  <cp:revision>20</cp:revision>
  <dc:subject/>
  <dc:title>Je veľký náš Pán, on slávy je Kráľ Nech do všetkých strán  spev vrúcnych znie chvál.</dc:title>
</cp:coreProperties>
</file>