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5F8-8750-4D96-BBDF-473CAABA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535-2330-4619-84F3-584AB7B7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063-983B-4D90-A011-0CE0A35A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5BA7-08C3-4D84-8560-CAA7C576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D101-D6AE-4D8B-81F5-DE0F0275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2B24-5DAA-4452-9457-2C8EC54E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34E-2E5C-49F5-B062-A613AD74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607C-E1DD-4735-947B-9A9B31F0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3B6-81BB-4340-A280-0F3D9E3A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FE92-3B00-49EC-A318-BC837396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326-7275-4B3C-8476-E79036C3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10E-04A3-433C-AC19-B452365E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107C-FEFF-47C3-BB33-92DC54977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47 Ja v nebi láskavého Otca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bi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éh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tc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neho pohľad viery upieram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ve ma z tejto cudzi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zasľúbenej otči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m hotový ísť vždy za 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m hotový ísť vždy za 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lasti večnej nádhe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 jeho lásky oce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Ja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ebi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Spasiteľa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svojho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mám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36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a jeho milosť sa tu spolieha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;</a:t>
            </a:r>
            <a:br>
              <a:rPr sz="44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ve ma z tejto cudzi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zasľúbenej otči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m hotový ísť vždy za 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m hotový ísť vždy za 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íž pre moju spásu š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budem smieť žiť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čne s 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pripravený veniec slávy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hlavu vloží mi ho Pán môj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ve ma z tejto cudzi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zasľúbenej otči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m hotový hriech zanech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m hotový hriech zanech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jeho lásku bezmedzn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jemu vrúc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 vzda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2:55:10Z</dcterms:modified>
  <cp:revision>20</cp:revision>
  <dc:subject/>
  <dc:title>Je veľký náš Pán, on slávy je Kráľ Nech do všetkých strán  spev vrúcnych znie chvál.</dc:title>
</cp:coreProperties>
</file>