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66E-9AAC-44A1-BC63-2C7A539B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17D-1A67-437A-88FE-8E34339B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DE7-7C03-4FEA-A96C-02BB3615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794-52A1-4B05-BD64-861E9F78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634-CF3C-4B6B-8314-53F4D52F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E27-D229-45D6-BD9A-B5337F29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CCF-3BBA-4B56-A0AF-9C7474B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E55-9EFE-4832-878C-05A6797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E44-11E6-42E2-B65C-6C3649DA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E30-D07D-418D-AF99-E8C7B12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DB2-6487-4F6A-B27C-450ECDE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6D7-82E9-4C3A-846F-8C9EA91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C07B-3908-48F5-BFCA-67A89B56911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3 Bože, ty si chránil, vied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Bože, ty si chránil, viedol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od mladosti krok môj sám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 svojej láske veď ma ďalej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riamou cestou k výšiná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, veď ma, Otče, drž m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púti zomdliev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šny svet ma na zlé zvádz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ušení strojí sie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 byť, Pane,  stále pri m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ovom pravdy do tmy svieť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chvíľach šťastia 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či v búrka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uchom svojím k sebe ve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ď ma k práci užitočn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ň i v odpočinku z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č ma v bázni tvojej cho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uč vykupovať č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, keď sa mladosť strat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si ty môj žiti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če, prosím, uč ma žiť ta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žil môj Spasite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orou a láskou čist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by sa môj život sk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len tebe, Otče ve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lospev môj vďačný zne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6:31:17Z</dcterms:modified>
  <cp:revision>84</cp:revision>
  <dc:subject/>
  <dc:title>Je veľký náš Pán, on slávy je Kráľ Nech do všetkých strán  spev vrúcnych znie chvál.</dc:title>
</cp:coreProperties>
</file>