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C17D-D5DD-4AC1-B4EF-10E9ACF67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66D7-2F26-47F0-9F9A-B5F80A16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A8E0-5125-4A05-BBCF-929897CF6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0191-8054-48AF-8089-12C768C23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CB22-8C4F-463B-8BF4-DD13B66A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129D-A986-4C72-A29E-26705ABC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7E8A-9536-43A8-973E-389E2A29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2241-0409-4F64-9C4E-AC7BC065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61D9-EC8B-491A-AD04-6C2AC46A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BE78-89D1-47C5-8250-DDD199D9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1592-685F-4E47-A435-BB1FC5C8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8DD9-F129-48AE-8F22-3A78E884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4F53-A578-4FC5-BBAA-CC758244B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10 Strážcovia stáda Božie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rážcovia stáda Božie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oďte do sveta šíre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ratené ovce hľadajt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Pastierovi ich volaj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ľadajte, volajt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vce v svete blúdiac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láskou ich priveďt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náruče milujúce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môžte všetkým znavený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jsť silu v žitia pramen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stier im dá svoj pokoj rá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de ich chrániť sprevádz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ľadajte, volajt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vce v svete blúdiac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láskou ich priveďt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náruče milujúce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ozneste Božie pozvan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sveta verne, odd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Krista mnohí poznajú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za ním verne kráčajú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ľadajte, volajt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vce v svete blúdiac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láskou ich priveďt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náruče milujúcej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6T09:14:44Z</dcterms:modified>
  <cp:revision>20</cp:revision>
  <dc:subject/>
  <dc:title>Je veľký náš Pán, on slávy je Kráľ Nech do všetkých strán  spev vrúcnych znie chvál.</dc:title>
</cp:coreProperties>
</file>