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037-DD81-44A4-8A7E-CC58A16C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98C-0D2B-4BA0-BC33-EF085A8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582-E47C-4FD5-B620-9CE0DBF2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DE3-1C8B-40DE-B28B-961B9590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278-4B7D-44B5-B2E3-CC7ACA3A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70E-A69E-4003-90DF-4473055D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28D-B1BE-4074-BE2A-331AFB8E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259-AB84-4BFE-ACF6-F761BBE4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D8B-9932-4020-89C2-29A5A744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F37-67D1-4AC7-8756-F73F8A71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C4B-5640-4142-A332-546D44ED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642-4D53-41B8-B459-96BDBBA4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2347-50E2-4AB3-9C52-1049638218E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1 Mysli na tie davy ľud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ysli na tie davy ľud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plnených veľkomie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hľad na ne súcit bud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eba im zvesť spásy n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é srdce skrýva túžb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živote blaženo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stal čas pre vernú služb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oli k žatve dozret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ristovi sa Boh sám z n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dným z ľudí navždy st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iedu našu vzal na s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stu k sláve uká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hanbe kríža za nás on s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ypil kalich hrozných múk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dej spásy pramení n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prebodnutých jeho rú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us volá ubolen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šetkých končín, sveta strá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ďte ku mne, unav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vám odpočinok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námahy, práce, znoj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 mňa pokoj nájde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je slová rany zho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ich vierou prijmet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52:47Z</dcterms:modified>
  <cp:revision>34</cp:revision>
  <dc:subject/>
  <dc:title>Je veľký náš Pán, on slávy je Kráľ Nech do všetkých strán  spev vrúcnych znie chvál.</dc:title>
</cp:coreProperties>
</file>