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DDB4-3A8E-41BE-B54E-D61DFBF3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844D-B67F-4949-9715-6B3AABAB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274C-3B4D-4101-B777-7193A02A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77E-AF59-4006-B72B-08EDF1AC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905-F2D4-4569-8F0A-6CEDFB1C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A100-C8FE-43D0-97A6-BF25AE18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3EF-A629-4A4E-807C-5A29D588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E93B-753E-4B0D-80E3-1C73BE9C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A1E3-760E-4A09-990B-C58F57A2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A131-88B0-4627-8B08-D77327A5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963F-0B7D-42A1-AD77-439F0A11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D7B-679B-40A1-8366-751E865E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834D-73D3-4C80-99C3-E3616C161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75 Keď sa Kristu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zem vrá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Kristus na zem vrá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úžbu mám ho uvid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zrieť toho, ktorý z lás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mňa ochotný bol mrie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jasná slnka žiar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kvieť sa bude jeho tvár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ja budem česť mu vzdá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prevzácny spásy 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ho vidím iba vier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voj hriechu delí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 však, že už skoro pôjd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do jeho ríše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jasná slnka žiar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kvieť sa bude jeho tvár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ja budem česť mu vzdá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prevzácny spásy 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mi večnú radosť sľúb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, kde žialiť nebud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ého, čo tu ma tráp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baví ma sám on, v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jasná slnka žiar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kvieť sa bude jeho tvár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ja budem česť mu vzdá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prevzácny spásy 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vidím raz Spasiteľ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m sa teším nocou, dň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uje ma večnou lásk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ť, pokoj mám len v ň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jasná slnka žiar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kvieť sa bude jeho tvár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ja budem česť mu vzdá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prevzácny spásy dar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39:31Z</dcterms:created>
  <dc:creator>MD</dc:creator>
  <dc:description/>
  <dc:language>en-US</dc:language>
  <cp:lastModifiedBy>MD</cp:lastModifiedBy>
  <dcterms:modified xsi:type="dcterms:W3CDTF">2000-12-12T18:36:51Z</dcterms:modified>
  <cp:revision>6</cp:revision>
  <dc:subject/>
  <dc:title>Bez nadpisu</dc:title>
</cp:coreProperties>
</file>