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A8B-DD9E-4F44-B342-D1C29AAB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681-71C6-4E88-B4B1-D8EEF5A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5B8-9B20-475F-8EDB-320295FE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472-D093-4D32-AE84-8EB1AA94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852-1744-42F1-9DD6-1A5CD01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201-CEC3-46AB-B11F-EEAD2E9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E06-D98C-454E-91E7-B58964A7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72F-4B4F-4D09-B129-4195BFE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769-6648-4CEA-9673-44F2246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A52-21D6-4C52-B8D4-AE77BCB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194-9AED-4E39-BAFE-491D1BB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BA9-60A5-4A62-A345-47A3E9C5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3D9C-FDA9-45A9-A233-4A16E348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0 Len k tebe, Tvorca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tebe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eď v tvojej láske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i večný život m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a miluj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rániš deň po dn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est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uj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ždy som nehod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:||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bezpečný si ští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v úzk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Ty v láske svojej chceš ma skryť pre večnosť z milosti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7:22Z</dcterms:modified>
  <cp:revision>31</cp:revision>
  <dc:subject/>
  <dc:title>Je veľký náš Pán, on slávy je Kráľ Nech do všetkých strán  spev vrúcnych znie chvál.</dc:title>
</cp:coreProperties>
</file>