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E07-9C3B-490A-B27F-B293A904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F6B-6253-4B3D-A00A-E91954B7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A7A-FB59-4D07-969B-3F18FCF3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C2B-0296-4B93-99C0-B621BA1C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8A6-C521-4196-9668-A302F42F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A77-AB53-430C-977F-39DB2E69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BD1-963D-40A8-9AA1-09C022B7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86D-53AF-48D7-8745-E06F5B3A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457-77AD-49C1-9EB8-A57C73FB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DE0-B243-415C-B3B5-3D74AA3E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943-3E3E-4A2C-BBB2-259D28E9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5B7-94E6-4BCB-896F-47989B77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7BAB-8DDB-4DEC-B200-9CF3FEA0D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6 Pán Ježiš prícho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chyst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príchod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z nebies chy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nám dedi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novú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pi a priprav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vítať Krist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prievode anjel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de tvoj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hľadaj pokla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mto sve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u krátke, v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trv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len s dôv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obráť zre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zvody sve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dpovedz: 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vzdaj Pánov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život cel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ťa mil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mu slú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tka len chví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y budeš v cie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príde tvoj Spasiteľ u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1:02:31Z</dcterms:modified>
  <cp:revision>20</cp:revision>
  <dc:subject/>
  <dc:title>Je veľký náš Pán, on slávy je Kráľ Nech do všetkých strán  spev vrúcnych znie chvál.</dc:title>
</cp:coreProperties>
</file>