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07D5-1E14-4D19-B13E-8B6EEA4B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9228-8ABF-42F9-B191-9788A660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CA99-0B2F-487C-B554-2652FF25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9391-314B-4509-88E3-660072A2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5A3C-993F-4212-BFC0-390533F3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ED83-F1E7-4D65-8755-24F7D250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893A-30D2-4D0C-AE41-EA7EF9F4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50A1-B877-4D65-9937-13FA85D1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E300-B162-43CF-95A2-B7C5C53D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90DF-2CE5-42F3-A369-D3304347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6750-92C4-42B1-B064-E5E12181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74A3-FCC8-43F8-9562-AC57A68D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9719-2712-44EE-86F3-19D1578C2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54 Tam na golgotský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ýšiná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na golgotských výšiná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preveľký div st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za nás hriešnych Spasite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ríži zomier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na Golgote zjavil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 lásky Boží Sy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tejto láske uver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ť bude večne s 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z ľudí môže pochop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vytrpel náš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k trónu slávy otvor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cestu doko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na Golgote zjavil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 lásky Boží Sy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tejto láske uver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ť bude večne s 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nás on zomrel, prijal tres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naše prečiny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lh za nás splatil na kríž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aránok nevin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na Golgote zjavil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 lásky Boží Sy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tejto láske uver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ť bude večne s 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rť žiadny človek nezdol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mnoho bolo snáh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, slávny Víťaz, príbytok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dá nám v nebesia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na Golgote zjavil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 lásky Boží Sy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tejto láske uver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ť bude večne s ní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35:21Z</dcterms:modified>
  <cp:revision>31</cp:revision>
  <dc:subject/>
  <dc:title>Je veľký náš Pán, on slávy je Kráľ Nech do všetkých strán  spev vrúcnych znie chvál.</dc:title>
</cp:coreProperties>
</file>