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87D-4BCE-43D9-8A74-A7AD4A7B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08D-7826-4C5F-9F40-87C5AE7E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54E-CF7D-4021-9C00-FD2A9897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F22-B084-4371-B748-B7C27606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1E1-DB97-4577-8BB9-F0465CCA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C99-9828-458D-94D0-299ACEEA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869-B025-41D4-A241-9A14B02F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1B3-2308-4CDC-A8C3-0A780691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ADE-0AEA-4508-9891-36DC4EBB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FEC-C26D-404E-AAE1-8EDA88F2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E6C-7F38-484D-A365-4A75BE12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8B8-FA56-426D-AED2-FE88D402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B785-D200-4E2F-A9A2-E4B83BC54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7 Na Spasiteľa svoj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pasiteľa svoj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pevne nádej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v drahých ranách j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večnej spásy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m, namiesto mňa sám šie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ž na kríž Golgo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moje viny zomre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yn Boží presvät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rdce moje ži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mi pomôcť 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trápenie sa vzdi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tiesni so mnou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k jeho nohám klad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kríž i star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srdce pokoj náj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ier sa rozhos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– moja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najkrajšia je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život môj to hl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blížnych k nemu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esta, pravda i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život pram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hľadí len na Kris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 vždy byť blažený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6:50:55Z</dcterms:modified>
  <cp:revision>20</cp:revision>
  <dc:subject/>
  <dc:title>Je veľký náš Pán, on slávy je Kráľ Nech do všetkých strán  spev vrúcnych znie chvál.</dc:title>
</cp:coreProperties>
</file>