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97F-3425-497F-A5CC-94FF6DF3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5ED-7DA0-4575-8F5E-0B877F9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3DF-7275-4F41-874D-ADB24238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25F-0112-4C2C-BDC8-18930183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5A4-A799-4474-903F-0F799F01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47E-21CA-4FAF-A3B3-557E1D7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651-4433-4355-944F-AEF85F0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BA7-84E1-4B7E-9AFE-CE436E6B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270-A2D2-46A1-8240-0D694619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A0B-1DD6-43BD-992B-3981D9B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F88-4146-4D81-BAFC-FA39461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80F-49E4-4335-BEEC-C3A9DF40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26D-848D-4B3D-A6B9-72F6DDB1A4A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8 Vstaň, ľud Boží, vsta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ň, ľud Boží, vstaň, ísť vpred velí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staň a neváha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o práce sa d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tít viery, meč Ducha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Pánom sa sp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Pán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obzeraj sa spä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š vznešen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tebou je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neho vždy môžeš náj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ých síl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ov je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z, že v zápaso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ždy s tebou tvoj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odlitby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i odpovie v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a útoky odraz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 sa 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uď statoč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záchranca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41:48Z</dcterms:modified>
  <cp:revision>20</cp:revision>
  <dc:subject/>
  <dc:title>Je veľký náš Pán, on slávy je Kráľ Nech do všetkých strán  spev vrúcnych znie chvál.</dc:title>
</cp:coreProperties>
</file>