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050-E136-427A-94F7-96561287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4FA-CE94-4D60-9007-450416A9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C1C-D8F2-48AE-A51B-58677341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58D7-56EF-454E-A64C-37EEB34C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7BD0-4F3F-405E-B166-0D0C9A52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2C3-B8FA-4C7E-B77A-2BC5BCE4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48F-805E-40C8-AE02-DF1B3F51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3D0-8B01-4183-81A2-0E597680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62A-C6FA-4F0D-AE41-8757EFBE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8764-FFB1-4EBE-9EC3-64C806C9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AC7-B5E5-4B5F-9C84-F4121241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0538-56FA-45E6-9343-AC93D6AA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6FE2-FEC1-4925-BA51-7E356650A72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62 Keď ráno z lôžka vstáv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ráno z lôžka vstáv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d spievam pieseň chvá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esť, slávu Bohu vzdáv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dnes zase pracov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k milosti len Božej má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čo ďak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om slabé dieťa tvo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ty to dobre vie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poznáš srdce moj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očistiť ho chce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žehnaj moje snah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tebe podob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odpusť, Pane drah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 zarmútim ťa sná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 do rúk tvojich vkladá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tento dnešný deň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rúcne, Pane, žiada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pomoc teba l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keď aj trpká bole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aľ v srdci rozle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m, že len tvoja milo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s bôľ môj odveje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7T20:22:58Z</dcterms:modified>
  <cp:revision>64</cp:revision>
  <dc:subject/>
  <dc:title>Je veľký náš Pán, on slávy je Kráľ Nech do všetkých strán  spev vrúcnych znie chvál.</dc:title>
</cp:coreProperties>
</file>