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39B3-9259-49BB-8DDD-D945DCD5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F0E-2444-416A-A994-2F4BA1AA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C291-4AA0-47DD-A63D-0C9337FC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2511-63D5-4D4F-8B45-E9B17BF2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28C-F71A-4855-80A3-00962FF6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75D5-42D0-459B-92F7-046CFC4B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74A3-E85B-4AEF-91FC-92A49978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610-237C-4451-B534-8FBFB293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CDE5-5E05-4405-B37F-B6C9442A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C417-F110-4984-A748-CA40BF62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F6F-3751-4356-B99F-F423F977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BD3E-3EE4-4EFA-886E-69F1C36B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53C2-A51F-4B2E-90B7-B603B0EA77A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11 Buď požehnaná hod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požehnaná hodina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kláňam svoje kolen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vzývam Tvorcu mocného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ilu čerpám od ne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k modlitbe sa utieka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okušeniu unik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v každom žiali, súžen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útecha mi pra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vzácna chvíľa modlitieb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teba milšej, drahšej nie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chválim Otca na neb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pozná moje potreb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otvorenú náruč m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láskavo ma prijím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o všetkým sa mu zveruje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 prosbe bližšie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nemu ľn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teba, chvíľa prosieb, má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Duch Božím viesť sa d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iem požehnanie prijím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 Pánovi sa rad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ič viac si nad to necení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zhovárať sa môžem s ní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rúcne za to ďakuje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jeho sľubom veriť smie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4:13:48Z</dcterms:modified>
  <cp:revision>14</cp:revision>
  <dc:subject/>
  <dc:title>Je veľký náš Pán, on slávy je Kráľ Nech do všetkých strán  spev vrúcnych znie chvál.</dc:title>
</cp:coreProperties>
</file>