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A8C6-F4E5-48F0-910E-446F0AA0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043-2630-4025-8EAC-8D4EC7AA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33F-49DF-41AA-BA69-FA10C066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4E2-266B-4EC8-B4FF-71877DEC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20B-4F8F-49F7-88C4-29423308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BE2-4A09-4CF3-9098-4B77DC83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0B8-657E-438A-97BC-3B9B91F5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77A-B93C-4DBF-ACEE-08C93AEB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434-8192-4995-B1DD-EE52FAFD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484-9E93-4E57-8800-766E6572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537-2BB9-412C-8969-95B53FEE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E6B-D5D0-452F-A464-24A86403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4644-F4AB-4978-B49B-2480BE19E0F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55 Plášť svoj noc, keď prestie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lášť svoj noc, keď prestier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lnko spať sa uber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arosť, prácu odklad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u Bohu chválu 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ba, Otče na neb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ša moja veleb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pokoja tvojho dar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za radosť, práce zdar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 mi, prosím z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pustiť hriech, slab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 túto tmavú noc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ma chráni tvoja moc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skončí žitia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bostrie ma smrt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m, že aj mňa v pravý č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kriesi mocný Pánov hla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9:39:55Z</dcterms:modified>
  <cp:revision>58</cp:revision>
  <dc:subject/>
  <dc:title>Je veľký náš Pán, on slávy je Kráľ Nech do všetkých strán  spev vrúcnych znie chvál.</dc:title>
</cp:coreProperties>
</file>