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899-E491-476D-94A8-AEAF88F0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41B-F18C-4622-B99A-1C348CEE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F69-9139-43C6-877F-F378755A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939-BD04-457E-AE19-63FC7760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7DA-AFA7-4C45-82DA-C5C37C83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F12-314F-4CCF-9651-DF210C35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B18-92C7-4EF9-B0EB-D3686937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4AC-63E5-484E-8CB8-7B0AF904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6E3-C22E-4DA1-AE1C-0EE52057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FE4-FEE1-4476-AA6D-C2D77785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8D8-0999-4087-86B4-117F29FE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1C4-8593-4E14-81E2-0863EA4B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884B-6672-4718-AA04-800B1FDE8AF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91 Hospodin nás viedol sá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Hospodin nás viedol sám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vo svojej láskavosti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preto hľaďme s dôverou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aj do budúcnost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slal pomoc v pravý č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aždej žitia tiesn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ždycky nový dôvod d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vďačnej srdca piesn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ožia ruka prikrátk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ikdy nebýval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Kristovi nám najväčší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klad darova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ním nám aj dnes podáv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tec hojné dary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vojej láske verný 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rpezlivý, stá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asom sa nám môže zd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pomocou, že mešk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uka jeho láskav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ráni nás i tres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 bludnej cesty odvraci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die k vodám živým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zelené pažit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stier milostiv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spodin vždy s nami bo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láske neskonal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ocným svojím ramen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ovedie nás ďale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sveta tmách nás nenechá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mocne sa zmieta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vedie až do ci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aždé svoje dieť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36:14Z</dcterms:modified>
  <cp:revision>93</cp:revision>
  <dc:subject/>
  <dc:title>Je veľký náš Pán, on slávy je Kráľ Nech do všetkých strán  spev vrúcnych znie chvál.</dc:title>
</cp:coreProperties>
</file>