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EDB-7C3F-4623-9DBA-4D2B54C0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4F7-F56E-416E-8AF6-283F83CD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929-0D85-4BE9-ADFD-CA018F1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568-EAA0-44C3-82DC-E049B82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DF5-AB15-4EBB-9995-C273F42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81B-0239-4A4A-B2AD-C82060E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A73-7A77-471A-A58B-B28D8C22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306-7700-4573-9BC3-AF53D78D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224-2AAE-463B-AA91-7BC7D9F9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761-5C20-4038-B36B-9060EB9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825-2F3E-4E97-AF6E-23438E1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CC0-F18A-4FBE-A5A2-5BB4E3F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F95F-80C1-401A-84A8-C083B12E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9 Očakávaj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mútok a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ní na slas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á u n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á nás vla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j Pána, na neho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š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verný je, nikdy neskl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aj búrka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 zasvi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boji skúšo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verný mo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chráni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v ňom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jeho svätým noh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remä odkla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, všetko zlé raz sa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áchrancu kto dúf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e nez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verný Bože,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eš deti s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 im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j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ykroč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d neho,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jší ni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len vždy sa spolie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úbil, že nám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osti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9:07:58Z</dcterms:modified>
  <cp:revision>20</cp:revision>
  <dc:subject/>
  <dc:title>Je veľký náš Pán, on slávy je Kráľ Nech do všetkých strán  spev vrúcnych znie chvál.</dc:title>
</cp:coreProperties>
</file>