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31C-1C18-43D5-8B62-A489BE50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F3D-DD73-47DF-9B71-27AA787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3BC-EFA9-47DE-B512-7AF9384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4C0-9916-40E9-8387-6498FA7A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573-C523-482A-B7A2-699C3A7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1F2-62AF-4B70-997C-8B373C3E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988-5B7E-4480-B38D-5FE26304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61F-F140-4039-B653-CE555B9A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90F-E790-43E1-B94B-A600100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1FD-05B6-4346-A132-3E8752A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A1A-4E8F-4ECE-AE3E-ED82622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C7E-D8FB-4936-B2E5-4E949A9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1A9-B3F4-4B4A-9D05-18F082AA0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2 Na každý deň, môj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 môj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sa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, prosím, radu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dobrom i zlom čase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ies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čne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ás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erným chystáš nov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om často blúd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kutky iných sú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lastný zrel som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áč ma pýchy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teba vďačne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sť blížnych k tebe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úč slova do tmy sv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u tvojich d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viesť sa chcem vždy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príde žiaľ, či úzk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silu tvoja blízk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vždy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tvoja hriechy zmýv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tvoj kríž sa dí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smelo môžem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dej, radosť dáv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práci požehn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drahší mi nad celý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0:59:38Z</dcterms:modified>
  <cp:revision>20</cp:revision>
  <dc:subject/>
  <dc:title>Je veľký náš Pán, on slávy je Kráľ Nech do všetkých strán  spev vrúcnych znie chvál.</dc:title>
</cp:coreProperties>
</file>