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804-06D1-43E0-B723-CBA21A47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BCA-CF33-46C7-BE64-C85E7A6D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BF0-971A-41EC-8876-3B5908BA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607-3284-4E96-BB8F-4054DB92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CD14-B1B4-40DE-8141-3FD36193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F62A-2877-431E-8782-A390EBDF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32D-E354-4F40-AF2C-FA03ED44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BD1-DF3D-4BFB-B501-D91A985F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917-BB4A-4F83-BABC-BE0D93BF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ABD-77BA-4218-8DB3-CFFA7DE7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7D5-1A7E-4C22-8F06-F0D9C078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BFE-52A2-490D-803D-79D2C4F1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30CA-8968-47C7-891F-C68A3FD292A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87 Náš chválospev nech zaz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Náš chválospev nech zaznie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na slávu Pánovi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že k nemu prístup máme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jak deti k Otcov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c nad všetkým on vlád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ečnú slávu m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 rád nás vypočuj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s láskou prijí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hriech a našu zlobu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yn Boží zomier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c prešiel bránou hrob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mocne zmŕtvychvs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l Pánom v sláve Otc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al ľudskú podob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bez reptania znáš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našu chudob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 ňom vždy máme spie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vzdávať jemu č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jeho meno vzýva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blížnych k nemu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vierou spásu vít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v Božej ochr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 pomoc pre boj žiti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d neho dost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vrúcne Pána chváľ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je čas milos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z velebiť ho mám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o večnej r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vyzná Spasiteľ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 ľuďmi na ze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n chválu jemu vďač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dá aj pred anjelmi.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8:02:01Z</dcterms:modified>
  <cp:revision>89</cp:revision>
  <dc:subject/>
  <dc:title>Je veľký náš Pán, on slávy je Kráľ Nech do všetkých strán  spev vrúcnych znie chvál.</dc:title>
</cp:coreProperties>
</file>