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C1D7-F9D5-4A1A-B21E-5ADDAFCF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3B6-3F6C-43C1-AF33-28E279B9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82A-3B9D-4FD8-99EB-E7283DD1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F72-4DED-45E2-BF2A-AB3BD1EC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3BE-443A-44A9-8E6F-7DC4A382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D9A-F692-4CEB-8AED-DF5D0239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F806-4D17-4F5B-BE93-E51E72C8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1C8-349F-4DAB-B6FB-C73AC923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706-2D5F-4059-B5E5-7BC19CF0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F14-8889-44EE-96C0-0D400C7F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E76-C931-473A-9F30-6E99A4EE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3BD-6B1C-47C0-A700-E6EF291B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FC62-9386-4FB6-9B00-237190B6A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6 Buď Pánu Bohu vďa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Pánu Bohu vďaka, č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i sláva na výsost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radostnú nám poslal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 svojej láskavost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v Kristovi sa prizn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ruku spásy pod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 večne vyvýšený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Ježiš Kristus, Boží Sy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mocný Vykup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z bahna hriechu, jarma ví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vyslobodiť priši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aša Obeť, Kňaz i Chr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Cesta, Pravda, Život 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večnú spásu má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uch Svätý, pravdy Učite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spoľahlivý Radc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v kríži pravý Tešite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ar zoslaný od Otc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 nami je vždy, v každý č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mocou svojou vedie ná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 slávy z poníženia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46:23Z</dcterms:modified>
  <cp:revision>19</cp:revision>
  <dc:subject/>
  <dc:title>Je veľký náš Pán, on slávy je Kráľ Nech do všetkých strán  spev vrúcnych znie chvál.</dc:title>
</cp:coreProperties>
</file>