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535B-BDE4-438C-8891-E4BA4AF39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31D3-969C-46D7-B974-B1F82C7E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2872-39CC-4765-ABFB-CB37DB4D9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DE59-8E6E-4529-9CE5-DAA21404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602E-7268-4CA1-BA55-A6A92C48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EF57-53C1-4CB2-A6C4-8B7D698B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97F6-D2BA-4AC1-BFE3-07AC08E3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0DF7-146B-4A97-8C25-CC6CA085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7ABE-245C-499F-8A89-8C01AC33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88D9-F6FD-4878-B294-B68358B0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C5D4-D8DC-49F3-B8F0-B039D99E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D6BA-8CA4-4865-BAD3-460A242F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141A-448B-45D1-96E4-AD0538CBC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4 Vzdávajme Pánu Bohu če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e sláviť Tvorcu svoj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ospevom radostný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elebovať lásku je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om vrúcnym, úprimný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dávajme Pánu Boh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esť a chvál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 jeho sláv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 nech počuj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lebme lásk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iu vernú, stál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rou nás hriešnych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siaľ milu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e sláviť Tvorcu svoj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ospevom radostný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elebovať lásku je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om vrúcnym, úprimný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dávajme Pánu Boh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esť a chvál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Kristovi z lás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lovekom sa stal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v srdci má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ďačnosť neskonal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viny naš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na seba vz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e sláviť Tvorcu svoj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ospevom radostný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elebovať lásku je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om vrúcnym, úprimný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dávajme Pánu Boh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esť a chvál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atrí mu úc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rstva všetkého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Kristovi nám da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ásy vekov Skal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áchrany iste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laha večné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5:04:31Z</dcterms:modified>
  <cp:revision>9</cp:revision>
  <dc:subject/>
  <dc:title>Je veľký náš Pán, on slávy je Kráľ Nech do všetkých strán  spev vrúcnych znie chvál.</dc:title>
</cp:coreProperties>
</file>