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D38-79DD-437A-9380-27826D73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F10-5001-4CB2-8C04-2BC1DB6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CC9-BCAA-4B2E-A560-01F1F2C3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F4D-B6D5-4073-8E8B-7BA5D411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0A3-AE1A-44B1-887F-DD4BD88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867-2CE1-47F0-B999-D891643A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D58-6A96-4090-B113-9D53BD2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96-BA47-4264-98CD-684B264A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D3A-8D40-47F4-97E1-3147935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641-4149-45C6-BE20-FB71231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706-260F-4A47-8578-16F744A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82F-7002-416F-8770-DD6FE91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FB6-3D55-4B57-9DE2-91F08300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8 Svätého Pís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a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ého Písma vzácna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, Spasiteľ;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e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zdáva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vál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česť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čný tvorstva cie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ásnou náde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hriechom zmáme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ocou slova lieči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draví ran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Láska slúžia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 novej j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nájde duša túžia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eskej priazne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ľuby svoje nez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 pevnú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radosť túžbu pre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 v sláve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2:48Z</dcterms:modified>
  <cp:revision>31</cp:revision>
  <dc:subject/>
  <dc:title>Je veľký náš Pán, on slávy je Kráľ Nech do všetkých strán  spev vrúcnych znie chvál.</dc:title>
</cp:coreProperties>
</file>