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4E9-B948-4ACE-9295-96881B85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5C0-256D-44CB-B5BB-E8B9A10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02B-15E0-41D9-A1AB-6B2D69F8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9BF-BF3C-4027-BD1A-20D160BB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8AA-13A1-4765-ACA8-05194F05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2BE-B48F-449F-AAA0-10FFF08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5B1-CB00-4A9A-9FB0-1C858D80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B0F-615C-4861-89FC-C8E5EBA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67D-D7EA-4F30-8AA8-19502320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A24-E86B-4839-B36F-6023B1E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858-FC47-4DA6-93B9-C364207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A68-AA73-4DCD-9F50-1C0992A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D907-1A2E-4EF6-9C82-D75E6DA6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1 Znej chválospev môj, z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chválospev môj, z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slávu môjho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ev naplň celú z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sajte nebes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uč piesne jasavý t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 z večera i z r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ľ Pána z všetkých sí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neba zostúp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chválospev ten z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v diaľne letí kra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y Božej lásky zv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očul už celý sve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nám z lásky prišiel Pá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spása jediná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nás sa slávy vz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kríž na seba vz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ebe, Pane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j ľud vždy vďaku vzdáv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z hriechu otroct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si nás vykúp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z lásky navrát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dcér a synov práv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ádej novú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hoden našich chvá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54:42Z</dcterms:modified>
  <cp:revision>24</cp:revision>
  <dc:subject/>
  <dc:title>Je veľký náš Pán, on slávy je Kráľ Nech do všetkých strán  spev vrúcnych znie chvál.</dc:title>
</cp:coreProperties>
</file>