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642-15DD-48F5-B16F-792F005A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423-BECA-4CF5-9600-B9E57566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084-F8F5-4C3B-8DF5-61CE627A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AF3-3337-466E-AE37-9F692EEC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7D0-56E9-4250-8A54-D7F849EC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70E-65A3-42FF-8FBF-142B72F9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DBC-E97E-4B1C-86E7-41CC0217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E53-3009-4E5A-8980-DC99E79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688-470F-49E3-A86B-6A9D8977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FD2-BFA3-4F8D-A3A2-B9301462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31D-8823-45F7-A3B2-19CDF2D9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68F-BF10-41A9-A4D7-CA525F0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6B9F-44B6-48A5-872F-8E0A649E305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6 Ako harfy zvučné tó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arfy zvučné tón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by chválospev náš zne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mu, ktorý v nebi tró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ad nami verne b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eťou je vrúcnej vďak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ša ranná modlit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eď slnko zastrú mrak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a letí do ne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ám s novým svetlom rá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vá milosť svitla z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ým srdcom chváľme Pá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e vykupujme ča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18:45Z</dcterms:modified>
  <cp:revision>69</cp:revision>
  <dc:subject/>
  <dc:title>Je veľký náš Pán, on slávy je Kráľ Nech do všetkých strán  spev vrúcnych znie chvál.</dc:title>
</cp:coreProperties>
</file>