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568-B0DA-47A1-9A5D-92B72CD8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E156-9810-40DA-9AD4-4A0074FD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4426-4DB5-45DE-81C4-146DAD57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75B-3B62-486C-A079-AC9973CE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06A-54AA-4003-80DB-67F16A80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20A-36FB-45C5-B647-EA3D3FAD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BAC8-08F4-443F-8BC6-0511B362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2E19-082C-42A0-9173-8322FD2A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647-B728-4CB5-A3C9-3571F595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D19-7472-4832-846E-B47C1408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26E-E138-427D-9C2D-DADAF266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651E-2026-4545-BD7F-1EA0F2E1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8637-8877-4EFA-8183-4994282A8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61 Zaspievajme radostn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spievajme radostn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eň vďačnej chvá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Pán Boh je doposia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milosti k nám stá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ovým vzkriesen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bavil nás pút hrob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to vďačne spiev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ajme chválu Boh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istus spútal hriechu m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radby zloby lá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vetle kríža z Golgot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čný život má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ť, tvoj osteň, kdeže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tvoj triumf istý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platil dlh Baránok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vinný a čist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covi patrí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leba a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zásluh nám hriešnik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čnú spásu d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dar toľkej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rúcnu vďaku vzdajm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 je náš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ývajme ho, chváľm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1:23:30Z</dcterms:modified>
  <cp:revision>34</cp:revision>
  <dc:subject/>
  <dc:title>Je veľký náš Pán, on slávy je Kráľ Nech do všetkých strán  spev vrúcnych znie chvál.</dc:title>
</cp:coreProperties>
</file>