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6E7-A7BC-42E5-AB85-2C4D0B4A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96A-DA88-4E60-97CE-6E7B540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9D9-7C4D-4843-BACF-3B0348E3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DD5-1971-4AF0-93A3-57E2C616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020-86AC-420C-8C0C-C2541B64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5A8-BA0B-48C7-9740-A057BAED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7BE-532F-4E1C-A5B5-1AC27995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0FA-7EB8-400B-801B-936F769C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4D4-9C9D-458E-A35C-FE6C6AC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F1E-0286-4FD5-BD36-86E8270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F02-25B6-491A-A338-306E2B33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47B-EB82-4CF4-92D5-6A008F4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8700-2B9C-4765-A07C-63B04F3CB18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6 Chcem navždy tvojím by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lávu tvoju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ať v tebe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ieť tvoju tvá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j spásonosný svi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vzácny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o mnou bu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rán sa tvojich skr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ich spoči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a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navždy tvojí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teba ni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teba nechcem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i môj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chcem vždy zos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e skúšok ob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zmocni slabú vier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a m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22:37Z</dcterms:modified>
  <cp:revision>19</cp:revision>
  <dc:subject/>
  <dc:title>Je veľký náš Pán, on slávy je Kráľ Nech do všetkých strán  spev vrúcnych znie chvál.</dc:title>
</cp:coreProperties>
</file>