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18B-FF23-4642-83CC-12F70A79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C9F-1F57-4ADC-B533-53B0695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7F7-A983-4378-A99C-348C90EE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A2C-B626-4FB4-853F-B8DC2046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7EF-2769-431E-8077-160FEE5C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9C-7C61-4958-B3AA-C17E1F2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B4F-B286-4696-960E-8CA1FB3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0E1-42BD-4242-9BE0-F077865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515-4A5C-4BA4-934A-07B18A7B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0C0-84FE-4A96-9625-BD8051D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216-3A4E-478F-882F-CB55A6C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EB0-C94D-4C96-A7C7-59B7BD4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8C8-3105-4C76-9DC1-726F6053DF0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2 Poznáš počet hviez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znáš počet hviezd, čo sviet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je tichá jasná noc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ré z prenesmiernej diaľk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vestujú nám Božiu mo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smír celý Pán Boh stvor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u múdrosť sám doň vloži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siaľ tvoriť neprest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 Tvorca, nebies Kráľ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ieš, koľko živých tvorov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ta ráno slnka j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oľko hlasov Pána chvá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ým dychom zas a z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voriteľ náš milostivý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nad nimi, všetky živ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de jasot, samý ple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včera, tak aj d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vieš, z koľkých detských úst z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ieseň chvály vesel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oľko detí každé rán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ku k nebu vysi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im zdravie, silu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 ich a požehn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aj teba má on rá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čnú radosť chce ti dať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09:12:52Z</dcterms:modified>
  <cp:revision>83</cp:revision>
  <dc:subject/>
  <dc:title>Je veľký náš Pán, on slávy je Kráľ Nech do všetkých strán  spev vrúcnych znie chvál.</dc:title>
</cp:coreProperties>
</file>