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77A3-9030-4BA6-BC4D-AC5E1DB2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7F6F-C3DB-41BC-97A2-6148BA4B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6219-F88C-4B9F-A638-95FE5F02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9CCA-9891-4BE8-AADE-3A9AB1F0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7F43-3E9C-484E-A8CB-F764E8B7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92F1-21CD-4341-BE69-BF8A4E91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5779-5710-4810-B56D-1483DFC5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48A1-E449-437D-B1F9-D1D09149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F099-8C2F-449F-AEF5-4D4B102B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1538-D625-4961-B922-57BBB30F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7915-E538-4F3C-A5FF-933069C1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D094-3C45-4F35-BBFA-DFAF1C1D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031F-823F-46CE-82BE-CE8EBB101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77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lm chvály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alm chvály ne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 vrúcnych sŕdc Pánovi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ď ľud jeho opäť sa zhromaždiť sm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j dnes požehna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n sám chce nám d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íl zo zdroja vôd živý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á načerpa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e vzácny ten Božie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koja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výhľad nám nehalí starostí ti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 s láskou nás k sebe zve z únavných cies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o prístavu pokoja chce všetkých vies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nes môžeme v zábleskoch poznávať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az plného poznan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žiari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u hriech nieti v nás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mnohú úzkosť a sto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am víťazných piesní len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znieť bude tón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o príbytkov sláv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Pán kraľ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viery zrak s dôverou preniknúť sm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az žiaľ každý stíchne i bolestný vzdy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príde Pán v slá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ých krás nebeských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7:39:08Z</dcterms:modified>
  <cp:revision>22</cp:revision>
  <dc:subject/>
  <dc:title>Je veľký náš Pán, on slávy je Kráľ Nech do všetkých strán  spev vrúcnych znie chvál.</dc:title>
</cp:coreProperties>
</file>