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6E76-F4D5-4C69-8B07-7DFD654E4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CE96-6D8C-4DE4-B46F-4909D7924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4B7F-AF17-445B-8508-62F36E5CF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1D5E-FE0C-4701-BAA5-5970520EF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A73E-EA54-4323-8D0F-AA6BF11E7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CF0F-8AD1-4323-8A81-B59899DBB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7573-6885-4730-981A-36BDBFC6F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C219-063A-4D4E-9ADD-F667ECBD7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6406-7D32-4D54-A37E-B9973CF02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126C-3929-4BC8-A6E6-AF262C2E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8300-E7CC-44F2-A689-BECA0FF6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0936-2FF5-4B24-B466-B2A28E10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8009B-82B7-4DF4-8BC9-5900C3866F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76 K tebe, Pane, na výsost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 tebe, Pane, na výsost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hľad viery upiera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lebo ty ma v každej strast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tešíš, keď zomdlievam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áskou svojou usmern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priek zloby nástrah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estou spásy vedieš k cieľ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ých, čo v teba dúfajú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čo v boji nádej smelú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tvojho Slova čerpajú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ám ich pred zlom ochráni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, keď k tebe volajú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hoc by sa aj zem chvel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et sa rúcal odvek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sa svojho spásy diel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vzdáš, Pane, navek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Izraela ty si strá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že mocný, preveľký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môž, Pane, obstáť v boj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víťazstva slávneh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áska tvoja o nás stoj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áme strážcu vernéh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, čo sľúbiš, splníš rád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dľa slova daného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14T16:27:19Z</dcterms:modified>
  <cp:revision>20</cp:revision>
  <dc:subject/>
  <dc:title>Je veľký náš Pán, on slávy je Kráľ Nech do všetkých strán  spev vrúcnych znie chvál.</dc:title>
</cp:coreProperties>
</file>