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9883-3642-4CC6-8772-BC564ABCA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DA40-DF90-47F5-AB2C-2A5E47A8C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638F-4D4D-4C33-A0E4-76C104D8C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0929-5066-454A-8677-19DB59D03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7F31-7FC9-4831-879C-82849BE66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E139-A5A0-42BE-A98E-2B05985C4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76F7-230B-4F32-9BA4-5C8719A3B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1925-B20A-4E28-92A9-D45E2DE2D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FD87-4501-494A-84DD-3E7BB45B5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9575-8A8E-4C30-BFD7-99E745A14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DCD1-611D-4261-947E-A615E9A73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E935-59EA-45F5-8290-6850CA4F3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F9995-57C6-4596-8721-28CE86A94A81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380 Pán Boh je lásk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án Boh je láska svätá a stála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án Boh je lásk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 on nás má rá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Chváľme ho radostne!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án Boh je lásk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án Boh je lásk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on nás má rá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Z nesmiernej lásky 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dal Syna svojho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tú veľkú obeť kto pochopí?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Chváľme ho radostne!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án Boh je lásk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án Boh je lásk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on nás má rá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On zve nás k sebe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milosť nám núk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 trápení dáva Tešiteľ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Chváľme ho radostne!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án Boh je lásk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án Boh je lásk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on nás má rá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o celý život 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erne mu slúžme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jeho menu vzdávajme česť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Chváľme ho radostne!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án Boh je lásk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án Boh je lásk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on nás má rád. 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Stano Slamka</cp:lastModifiedBy>
  <dcterms:modified xsi:type="dcterms:W3CDTF">2007-08-28T08:55:10Z</dcterms:modified>
  <cp:revision>81</cp:revision>
  <dc:subject/>
  <dc:title>Je veľký náš Pán, on slávy je Kráľ Nech do všetkých strán  spev vrúcnych znie chvál.</dc:title>
</cp:coreProperties>
</file>