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0B7-1865-4369-B187-86F2E139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0FF-B687-499F-BFDA-7B20BBD6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B72-6620-4EAA-91B4-57F2E510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977-B80C-455B-ABED-40ADC945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B2D-8C06-43E4-8F5B-D45FE0B4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836-D532-4682-971B-45F269F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15B-D252-4B72-8DF7-A53BA4F9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9EE-B049-4EE5-B468-FABFF4F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375-C4C8-456B-B211-4CA294AA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6FC-5428-4130-A09F-4EF1B88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C33-9CCA-459B-95FC-9A712D1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3BE-4C82-4F2C-8597-9B79AF0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938A-3BF4-4A3F-8F03-606819528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7 Náš Boh je 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stva Kr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j chvále pripo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me Pán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pája v jed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atský kru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jedna viera jeden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je 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stva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 celým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chvá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patrí všetka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života dar, spásy zv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šade chválospe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hriešnik získ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ier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človekom sa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ráva Božích detí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tála Bohu chvál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otvorí náš zrak i slu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ožie slovo Svätý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Duchom svoj ľu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uduje si v nás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3:54Z</dcterms:modified>
  <cp:revision>29</cp:revision>
  <dc:subject/>
  <dc:title>Je veľký náš Pán, on slávy je Kráľ Nech do všetkých strán  spev vrúcnych znie chvál.</dc:title>
</cp:coreProperties>
</file>