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867-49AA-43FB-AE4E-8F5AEA11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521-C59B-4F17-855E-3CC74E76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7D6-B45E-4DEB-B217-12D02E07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6E9-E01B-4411-95EF-14ABC318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352-03F3-4A06-A7DB-D0CA4727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37A-01DE-48F5-8858-AECEB3EC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77B-EE26-4A5B-87D4-180F6779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15C4-6DEA-457C-B11D-7DA052D6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E432-3175-4972-BAC4-928452DD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CF46-D579-47B8-A295-E3EDA23C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DE70-9AC0-4D6E-A255-4E7B8D81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EAD-B7BE-466B-BA88-F88E6FFE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CBBC-2CF2-4A94-BBB1-F98F71B8C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88 Posvät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obotný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svätiť deň sobot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ikázal nám Hospodi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ď on sám ho oddel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žehnal a posväti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i ja prácu odklad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ô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u v úcte mám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icho vôkol, svätý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znieva k nám Pánov hlas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šetci, čo ste znav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íďte, ja vás občerství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odu živú chcem vám d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annu z neba darova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žne volá Boží Syn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klesaj pod ťarchou vín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ojou krvou máš i t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aždý svoj hriech obmyt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mnou poď, ja dať ti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 domov, novú z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Príď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r>
              <a:rPr b="1" lang="en-US" sz="3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Duch</a:t>
            </a:r>
            <a:r>
              <a:rPr b="1" lang="en-US" sz="38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vätý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r>
              <a:rPr b="1" lang="en-US" sz="38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o</a:t>
            </a:r>
            <a:r>
              <a:rPr b="1" lang="en-US" sz="38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mnou</a:t>
            </a:r>
            <a:r>
              <a:rPr b="1" lang="en-US" sz="38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b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uď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br>
              <a:rPr sz="44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áskou naplň srdce, hru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ou mocou pri mne st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rnosť daj i pokoj svo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raz môžem, kde si t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 sláv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oboty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8:16:41Z</dcterms:modified>
  <cp:revision>22</cp:revision>
  <dc:subject/>
  <dc:title>Je veľký náš Pán, on slávy je Kráľ Nech do všetkých strán  spev vrúcnych znie chvál.</dc:title>
</cp:coreProperties>
</file>