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C54-7925-4DE5-A801-57F8116D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604-D2E5-4473-8A84-6672D2C6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A75-6ED8-40D4-82C9-AE4095EF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2E5-8CE8-4C48-B9B0-88363DFE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78B-FCA6-4085-9DC0-D67E96A3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370-6DA4-40D1-849C-E3635E4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C2F-0F79-4AC1-BFA6-0C7AD2F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F4B-C023-4A5A-AA42-3D5890B6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E8E-2945-48A8-B821-EE1ADCD8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BC1-0A79-458F-91D1-F354B5F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E3B-5113-46CB-9204-D85E639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2AE-3836-4660-96D3-A859D985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1D6E-A66A-4596-AA2E-E14549DE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8 Náš Bože sláv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Bože sláv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mocný náš Kráľ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ráhy si hviezda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kvostným vymer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gavým les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esť ti vzdá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kazy vôle tvojej spĺň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dávnych čia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ľud svoj viedol sá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ľavou púš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diaľnym končin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dlivým strážc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osiaľ si aj n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vo stá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s moc tvoja chráň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ba chce oheň skaz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nás zv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rákavou prikry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hasnúť svetlo hviez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er, Pane, vrá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lom vládu hriechu v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útrapy mierni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ď do ríše krá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súžení vier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ebe kotviť m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i spása naša jediná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u, čo dávaš dos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u zna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, Pane, pomô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e zvestovať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8:36Z</dcterms:modified>
  <cp:revision>21</cp:revision>
  <dc:subject/>
  <dc:title>Je veľký náš Pán, on slávy je Kráľ Nech do všetkých strán  spev vrúcnych znie chvál.</dc:title>
</cp:coreProperties>
</file>