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434-D071-4A13-9140-5361008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DC8-EA49-495E-BF19-F71C01D9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BD3-23CD-46F8-8CA8-CDA3D5A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7E6-9B02-4591-BBDA-672562D3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DEE-B74C-45FF-83BD-C55BC95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707-D6AF-4686-9DE5-ABC70BD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C1A-4F83-4E9D-9096-541476A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449-AE75-41E4-9049-B40C38E4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F24-95DC-4BC2-95BD-3FD35A1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8E5-1736-4C85-A2B6-94864C1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12C-20A1-4E77-A396-D65C623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AC3-F42B-484D-A463-F103CA9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1855-B045-444B-BE14-DA6A3C47F9B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4 Čas rýchlym svojím tok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as rýchlym svojím tok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i odnáš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d ďaľším starým rokom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a tieň vznáš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nes chceme vrúcnou vďa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dať Bohu č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láskavou vždy ruko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čil si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n svoje štedré dla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ád otváral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dary každodenn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rozd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bolesť, žiaľ či ties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iek pre nás m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 srdca novú pieseň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nádej vl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uj naše chvályvzd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i prosieb hlas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aj, Pane, po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ám v každý č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na prahu sme rok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s nového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voj ľud na každom kroku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ráň od zlého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9:00:33Z</dcterms:modified>
  <cp:revision>96</cp:revision>
  <dc:subject/>
  <dc:title>Je veľký náš Pán, on slávy je Kráľ Nech do všetkých strán  spev vrúcnych znie chvál.</dc:title>
</cp:coreProperties>
</file>