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A87-31D9-4AAA-8858-2DB74CDE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2729-DC34-4D52-BB4B-601E4C49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D06-258B-4F51-B827-A743E827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6B4-D31B-4BD3-9392-07459068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A65-7618-4382-8F5C-C7394D0F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E0C-188D-40B1-B8C9-C022FB46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E7E-7DF3-42AD-8FF2-AA0EEECE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937-372D-4E60-8916-5089999B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AB1-EE73-4640-9B67-0481DCF7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1D9-7CE0-4168-99ED-4C6F40CE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5F5-E67F-42FD-AF0B-96061234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31B-CE42-4C1A-9A19-0A91C693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5B3C-6082-4B14-B017-9794DE7FF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9 Chcem spievať svojmu Pánov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spievať svojmu Pánov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rúcne piesne chvá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ma našiel, oslov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okoj svoj mi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jemu život zasvät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dnes už dobre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k mnoho za mňa zaplat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ň nádejať sa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chváliť Pána Ježiš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o ňom šíriť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jemu patrí najvyšši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, vďaka, chvála,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 jeho vzácna, nevin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ečnej spásy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ravda, Cesta jedi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áchranca je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Spasiteľa veleb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áviť v 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ako zbory na neb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znovu, zas a z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všetkých, čo ho milu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útočište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tým, čo v ňom sa radu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veniec slávy d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7:17:11Z</dcterms:modified>
  <cp:revision>20</cp:revision>
  <dc:subject/>
  <dc:title>Je veľký náš Pán, on slávy je Kráľ Nech do všetkých strán  spev vrúcnych znie chvál.</dc:title>
</cp:coreProperties>
</file>