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995-A864-45DB-98E1-3F6DE3E3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250-6AB3-4E59-956F-EB238556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2C2-6F21-493E-9A5E-09F57650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C92-6A51-42C5-A60E-6ADC2E8D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EB4-91E1-4D77-B62C-DDACD1E6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EC1-1AF9-42A8-92C8-700A16D5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603-6DB0-4BFD-8DC2-C3C5875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EEC-8E10-4D5A-9A0A-38959298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1FA-4ABE-4E1E-A185-CED6A5EB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D00-1959-470B-BC82-54C2D28F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CFF-875A-42E9-818C-C2DFDAE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6FB-6110-4511-97B5-1CA2B42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FF06-1387-4F4C-8F22-AC4259C67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9 Chcem len tvojím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len tvojím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e tvojí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čistý, svä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ty chce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u ráč ma zba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archy jeho pú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iba v t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 spočinú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e,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e patriť chc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oji viery s teb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pečný byť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pevná ska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kryt ist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rúcne k tebe ľnúť chc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šou dieťať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o sveta tmá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ieľu kráčam sm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desí ma st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veľkou 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ma sprevádz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 že v dome Ot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mňa miesto má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05:27:22Z</dcterms:modified>
  <cp:revision>20</cp:revision>
  <dc:subject/>
  <dc:title>Je veľký náš Pán, on slávy je Kráľ Nech do všetkých strán  spev vrúcnych znie chvál.</dc:title>
</cp:coreProperties>
</file>