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A6E-C277-4D58-87D9-CCF18A2B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DF4-4A6F-40B9-8303-31C2B243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A46-E60F-4889-9608-9B053AF6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213-564A-4F93-BF06-81A583C2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751-EFDC-4A3B-9B16-3E24440D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179-E0CB-4065-98A4-3DCF7D10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1B0-151E-4DEF-AF5C-FAD171E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9EE-30A5-4842-913E-1263D4EA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F8B-EE4A-4C6C-9BF1-50A6DC7D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40B-2CAE-437E-826A-CFFA4F7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818-9810-4D45-9715-FBF17BA5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80A-0CF6-4619-A7B6-1809B14E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BDC1-5663-4FC7-BDB7-7E7E2B0EB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1 Bože náš, kde ten oheň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 náš, kde ten oheň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 tvojich verných horiev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re dar pravdy presvät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jeden z nich mrieť neváh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je ten duch, čo vyzbroj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raháma tou dôver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ľudu tvojmu všetkých či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zorom viery, oporou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je duch vďaky úprimn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ým ti Dávid piesne hr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lásky, čo h nauč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tebe, Bože, prednosť d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je duch, ktorým Eliá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Bálom slávne zvíťaz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jžiš tvár tvoju vidieť sm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ób ťažkú skúšku podstúpi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páľ aj v nás ten viery plam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pomôž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nám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verne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pravde</a:t>
            </a: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stáť</a:t>
            </a:r>
            <a:br>
              <a:rPr sz="47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o sŕdc tebe oddaných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ráč hojnosť svojho ducha vliať.</a:t>
            </a:r>
            <a:br>
              <a:rPr sz="47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9:51:56Z</dcterms:modified>
  <cp:revision>20</cp:revision>
  <dc:subject/>
  <dc:title>Je veľký náš Pán, on slávy je Kráľ Nech do všetkých strán  spev vrúcnych znie chvál.</dc:title>
</cp:coreProperties>
</file>