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240-A55A-48B1-BBB7-E95867B7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8E76-AB15-4257-B911-E1C6A7D3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5BC-D62C-4D8E-8A1A-9595D927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223-2E56-4EC8-8D38-9E331D2E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C76-D902-47AB-9F88-71CE2DEF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EDE-E3AF-4F79-BE9B-7BEACA6F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397-DD01-4A4F-B43B-9FCDCEDC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793-2769-49FB-8DF9-53842952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FCF-3983-4F33-8EBF-2DC370B2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8AC-3D82-4822-8914-2C2F9CF6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81C-AD5C-4AF6-9E1B-E4E6779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16D-7640-4F66-848B-513ABA21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FE00-7ABC-447C-A2E5-509AEEA2C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0 Svoju lásku dávam te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u lásku dávam t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jedi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pustil si slávu nebie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el za mňa nevin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ôj priateľ najvernej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nie som nikdy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vo chvíľach najtemnejší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boku vždy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rád všetky deti t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teba milu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dajú vždy pravdy zdr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ečnej vlasti putu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eď smiem k ich chválospe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ja svoj hlas pripoj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tedy pre mňa v svete ce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ôže nič milšie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mu menu dobroreč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ždy vrúcne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 láske tvojej svedč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 hlásať návrat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je blízky ten deň sláv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k tebe privini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večne teba slá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tvoju chváliť smi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0:27:34Z</dcterms:modified>
  <cp:revision>20</cp:revision>
  <dc:subject/>
  <dc:title>Je veľký náš Pán, on slávy je Kráľ Nech do všetkých strán  spev vrúcnych znie chvál.</dc:title>
</cp:coreProperties>
</file>