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BF3-CD71-4DC4-B2C1-9017418D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87E-399D-4E2F-9EE2-B69516EC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B931-1F7B-4E39-995B-76236B4B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4A4-DED9-4891-99F6-2010216A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5CD-180A-4EAC-B9D0-73AD4297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47C-0688-4B8D-B400-FA543089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7EC-64A2-4173-8AC2-5C442744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178-319B-4DA4-9447-60EC3FD8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A7D-7D28-4562-8A6E-97DE3EE4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E64-7062-4E0F-A753-ADA7ED10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E6F-3CBA-4C97-93A0-839FDF27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C219-CDBA-4B3F-86C5-F3A56E8C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BAB7-9A7A-4742-89DA-665CCC26AEF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4 Deň v službe Spasiteľ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vzácna prednosť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požehnaný čas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si ju cení a sám odm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v sláve príde ra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, Pane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ť vďačný sluha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vzácna prednosť j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vzácna prednosť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ieť radostnú zve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spasení niesť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výzva Božia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ú službu sám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žehná nebies Pán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vzácna prednosť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skúškou vernosti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h príklad sám d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yna poslal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nám na svet z milost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verný je a verný zost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vzácna prednosť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v služb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iv Božej lásky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slúžiť verne a neochvej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láska z neba v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u aj náš Pán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verne slúžil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7:02:10Z</dcterms:modified>
  <cp:revision>48</cp:revision>
  <dc:subject/>
  <dc:title>Je veľký náš Pán, on slávy je Kráľ Nech do všetkých strán  spev vrúcnych znie chvál.</dc:title>
</cp:coreProperties>
</file>