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AC3-EF7A-4559-818C-CFCFDEC0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07B-D1D6-464C-BA2B-49464738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CD1-1614-49DE-A9E8-4AB1769B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F38-B3C1-4250-B46B-BB2CF8AB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A42-662C-4BAA-9368-719F960B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92A-C057-4FC5-8976-2BE48398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A2E-0CE3-4FD1-97C2-7CEC60B8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C14-341B-43AE-9F11-9B29DEC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F69-3DE5-4057-A4DD-84788EBD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3C0-2362-43F5-8CC6-8C760DF4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D10-27BC-4D39-A2E2-A3E7A2B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280-F1FB-4872-A88F-9E904F2E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C812-86E8-4B78-AD07-2C059C88EC4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7 Má Pán Ježiš, má mňa rá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ateľom on detí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všetkými s láskou bdi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mňa má, to dobre vi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ôže, keď ochorie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Lekár láskav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skoro ma uzdrav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mňa má, je Pastier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 mňa nespustí zrak svoj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mu verný zostan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ý život dostan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Pán Ježiš, má mňa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Písme svätom dal to znať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42:01Z</dcterms:modified>
  <cp:revision>79</cp:revision>
  <dc:subject/>
  <dc:title>Je veľký náš Pán, on slávy je Kráľ Nech do všetkých strán  spev vrúcnych znie chvál.</dc:title>
</cp:coreProperties>
</file>