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F64-3694-4F9C-B48E-D0EA7B83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C74C-07B9-479E-9FDF-A7EC5F00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3325-35D9-46A6-BEEC-AFB557FD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D803-4AFE-46E7-92E8-C1DA0013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C481-8938-44D2-BB30-A535DDFC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5571-419F-49E8-B4F4-937A8307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F909-7970-494F-8378-3219DF9A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C515-49EF-4E8C-9273-89ED92E3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9E0C-2E8C-4A3D-A208-CADD1F54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BF56-AC79-4CBC-A7D5-4A45E721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8CFF-FB89-43CB-9AD1-D0359B6E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4380-0CFB-4E09-B622-ADD768B7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59D7-61EC-431C-94F1-B6C01EE3F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01 Sýť Slovom živo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ýť Slovom života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,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s milostivo ráč sa sklon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 stránok Knihy kní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ýcha tvoj Du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č otvoriť aj dne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zrak i slu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lieb Slova požehn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ím obživ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každý skromný dar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rozmnož z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blížnych nás uč s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e ž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každý vďač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 ťa veleb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m chlebom sýte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ísť chceme vpre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tvojej lásky dar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zná sv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pomôž vytr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siahnuť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ť s tebou večne ž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Spasite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07:13:55Z</dcterms:modified>
  <cp:revision>20</cp:revision>
  <dc:subject/>
  <dc:title>Je veľký náš Pán, on slávy je Kráľ Nech do všetkých strán  spev vrúcnych znie chvál.</dc:title>
</cp:coreProperties>
</file>