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E8B-4BE9-4FA7-9A4C-DCFBD15D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28C-68B4-464E-80A2-9F2CD8D6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E28-14A0-4445-9FC2-EEBC6CBD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B9F-F8AA-40A1-8B41-F60A4919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830-A9B2-4E83-BC45-6BC41AB8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4A2-5219-43D3-85F4-EF940B4F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76C-6A8E-40E0-B877-A7CD244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25E-3BC6-441F-A45E-3BC5107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CD9-63F6-4F3B-9C35-3C50E873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C05-E294-4ED6-9999-5246FE5F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180-7DCC-46D1-A54B-F4C68D63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FC4-DBDE-448E-AE2E-BE3D8E4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0189-87BD-462C-B8C0-F990A72DE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7 Otcovia dávni vede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tcovia dávni vede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Božiu pravdu trpieť, mrie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Ich viery slávna ozvena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chc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aj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ás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cestou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pás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ies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viera otcov, svieť a ve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jasným svet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c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pred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tváre smrti hľade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žalároch mreli stýra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o vierou zreli spásy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 blízkom snili svita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viera otcov, svieť a ve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jasným svet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c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pred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, viera otcov, vzácny skvos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ásy zvesť hlásať pom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lebiť chceme Božiu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edectvu nášmu moci 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viera otcov, svieť a veď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jasným svet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c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pre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27:26Z</dcterms:modified>
  <cp:revision>23</cp:revision>
  <dc:subject/>
  <dc:title>Je veľký náš Pán, on slávy je Kráľ Nech do všetkých strán  spev vrúcnych znie chvál.</dc:title>
</cp:coreProperties>
</file>