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675-462D-43CD-963F-7FD4D2C3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A84-882D-4DCA-B8E2-C915D96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93B-8F40-4BD4-A85C-7503E51D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DB7-FEB5-4360-95B7-96550816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636-862A-423E-8A45-D52E172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B74-5285-4931-B732-6836519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BB0-2207-43CD-8EDE-306C34C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999-FFEC-41AB-B5F1-001B94F5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776-7E22-4374-863A-C73C6AA7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794-0949-437C-9AC8-1E73649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92A-EA17-4ABB-85EB-F5F7C10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1C2-E459-44FE-9859-47FD952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9B4-5353-4566-B258-2E4AC22E2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1 Do sveta bôľu, žalost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bôľu, žal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enia bez ci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poslal z veľk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ym Spas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ykupiteľ, Boh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liek na rany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jeho krvi spásu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zjaviť láska 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všetka bolesť stíchne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é zdravie žia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navždy zotrie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še slzy z tvá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ádej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a k cieľu spas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zjav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29:33Z</dcterms:modified>
  <cp:revision>31</cp:revision>
  <dc:subject/>
  <dc:title>Je veľký náš Pán, on slávy je Kráľ Nech do všetkých strán  spev vrúcnych znie chvál.</dc:title>
</cp:coreProperties>
</file>