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22AE-4D3E-4C96-A25E-74AAEF01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1E46-6E81-4AF3-A76C-7234E085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25C8-7E86-4242-8CAF-664E5675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12D4-EA19-4E34-9E05-A1C79ACF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D0D8-FBFD-40EF-8FE4-1743952F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92F0-44AD-437E-AE6C-45A4B842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5828-E18E-41F5-8011-A7BA9BEF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3814-5AB8-46AB-A1E6-B8C1C65F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612C-47D6-4C3C-BC6A-EE87020D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CE84-1769-4FD5-915F-FAB4BB5C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D9D3-ACA4-4F8D-9B26-BABDDE7B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FBCB-7030-4C2D-AF4E-7D39B859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0787-E098-4508-97D2-43D7FA18D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69 S Ježišom život má zmysel a cie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jivý liek on m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aždý ž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všetkých útrapá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 mne vždy stá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stotne do cieľ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ôjdem raz, v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slušnou láskou vžd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ním ísť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čo deň z 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smiem ž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každej úzk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ňho sa skry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ým žijem, deň čo d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 môj sv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rnosť je všetk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, kde jeho ni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remeno mojich ví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esol môj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a cestou m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revádza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blaženej slá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 večne žiť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sa mu deň čo d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odovz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čo deň z 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smiem ž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každej úzk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ňho sa skry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ým žijem, deň čo d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 môj sv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rnosť je všetk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, kde jeho niet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Ježišom život m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mysel a cie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čo iné dúfať b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lovek tu chce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lebnosť pokor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kto zr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chce mať živ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čného di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čo deň z 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smiem ž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každej úzk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ňho sa skry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ým žijem, deň čo d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 môj sv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rnosť je všetk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, kde jeho ni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tiesne živ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las jeho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búrku zúrivú utíšiť v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premenách čas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álicou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ozivý príboj zmien zastav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čo deň z 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smiem ž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každej úzk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ňho sa skry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ým žijem, deň čo d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 môj sv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rnosť je všetk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, kde jeho ni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2T19:48:21Z</dcterms:modified>
  <cp:revision>21</cp:revision>
  <dc:subject/>
  <dc:title>Je veľký náš Pán, on slávy je Kráľ Nech do všetkých strán  spev vrúcnych znie chvál.</dc:title>
</cp:coreProperties>
</file>