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AD5-F992-4309-B3BB-CDC57230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FF1-570D-4693-884E-36B98D6D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4DE-71D6-4F1C-B212-83E4858C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EC3-24CF-4BBA-8956-4D299DBB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F12-A0D3-4B25-8825-B9B14D99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6B4-3369-47D5-B7AA-D98E1457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E22-84A0-49FE-BC77-5500A666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126-7E7F-487C-8D8A-A567146B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B16-F508-417B-909F-0F44354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7AC-46CE-41C7-9E8D-AFFEC1EF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1AF-912F-44CD-AE4D-F79C8ED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794-5298-4A36-A4CD-05639A32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A65A-0C10-4A4E-A8CC-15531FB26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0 Či svojho bra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ážcom s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Tebou, Pane, k blížn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ť lásky môžem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ám síl sviežich skleslé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ochotný vždy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vzácny príklad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vnáša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tvoje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 jedno spáj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vojho brata stráž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iateľom vždy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d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v láske, svor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, Pane, silu na 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odvahu mi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rne blížnym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m pomáh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vojho brata strážcom s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ujem oň má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blížnemu vždy príkla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v láske nažíva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úzkosti a bô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zmieta sám a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inu na tom ne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álo oňho dbá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vojho brata stráž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iateľom vždy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d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v láske, svor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, Pane, silu na 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odvahu mi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rne blížnym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m pomá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ducha zmáha úna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trácam silu bdieť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eď úzkosť z nástrah tiesni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eľ v diaľke nevidie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Strážca najvernej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blízko pri mne 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viere mojej stál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novú vzb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vojho brata stráž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priateľom vždy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d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v láske, svor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, Pane, silu na 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odvahu mi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rne blížnym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m pomá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20:39:59Z</dcterms:modified>
  <cp:revision>20</cp:revision>
  <dc:subject/>
  <dc:title>Je veľký náš Pán, on slávy je Kráľ Nech do všetkých strán  spev vrúcnych znie chvál.</dc:title>
</cp:coreProperties>
</file>