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85A8-5B5A-41D4-9568-2478A35A7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6040-85A4-4ECF-804E-5D3428FF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A378-26E3-440C-A684-33F58437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1701-5AA5-4B9A-82F2-A6DDE896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A73A-8A9B-4485-BA17-0F8330EF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14D1-A025-4268-91DC-CA3718F7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006E-C9D7-4092-950D-5D2D2FDB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029B-D52B-4972-94B8-E8EDDE45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74F3-6DD4-4D95-842F-F0F3ED28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A28D-428A-4CCE-9CBE-FC42C9D8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2684-7EAD-4B87-877F-6D5D8856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6D6C-0302-4CA2-9593-01224006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4600-30A0-4629-9AE7-3AD457D44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75 Naše srdcia rado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napl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uj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še srdcia rado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plňuje dne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ieseň vrúcna let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 vďakou do nebi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elý vesmír sláv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ojho Tvorcu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j my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mu vzdaj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 jeho svätý d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ie len hudby tón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ni spevu hl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le Láska večn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 Bohu vedie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lova spásnej pravd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očuť chceme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 tomto dome B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 svätý Pánov d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je Božou láskou zjednotený ľu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án mu dá čo sľúbil: požehnania prú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lnosť Ducha svoj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iek na bole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pravý odp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nok raz vo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osti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7:26:17Z</dcterms:modified>
  <cp:revision>22</cp:revision>
  <dc:subject/>
  <dc:title>Je veľký náš Pán, on slávy je Kráľ Nech do všetkých strán  spev vrúcnych znie chvál.</dc:title>
</cp:coreProperties>
</file>