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42A8-5900-4321-A4E8-25FADB0D7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F72F-0263-4D87-8378-27037C0DE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1AD0-548F-42F1-93A1-05D4F2615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F8FE-0E7F-4421-AAA1-13C9F2717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F1DB-F1C1-482C-B5A8-2BDE29FD2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39DF-E25F-4573-A237-3F1496F4C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3D12-18A9-4D41-BB2F-7CAE21214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5A1E-0EF2-4A5D-B74C-DE4F7D0BA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9FB9-1AB3-43DB-94E5-B6678B0F0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4573-0654-495D-86C4-48A0AFC3E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A682-339F-481C-98C6-7647E9E90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18BF-FF74-44CC-B5A1-AAB9EE995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1AC02-A549-4C9C-B247-8BB1F733A3F2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334 Strážny, volaj z plnej sil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trážny, volaj z plnej sily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eprestávaj varovať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by ľudia uverili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že im Pán chce spásu da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trážny, volaj z plnej sily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ech to každý počuje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roznes ľuďom odkaz milý: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Ježiš naša spása j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Údolím, cez vrchy stráne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naž sa tú zvesť zvučne niesť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usiluj sa odhodlane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 Ježišovi všetkých vies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trážny, volaj z plnej sily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ech to každý počuje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roznes ľuďom odkaz milý: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Ježiš naša spása j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 Pánovi pozývaj stále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biednych, hriechom zranených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 nemu veď aj deti malé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trápených a znavenýc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trážny, volaj z plnej sily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ech to každý počuje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roznes ľuďom odkaz milý: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Ježiš naša spása j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Dôležitú správu hlásaj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ech to čuje celý svet: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án Ježiš je naša spása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už skoro príde spä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trážny, volaj z plnej sily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ech to každý počuje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roznes ľuďom odkaz milý: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Ježiš naša spása je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Stano Slamka</cp:lastModifiedBy>
  <dcterms:modified xsi:type="dcterms:W3CDTF">2007-08-27T12:16:37Z</dcterms:modified>
  <cp:revision>37</cp:revision>
  <dc:subject/>
  <dc:title>Je veľký náš Pán, on slávy je Kráľ Nech do všetkých strán  spev vrúcnych znie chvál.</dc:title>
</cp:coreProperties>
</file>