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3F3-7E09-4643-A197-F72764C6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964-559D-4390-A6EB-FDE821FB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2FD-DECE-4467-884D-E19D29E1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093-C8B4-49AE-A857-22E7863E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567-07A7-4314-8767-0A78EFA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867-7EBC-4483-A6D5-A42FBB69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984-B10D-4D97-B35B-DEFB3822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1B1-4199-4B4F-B3F8-1384B4E1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987-1F38-41EA-8DB1-5631E852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88A-DAA5-44B7-98EB-28B63C5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486-FE8A-4B65-B2E5-6E787ED5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A0C-0FCE-4D85-9A03-46244A06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91C9-EEE8-41C4-A225-B8936493798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4 Keď slniečka lúč posled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lniečka lúč posled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v tmách svoj strác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y vítame deň sobot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odpočinku čas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 deň ten bremä starost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áce zložiť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mannu hojn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rúk Pánových vziať smi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ie vzácne chvíle sobotn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nie Božej lásk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ísma zvesti radostn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dnes je spás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zlomil hriechu okov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l žitiu nový s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a mocou svojou obnov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našej zemi mier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_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6-11-23T17:20:08Z</dcterms:modified>
  <cp:revision>11</cp:revision>
  <dc:subject/>
  <dc:title>Je veľký náš Pán, on slávy je Kráľ Nech do všetkých strán  spev vrúcnych znie chvál.</dc:title>
</cp:coreProperties>
</file>