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DC54-DD61-4B51-BF49-40BA692A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0F9-D1A5-453E-9791-ABD83B73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497-D6EB-448B-BE87-1948533E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669E-8CBF-49D6-A1A9-ADA81119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AA7-1058-46FA-A4EE-73DC33F2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DE1-ED28-4FA0-A50A-75F0B649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BC6-FD58-41F0-B832-A356F53E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1ABD-4AF4-4D9B-BEB7-0F9791AA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C7D-891A-41F4-975F-3C7FE31D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EE0-2535-4142-BFAB-C09D3672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199F-E84C-49A0-BDF6-6552C82F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A67E-8630-477A-885D-D1F4E8C3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6D80-443C-447A-9887-464FE38C2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5 Oslavujme Ježiš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kupiteľ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slavu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stupcu hriešnikov, Krist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úchom spás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nás odie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Pá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a, smrti i súd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ť tá moc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ým nech zaznie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krátko u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javí sa v sláve n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dným na sú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ným na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me Kris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on je Spasiteľ sve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 vďa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jme nadšene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slavu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a, Vykupiteľ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nie o ň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u zvesť radostn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a,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aj a spievaj, ľud Bož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cesta, pravda i život n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pastie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dí on ovce sv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žne nosí slabé a zranen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me Kris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on je Spasiteľ sve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 vďa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jme nadšen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rúcnou piesň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aránka Božieho chváľ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mrel za nás na kríži Golg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vyšu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eno tak drahé a vzácn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, Ježi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 Syn presvätý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uje láskou večn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ňho ži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úžme mu oddan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me Kris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on je Spasiteľ sve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 vďa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jme nadšen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1-01-05T10:11:44Z</dcterms:modified>
  <cp:revision>13</cp:revision>
  <dc:subject/>
  <dc:title>Je veľký náš Pán, on slávy je Kráľ Nech do všetkých strán  spev vrúcnych znie chvál.</dc:title>
</cp:coreProperties>
</file>