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A01-D695-480F-96A7-98423DB3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CCD-248A-45E7-BFE0-6DB32751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6F9-3F0A-41E9-BF01-DB1EBEC4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419-2BA9-45FD-9E15-BAE3E806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398-CDC6-4A8E-B878-FD82C28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BBB-8199-44CD-8A0F-79581ED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539-1185-45DD-9673-3455758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F4E-2CEF-4B6C-A57D-3B7BCBA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A58-7AC0-455C-8DBC-E4130B4D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67C-7C1D-44A7-B82A-6A40273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082-13CE-4124-A5CA-5B40576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F66-D157-4F8A-AB79-6D7C020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8A7-6164-426F-9100-F3C6A6A964B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5 Pomôž mi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mi, Pane, krotký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iem sa stíšiť, pokor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útaj moje pyšné 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ou vyzbroj do b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nad hriechom zvíťaz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, Pane, tichý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sa vôli podriad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íde úzkosť, skúšok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vráť mi mier 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i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Ranenú dušu upokoj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obnov v nej sám ten obraz svoj.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y moc máš, Kráľ si, Boh a Pán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život svoj z lásky rád ti dám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aveky chcem byť už len tvoj.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14:59Z</dcterms:modified>
  <cp:revision>20</cp:revision>
  <dc:subject/>
  <dc:title>Je veľký náš Pán, on slávy je Kráľ Nech do všetkých strán  spev vrúcnych znie chvál.</dc:title>
</cp:coreProperties>
</file>