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CFC-67E3-45F7-A183-968AE104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7D6-5796-44D2-B9BC-620C5FF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36C-7AEF-41F7-BD33-B9EC0F20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6F1-C687-4347-AB71-72420D7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BC9-87EC-4F79-9EA6-E0BB8AA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42F-8EA4-4C20-9A17-894980E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C44-4D9E-4B1D-89F9-BD2BAF2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E7B-7127-423E-8F77-65B548B4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4EB-634E-40B5-9145-0326828B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09D-B265-46F3-AFC9-02FBDB8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7FC-4B68-474D-B4C1-E65144D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1BE-C476-49B4-941C-B3D14D6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539-F41F-48B1-A2E7-BE92B64E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3 Chce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dnes, Pane, veleb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obzvlášť dn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e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sobo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 tvoj ma mocne oslov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elého nech ma posvä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 ochotnej sl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, obe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m ťa dnes, Pane,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s ľudom tv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iem t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eň, ktorý ty si oddel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odpočinok posvä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, vďaka tebe patrí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novú 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že smel som šesť dní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to ti chcem dnes chvál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íš v duši mojej každý ru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e mi otvor, zbystri sluch;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hcem Slova tvojho počuť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oznať spásy vzác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Arial"/>
              </a:rPr>
              <a:t>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tná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c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m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uša Pán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m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  <a:ea typeface="Times New Roman"/>
              </a:rPr>
              <a:t>: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14:24Z</dcterms:modified>
  <cp:revision>23</cp:revision>
  <dc:subject/>
  <dc:title>Je veľký náš Pán, on slávy je Kráľ Nech do všetkých strán  spev vrúcnych znie chvál.</dc:title>
</cp:coreProperties>
</file>