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DD4-24A2-498C-B50C-A945F44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5B9-071E-463E-A496-CF53A68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D6F-695E-4D2E-9B81-99A9D2F3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1D9-5A0F-43C3-B6A2-18B37669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9E3-5E85-4C55-AF86-7BF4A948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FC2-FEBD-442C-89ED-97068B63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C51-BF9D-418F-A2AA-2CB35729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B88-C17F-4F7B-A5AB-4382FCAD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CC5-7653-49BC-B37D-073F276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CB2-69D9-4503-8547-D813F15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7DB-5397-44FD-864B-7678485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0DD-CD9C-4D14-B16A-40B22D2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814-E5FA-444C-BAFC-2477AAB3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1 Už prestaň sa rmút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ráp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estaň sa rmútiť a tráp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cestu ti zastiera t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ierou hľaď stále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lo pre každého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drazil satanské zvo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ilu chce k boju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ty nad zlom zvíťazíš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i tebe bude on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tebou bdie neustále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len s dôverou hľaď k nebesám,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aj iným to radostne hlásaj,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že všetkých chce zachrániť Pá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 Pána sa dí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ár jeho láskavú hľaď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y čierne mraky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a rozplynú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vojím svetlom on stane sa rád.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00:44Z</dcterms:modified>
  <cp:revision>20</cp:revision>
  <dc:subject/>
  <dc:title>Je veľký náš Pán, on slávy je Kráľ Nech do všetkých strán  spev vrúcnych znie chvál.</dc:title>
</cp:coreProperties>
</file>