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4B17-6116-47A3-A2C4-2A7775C5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D09E-24CB-4181-B4C1-9658219B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CA8B-2E38-4E84-B1BA-686744DC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16AE-5D4D-4EE2-88DC-C8A4094A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1C8-E15E-4CF1-8A61-A76E2729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843D-BBE5-41EC-A2F2-3E341EDD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119-F6A6-4E46-9AD8-63518102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73E9-1FD8-45A5-B5E1-75D0E1F1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A51-DA5E-4724-B9C4-AC319ED5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F877-E5DB-47BB-89D7-12D33C64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94C3-0392-4DCE-8EA2-4E46D4E0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92A6-5B6D-422B-9351-C93440F3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0A95-B6AE-46E2-8723-D5DD26D63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81 Je žriedlom vody v púš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žriedlom vody v púš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lúčom temných d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útechou pre smutný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ravdou v svete lž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piesňou, je jar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krásou letných r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m všetkým je môj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riateľ a môj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mierom napriek boj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 krídla miesto pú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návratom do vla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vrúcnym stiskom rú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hviezdou svietiac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nedozernú plá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m všetkým je môj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riateľ a môj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liečivou je hudb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iesňou nádhern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dažďom smädnej pô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dúhou farebn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cestou vedúc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äť do domova br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m všetkým je môj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riateľ a môj Pá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17:26:52Z</dcterms:modified>
  <cp:revision>20</cp:revision>
  <dc:subject/>
  <dc:title>Je veľký náš Pán, on slávy je Kráľ Nech do všetkých strán  spev vrúcnych znie chvál.</dc:title>
</cp:coreProperties>
</file>