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A3C-008A-4A9B-9F85-E5C21C53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CCD-A42B-4FF9-B9CD-E0E251AB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C77-619E-45AD-9992-ED5A0F47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0F5-6444-480F-B421-A5687436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718-4C1F-47CC-9052-BB76CF8B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F2D-EC3B-4BE0-B927-6D186E88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EF1-EAB9-4C41-945E-E59F594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090-77FA-4972-AF7E-DE7BA384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038-B7C3-4512-96DD-874B91F9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88B-8D3C-4101-A2CC-4515443A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2B1-030C-463C-8E9C-B04A032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E0E-BBD3-44B6-94FD-FA524E8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764B-3765-40A7-BDE3-4B1E8E786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6 Len tvojou cestou vp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ou cestou vpr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kráčať, Pane,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uku uchop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vôkol zúri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ej ruke sm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istý v zmätku cies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aj tme navzdo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š svojím svetlom vies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vojich šľapaj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er cesty k cieľu zr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to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zveruj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užby prijmi m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rdcu vládni t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zomrie pyšné j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 krížom Golgo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ôle tvojej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všetko poručí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radosť chceš mi d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mútok okús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so mnou bu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ôj hrad a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iaď túžob mojich l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ovom svojím sý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14:33:46Z</dcterms:modified>
  <cp:revision>23</cp:revision>
  <dc:subject/>
  <dc:title>Je veľký náš Pán, on slávy je Kráľ Nech do všetkých strán  spev vrúcnych znie chvál.</dc:title>
</cp:coreProperties>
</file>