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5E8-0727-4132-8FCE-069B717B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36B-88DD-46BD-9253-A31761AB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819-7643-4DF0-9E25-C5C52EE9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C13-82BF-4DA6-BAB6-C2CCE216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80D-37FD-428C-88B9-8B66D095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3DD-599C-4251-A030-2776F55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443-23AF-4544-8BB6-BDE2737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83F-F73D-45C6-8060-27057EB5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C6D-3712-4071-BA82-5E3C1346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68C-11D6-4A35-A07F-E628D83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C91-15EA-402B-B7CB-4815B6C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71D-8D00-4C80-9CA4-71A4BD8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D9A1-A2BB-44A0-9749-03B5D84A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7 Dnes vďaky spev vrel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ďaky spev vrel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svetom cel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oslav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ž pred Boží tr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 láske sa skláň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ar požeh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ám všetkým dopri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dni sobot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z výšin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rád vždy čo tr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nad nami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pri nás stá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ohnivým stĺp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d ľstivým zvod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a ceste žit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chraň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vorcovej m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hviezd v tmavej n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lnka lúč jas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dne hov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rosy skvost v tr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lnky riek hra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a náhl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iečišťami do m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 každý ho chvá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eľký či mal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my Tvorcu chváľ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veleb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al nám dar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čaká nás v cie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ždy vďač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ho nasleduj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6:37Z</dcterms:modified>
  <cp:revision>30</cp:revision>
  <dc:subject/>
  <dc:title>Je veľký náš Pán, on slávy je Kráľ Nech do všetkých strán  spev vrúcnych znie chvál.</dc:title>
</cp:coreProperties>
</file>