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A1D3-AD8A-41C1-8787-CC5E8AEE3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4C5A-3E96-4006-98EF-4136CC84C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2F42-6665-4F94-A3A3-7299299C4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5C53-B03E-43C5-95E9-17223F600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FCAC-F18E-4A21-BEBB-EBC0EE50B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A2A7-CAF2-4E31-A199-A4FEB6531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C4E2-5490-4D46-8202-DD0736442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9760-97AE-4254-857B-B2F89EAD5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4943-F9E6-484B-B213-FDED56E1A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69D7-A298-4104-8C45-8091061A4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1036-18C1-4BDC-A130-48F97D900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63D3-F881-4909-8537-B8FB36B5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D9D33-7A52-4462-A543-09FA94319F87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50 Už dňa chví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Už dňa chvíle zlé aj milé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ešli do minulosti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ak čas každý raz sa navždy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tratí v mori večnost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každej chvíli, Pane milý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d všetkým čo vládneš sá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evnou skalou, mocnou, stálou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pásy hradom buď ty n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nes a denne, stále chcem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voju lásku velebiť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bav nás pýchy, odpusť hriechy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môž na česť tvoju ži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každej chvíli, Pane milý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d všetkým čo vládneš sá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evnou skalou, mocnou, stálou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pásy hradom buď ty n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Uč nás, Pane, dni nám dané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ežiť v tvojej blízkosti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aj nám k dielu chuť a silu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eď nás cestou večnost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každej chvíli, Pane milý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d všetkým čo vládneš sá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evnou skalou, mocnou, stálou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pásy hradom buď ty nám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7T18:47:15Z</dcterms:modified>
  <cp:revision>54</cp:revision>
  <dc:subject/>
  <dc:title>Je veľký náš Pán, on slávy je Kráľ Nech do všetkých strán  spev vrúcnych znie chvál.</dc:title>
</cp:coreProperties>
</file>