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D06-1647-4BF9-BCC5-A415BC2F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BE8-F5A9-4F59-BB3C-65B749BF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DCD-9278-4577-9C16-C97D6282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11A-FDA7-4C77-A3E2-17DC6B4A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ADE-F2AF-4CEC-BF36-5D47C7F7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E07-6099-4888-8550-F60AA947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865-EA99-4BF8-B2C0-FFB88350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7DC-86A4-4D5A-B2E6-5C7DB1F5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443-A016-4EE9-8CB8-CA74DF44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00D-C2B3-4B37-AEE6-78AFB9CF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C9B-1194-4F52-A7BA-1D6B76FB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83F-6CEE-4895-88B4-2DFC4231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E460-732B-46BF-80D3-1384A8820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9 Príď, Duch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výšin 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ď, Duch svät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výšin k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čisť, posväť nás ty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ôľu, city ovlá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irkev svoju požehn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tor Ducha, stále v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 nás pýchy márniv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žeň noci hriechu ti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pravdy vzíde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a starostí tiaž s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rom naplň kýžený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ôsob slávnu premen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zdrav dušu zrane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Duch Svätý, sám uč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íriť radosť, lásky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kúsiť už tu nám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nám chystá večný ra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1-01-05T10:18:37Z</dcterms:modified>
  <cp:revision>13</cp:revision>
  <dc:subject/>
  <dc:title>Je veľký náš Pán, on slávy je Kráľ Nech do všetkých strán  spev vrúcnych znie chvál.</dc:title>
</cp:coreProperties>
</file>