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F27-0B9A-4F7E-A2FE-5A654E0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01A-1EAF-48D1-AA40-2A2AA790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AB8-7D38-4456-8315-6ED17293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FAF-AA83-4588-81A0-D59315FA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EE4-E869-4353-9F69-29416833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A75-CE98-408D-BC3E-F572175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C7A-7239-4580-AA79-AB553314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C9B-3A6A-47B6-B1B6-51D4818A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E98-B9DC-4757-B143-5ACE0D0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0DD-0F8E-4D9A-B788-020276CD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DE6-8092-4AFF-B7D9-B193BED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CA9-CB8E-41AD-A8F4-3B80071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4214-6867-4F81-9FBE-1E572B9B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 Svätý, svätý, svät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šemohúc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eň chvály vznáša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bies výš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 kraľujúci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láskavý Otec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ca náš a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chvatné chó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tebe, Vševlá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ch svetov tvo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v úc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sa sklá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troj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u náš a Záchran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jný v mil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y hlas prij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ťa vzý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ďačnosti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21:41Z</dcterms:modified>
  <cp:revision>8</cp:revision>
  <dc:subject/>
  <dc:title>Je veľký náš Pán, on slávy je Kráľ Nech do všetkých strán  spev vrúcnych znie chvál.</dc:title>
</cp:coreProperties>
</file>