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D62-7B8B-4EEB-B980-39C9FDA0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35A-C5DB-402B-ACA8-32B6A0B8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BAF-04E6-488B-8525-2FE8B468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883-3E25-40FE-97D6-D7FA9620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343-B715-491B-9AE7-EA72A442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D7C-AF4D-4798-A5F2-159186F5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CE8-872B-439D-9F86-6BB37B87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8A9-2A88-4076-B669-9439FC2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16A-42A6-42AB-883A-964CCF68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8D2-9F61-46F8-B63B-EB9A0E4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B5F-FFEA-4F6C-9696-47CF9DB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779-ADF9-4A8C-B2A8-323E0049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DF56-2015-45AF-A38A-6FEA56C5E29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5 Sobotný deň z veľkej lásk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botný deň z veľkej lásk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oval nám Stvor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pevňuje naše zväzk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kazuje vier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 nás ako Otec ver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ší, chráni, trestať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us k spáse stal sa dverm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covské zve náruči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a, Pane chceme chvál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ky úprimnej čuj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ilosti si neskonal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nám sa skláňaš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otroctva zapreda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si krížom vykúpi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ľud hriechom poškvrn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vou svojou očist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k nám sa vrátiš zas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herný to bude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em sa zaskvie v novej krás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bom zaznie chvál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obotný deň budú zn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všetkých úst piesne zn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m, kde cirkev Ježiš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u tvár už bude zrie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6-11-23T17:27:22Z</dcterms:modified>
  <cp:revision>10</cp:revision>
  <dc:subject/>
  <dc:title>Je veľký náš Pán, on slávy je Kráľ Nech do všetkých strán  spev vrúcnych znie chvál.</dc:title>
</cp:coreProperties>
</file>