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083-AB24-4C50-AD18-66CF4DA9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F36-25C1-476D-AB3D-11CDE0B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5FF-D698-437B-809F-03023F47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AFC-0F96-4A77-8AAD-47CAAC2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34E-4610-4876-9AB7-7CE7E4F9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29B-AE71-4C3C-89E1-F62B530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4B1-3522-4C95-A70C-9909510D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11F-FA44-426B-9F27-18C07B0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AF6-4E0B-4263-8281-DF0901B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7AB-6D82-4EA2-87B1-312F922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71F-5DAF-42EA-A41F-BA85FE3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D3F-1DFC-4097-A1D0-A863509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2640-0108-4684-8878-1FDAB1A26B5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2 Chceme byť vžd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e byť vždy blízko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jvernejší Priateľ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 k nám si prišiel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ašou biedou súcit m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naše útočiš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ám hrozí nepria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hynúť nám nedáš is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rahý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 sa spolieh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nás nikdy nesklam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nde pomoc nehľad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úžení vždy pomôcť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tebou ísť, stále í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ždy v tvojej blízk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pravý z teba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raz  i  vo večn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8:58:50Z</dcterms:modified>
  <cp:revision>15</cp:revision>
  <dc:subject/>
  <dc:title>Je veľký náš Pán, on slávy je Kráľ Nech do všetkých strán  spev vrúcnych znie chvál.</dc:title>
</cp:coreProperties>
</file>