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03C-831F-4552-8264-0D2BDE3C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0CBC-9CBB-42F2-A637-D2745305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D75B-F577-475B-B6C5-14361269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8DF7-CAD9-4FA5-B9B9-5AAC3386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0249-E6B7-4890-9D8C-90545302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8C66-351E-4267-865F-7431E2F0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77AB-84CB-466A-BD65-BCE15B84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49B3-4335-455D-9113-4F758CA5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6FC5-38BA-4F0C-8684-8BCF1CBF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98F8-62E6-4944-9A19-E6C9F38E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DAA9-C09D-4236-B565-F99A9C8E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4DD4-DF48-470A-9CD3-EB36DC83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73B8-8E60-4A0A-B2C7-B95A23819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33 Hľa, blankyt neba modrav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ľa, blankyt neba modrav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mračien náhle čierňav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z obzoru sa vynor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 sláve Tvorcu hovor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dňu i tmavej noci noc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ú nekonečnú Božiu moc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mocne bez slov, bez reč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nepochybne dosvedč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hviezdam dráhu vymer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em zvláštnou krásou priodi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 jeho lásky obja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úč slnečný ju pozlá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každý človek poznať sm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ie Božie skutky úžasné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 jeho veľkosť poznáv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u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u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es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u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a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ak človek reč tú neč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rozum svoj vždy zbožňu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rady, ktoré Boh mu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často hriešne zanedb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nes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ova prosiť chc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, nech ťa več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iť smi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ch, vinu každ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 mňa s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mojou Skalou, Spasení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03:01Z</dcterms:modified>
  <cp:revision>29</cp:revision>
  <dc:subject/>
  <dc:title>Je veľký náš Pán, on slávy je Kráľ Nech do všetkých strán  spev vrúcnych znie chvál.</dc:title>
</cp:coreProperties>
</file>