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EDA-A3F0-46A0-B604-CD9AA863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92B-A5F5-4A9B-8FDE-6F3D7236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911-EB45-463D-8FB8-63020151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F33-6DD3-42D2-9CB8-8C0BE352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47F-CA99-4969-BF0B-634C4D23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51C-CA6D-409B-94AB-1BFF166F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D13-6A94-46EA-AC14-BCE28A73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973-F1ED-49D8-A89A-4EE36BDB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6A3-9E30-45E6-A516-3A97D565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C37-A409-4D43-BDCF-BAEA854C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57C-83B4-4EEF-87D1-F6F1B16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4A6-2AD3-46E9-B9B6-9ACE7B0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B1E2-6E5C-4987-B64F-6386B468E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7 Je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ý Pánov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pev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 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j mil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požehnaný Pánov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je svätá sobota.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ám z duše mizne starosť, ti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 Slove živo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každý Božím darom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šak pamiatkou na stvor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znakom večnej dobrot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ú vzácne chvíle sob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nej pieseň chv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za tento neba dar!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áš drahý Pán a Stvori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vet z hriechu vykúpil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mrie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kríž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ná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z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 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lásky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š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ie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o hrobu zostúpi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a dal nám viery ist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v Božej sile k živ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ak ako on sám slávne raz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smie zmŕtvychvst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aj každý z 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to v ňom tu svo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á spásy stály zdroj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hriech ti srdce pora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oď k 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n liek má, balzam na ra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voj pokoj obn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Už zakrátko sa otvor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ie brány nebies domo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am v sobotný deň bude z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znieť vrúcny vykúpencov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21:10Z</dcterms:modified>
  <cp:revision>22</cp:revision>
  <dc:subject/>
  <dc:title>Je veľký náš Pán, on slávy je Kráľ Nech do všetkých strán  spev vrúcnych znie chvál.</dc:title>
</cp:coreProperties>
</file>