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7DF9-1BE2-44EC-97EC-6853E4A3B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CD93-8A40-4920-ACB7-F5C2CB27F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B109-0EC1-4087-BF3F-173C0FC86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806C-0144-4F4C-AA2D-13D29E062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AD3F-C079-43C3-8137-D6A12130F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F5B8-ECC4-484C-BDD4-DC6B466AA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76F2-F79C-4D60-A2BF-B0738ACEA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3FED-827C-4A51-BA5B-DFF779D53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DF9D-DB6F-432D-9847-3E5DC6F58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0362-2FA0-4C16-8B03-03AD2443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38EE-7A6E-4605-94D3-F0DBE1D4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A82D-53D2-430F-98FB-B0A916AD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D54CA-D48A-4C53-9E26-6D3A80C04C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44 Na základe pevnom stavia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základe pevnom staviam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m viery, na vekov Skal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 v príboji búrok neskla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spoľahlivá stál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istus Pán, len on s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istus Pán, len on s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jediný pevný je základ ná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ktorom stavia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piesku kto stava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m svoj chc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človeka sľuboch klamnýc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en nad troskami sa ocitn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nov, nádejí len márny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istus Pán, len on s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istus Pán, len on s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jediný pevný je základ ná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ktorom stavia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á Skala je spásy istot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to stavia dom viery na ne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á v Kristovi zmysel život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ňom kotví jeho náde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istus Pán, len on s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istus Pán, len on s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jediný pevný je základ ná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ktorom staviame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8T11:14:08Z</dcterms:modified>
  <cp:revision>20</cp:revision>
  <dc:subject/>
  <dc:title>Je veľký náš Pán, on slávy je Kráľ Nech do všetkých strán  spev vrúcnych znie chvál.</dc:title>
</cp:coreProperties>
</file>