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13EE-3AB5-41EB-8536-4FDCD348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934-BC49-45A5-B20B-AB30CA1E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78A7-5D34-4CAA-8426-4AE6582D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082-9D7A-4E0A-8837-7B0A0F06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5DE-66AB-408F-A843-E3676898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1B2-2F54-49C2-A6EF-AFF7B8A5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3DA-DEB2-4D63-99CA-8BC1FF00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9F9-BC63-4766-AB18-978ABDB5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04C4-1B06-4CAD-A3F3-C4100CAF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AC4-4782-423F-B52B-FCD5CB3F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185-52A6-40AD-A8EB-2771499C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53AD-5279-406C-BD0D-ABEBEEC0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AD92-D236-45D6-B428-E6D647C81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4 Viac poznať Pána túžbu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ff33"/>
                </a:solidFill>
                <a:latin typeface="Arial"/>
              </a:rPr>
              <a:t>Viac poznať Pána túžbu mám,</a:t>
            </a:r>
            <a:br>
              <a:rPr sz="4500"/>
            </a:br>
            <a:r>
              <a:rPr b="1" lang="en-US" sz="4500" spc="-1" strike="noStrike">
                <a:solidFill>
                  <a:srgbClr val="66ff33"/>
                </a:solidFill>
                <a:latin typeface="Arial"/>
              </a:rPr>
              <a:t>chce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66ff33"/>
                </a:solidFill>
                <a:latin typeface="Arial"/>
              </a:rPr>
              <a:t>chodiť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66ff33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66ff33"/>
                </a:solidFill>
                <a:latin typeface="Arial"/>
              </a:rPr>
              <a:t>ní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66ff33"/>
                </a:solidFill>
                <a:latin typeface="Arial"/>
              </a:rPr>
              <a:t>nikdy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66ff33"/>
                </a:solidFill>
                <a:latin typeface="Arial"/>
              </a:rPr>
              <a:t>sá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;</a:t>
            </a:r>
            <a:br>
              <a:rPr sz="4500"/>
            </a:br>
            <a:r>
              <a:rPr b="1" lang="en-US" sz="4500" spc="-1" strike="noStrike">
                <a:solidFill>
                  <a:srgbClr val="66ff33"/>
                </a:solidFill>
                <a:latin typeface="Arial"/>
              </a:rPr>
              <a:t>keď jeho lásku pochopím,</a:t>
            </a:r>
            <a:br>
              <a:rPr sz="4500"/>
            </a:br>
            <a:r>
              <a:rPr b="1" lang="en-US" sz="4500" spc="-1" strike="noStrike">
                <a:solidFill>
                  <a:srgbClr val="66ff33"/>
                </a:solidFill>
                <a:latin typeface="Arial"/>
              </a:rPr>
              <a:t>viac z jeho krásy uvidí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iac poznať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iac poznať Pán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jeho lásku pochop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ac z jeho krásy uvid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deň čo deň mi dáva zn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o mňa dbá, že má ma rád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jeho lásky náruč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neho viac sa nauč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iac poznať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iac poznať Pán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jeho lásku pochop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ac z jeho krásy uvid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ac poznať Pán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Písma smiem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preto ho denne skúmať chcem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čujem z neho spásny hlas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šnici, poďte, prijmem vá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iac poznať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iac poznať Pán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jeho lásku pochop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ac z jeho krásy uvid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Pán mi dať môže viac než svet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acej než smiem si pomysl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ozbroje všetky stíšiť v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rdcu pokoj dar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iac poznať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iac poznať Pán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jeho lásku pochop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ac z jeho krásy uvidí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07:20:45Z</dcterms:modified>
  <cp:revision>20</cp:revision>
  <dc:subject/>
  <dc:title>Je veľký náš Pán, on slávy je Kráľ Nech do všetkých strán  spev vrúcnych znie chvál.</dc:title>
</cp:coreProperties>
</file>