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94CF-F5D8-46DA-AEA8-13D7344AA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F42D-2648-42E5-AA7D-F2522EBD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A32F-1114-4A3B-B8E0-BAB763E7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F319-7ADF-4447-A8FA-BABC9FD6C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199E-0725-422D-891E-2B50CBA6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7233-5B8C-44A2-8FE1-CA4FE420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E1CE-7688-45FC-8B57-06454CB4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0F28-8E3B-40D7-8852-1F2CB07C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4023-AA1E-450B-A700-CDC46060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2E7B-E8B5-4D1E-A501-ACA4D063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BCE7-89E6-40DC-ACBD-7E03E819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3E2D-49F4-4652-A982-ECFF3D9C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3C13-6CDC-4370-B86D-595888A35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54360" y="228240"/>
            <a:ext cx="9296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ň v diaľke sa trat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blíži sa noc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lniečka zlatý lúč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ráca už moc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54360" y="228240"/>
            <a:ext cx="9296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z vesmírnej diaľky jas luny sa skv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s modlitba vďaky nám zo srdca zn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52560" y="228240"/>
            <a:ext cx="93189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oc tmavá už spriad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lášť svoj v údolia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it hviezdny naň pad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ťa strieborný pra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52560" y="228240"/>
            <a:ext cx="93189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tíchne dňa vra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nebeský Pá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r spánku zas d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skláňa sa k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08-01T16:46:04Z</dcterms:modified>
  <cp:revision>10</cp:revision>
  <dc:subject/>
  <dc:title>Je veľký náš Pán, on slávy je Kráľ Nech do všetkých strán  spev vrúcnych znie chvál.</dc:title>
</cp:coreProperties>
</file>