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DBFF-D9D2-4214-8116-928432C5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B060-B859-4FE8-8998-1118AF26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84B-5822-4BEE-BF9A-D4D9C7F3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D581-438B-4744-8A3F-A27030ED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2F27-CE08-4B65-8CA5-50AD9F52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9B87-D061-4FEF-8B12-D7D010FA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8F3C-F919-48C6-90CC-2C5EC845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4A02-B222-4184-8F7E-1F1F31CF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C3D2-B189-4B43-AFEA-7A4022CB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2780-FE76-438D-BFF3-BFAEE7F0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8178-78E2-4EB7-995C-AE0A99D1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44C6-DDDE-4F35-A52E-4DB5C344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3397-18C6-4A1D-8B2B-71BBAFB0E7FC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63 Keď smieš z Božej milos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mieš z Božej mil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dravý ráno vstáv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 je dôvod k rad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válu Bohu vzdá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nad tebou s láskou bd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ti silu dá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vojím verným strážcom 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ťa požehn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ťa trápi bolesť, žiaľ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riech ťa k zemi tlač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môcť môže nebies Krá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na všetko stač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neho pevnú vieru m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jeho pomoc dúf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odlitbou mu chválu vzd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žiu vôľu skúm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vpred s Pánom vykročí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ním verne pôjde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bavy mať nemusí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cieľu iste dôjde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ž tu chce ťa oblaži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žehnaním svojí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z s ním budeš večne ž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 je vodcom tvojí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20:31:15Z</dcterms:modified>
  <cp:revision>65</cp:revision>
  <dc:subject/>
  <dc:title>Je veľký náš Pán, on slávy je Kráľ Nech do všetkých strán  spev vrúcnych znie chvál.</dc:title>
</cp:coreProperties>
</file>