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57F-17DE-4D21-96A9-8AAEFBFD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7BB-BE07-462F-8674-14689409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6EBD-F747-4906-A356-49170766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88C8-2504-47E1-A604-7BEDE89F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C9E6-E4AA-4356-90CE-4ABED5ED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9EA-CBD4-4252-9E66-60A5DF41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D53-848F-4461-B621-42C8A94D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900-1877-4C85-B3C7-84E1ED10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7B6A-4DE3-429E-8AA4-E536BCDB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C1E-4C18-4661-B1BB-B2EF81CB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EEB3-567F-42E2-A11E-D3B23C68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906-98AD-4523-82CC-3835F78E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93DA-ECD7-4EA2-9A20-B986E7B66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91 Tak vzácny je a milý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k vzácny je a mil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svätej sobot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droj požehnania, si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nak Božej dobr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kloň v úcte svoju hlav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v pokore sa stí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k význam, cenu prav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v tom dare pochopíš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tom vzácnom dare svoj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k žriedlu nových kr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k živej vody zdroj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 dní únavných zve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deň odpočinku rad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ce z lásky všetkým d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odňať každú star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o 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ŕ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c nám pokoj vli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Leť vrúcnej vďaky chorá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o srdca pl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všetko, čo nám dopri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v svojej 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Pánov požehna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ú túžbu budí v 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az prijať z Božích dla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ar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tia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ých krá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8:34:25Z</dcterms:modified>
  <cp:revision>22</cp:revision>
  <dc:subject/>
  <dc:title>Je veľký náš Pán, on slávy je Kráľ Nech do všetkých strán  spev vrúcnych znie chvál.</dc:title>
</cp:coreProperties>
</file>