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F5E-44DB-4167-9FF0-B7A3B455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917-D17C-44C2-8E66-A7530748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6FD-1044-4CF7-B563-C1D4ECA0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480-4A71-45FD-A7AF-F33EFB90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F45-AE5B-4036-9639-4D141A1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78B-59D9-4111-8B9E-29404E28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E83-FA32-4D42-94FB-F1DB9345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29C-2A3B-4E64-A65C-259B775C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371-C763-409F-A7E4-A46D573E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D40-0802-428D-B22D-63C3F2E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5F8-1981-4E7A-A63F-CD85AA8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193-FE1E-46A2-A9FE-76224E9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506-6EC9-4A23-9372-7D8117361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2 Trón svoj si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raz vrátiš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ťa radostne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ou sa chvej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a krátky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š už domov nás si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ón svoj si opust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zemi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náš Spasiteľ,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etlehemskej mašt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ti ustl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i svet prišiel zbaviť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spiev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ľudí ťa málokto priví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ľakol si sa strá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si prišiel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ás život svoj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ky ti srdce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vždy v ňom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l si tu na 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ej plané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podstúpil ťažk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však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abla por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, Boh mô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7:24Z</dcterms:modified>
  <cp:revision>31</cp:revision>
  <dc:subject/>
  <dc:title>Je veľký náš Pán, on slávy je Kráľ Nech do všetkých strán  spev vrúcnych znie chvál.</dc:title>
</cp:coreProperties>
</file>