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DFF-6931-4171-B8EC-9BDF6799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6EE-69E9-40ED-A0A9-2641129D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FD6-25A8-49B7-948B-DA632370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9B8-7D7A-479A-914C-91BC3E36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53E-CCA6-4E00-BD8F-5DFD66C3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A10-377B-44C1-A3C6-5C149ED5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2CA-983B-4D21-B35E-0DD6CF77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954-A167-4381-8B53-643ADBBF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430-F009-40CF-B6B5-4B3DE0F4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3CC-D943-4DAE-AA89-052ADFAB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AFC-043C-4077-B277-4AFD8526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27B-434A-402D-B8B5-A51C51D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852-1C00-47D9-B377-1757B19D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2 V blízkosti Spasiteľov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život služby ži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ý a bezpečný môž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ba u neho,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m strach z odlúč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lu mi dávajú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é zasľúb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srdce mu 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ímam milosti dar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ad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ce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ňom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ves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šíri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;</a:t>
            </a:r>
            <a:br>
              <a:rPr sz="44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dá práci tej z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ízkosti Spasiteľov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žim byť, on je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život zasvätím je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voje srdce mu 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1:48:59Z</dcterms:modified>
  <cp:revision>20</cp:revision>
  <dc:subject/>
  <dc:title>Je veľký náš Pán, on slávy je Kráľ Nech do všetkých strán  spev vrúcnych znie chvál.</dc:title>
</cp:coreProperties>
</file>