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74A-A07B-4F02-8A26-4C96F687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C8F-CFCA-498E-8FB9-11D04FA5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DB1-FAD2-4090-B6E6-7354CD74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5A9-B8A6-4823-9442-6ACB96A4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E1F-24AD-43A0-A3E8-C1085344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742-7B57-40EF-B42F-189F9E70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704-DE7F-4A3C-9106-9072DDF8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70A-E991-424B-9D9E-9FF714C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2E6-A64C-4159-B816-553937AC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854-B8E2-4CFF-B371-B77F9C05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C1D-BB7C-40D0-8283-3742781A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E7A-FDDB-4926-8A55-AEBC992E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BD7B-A596-4315-BE7E-BF0D4C0092C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384 Chceš kresťanom sa stať už v mlados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Chceš kresťanom sa stať 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už v mladosti?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chceš kresťanom sa stať 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už v mlados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v svete každá sl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chuť bôľu zanech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ia milosť požehnáva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l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ceš slúžiť Pánovi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ž v mladosti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Chceš slúžiť Pánov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už v mladost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teba prišiel z n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ťarchu kríža vzal na s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láske pamätá na teba v ml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Pánom neváhaj ísť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ladosti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Za Pánom neváhaj ísť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ladost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zve ťa milostiv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ou láskou úzkostliv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bá o teba starostliv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lad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 neho rozhodni s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 mladosti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Pre neho rozhodni s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v mladost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 budeš s Kristom chod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árne bude satan zvod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to ti potom môže škodi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mladosti?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6:59:59Z</dcterms:modified>
  <cp:revision>85</cp:revision>
  <dc:subject/>
  <dc:title>Je veľký náš Pán, on slávy je Kráľ Nech do všetkých strán  spev vrúcnych znie chvál.</dc:title>
</cp:coreProperties>
</file>