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1CE-3C35-4634-869A-15E6BE2B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6C0-5E6B-4405-89BC-8A0F015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729-8C46-4793-AE18-C6026725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458-F558-44C4-8791-548B9588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683-C11D-48F7-9C7C-A750897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1DC-CEA6-475D-9768-B46F66B4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B1C-8570-4677-A707-F59E0A5B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A9D-2D99-4BAB-8610-7D2E248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FC0-A9ED-4470-AA06-E8CDA40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047-9DF0-440E-BFA5-3845D4A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592-C6EF-4671-8BF6-3BCFAB9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C05-049D-429E-9E51-23502F9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B96-FFE2-4A10-92CA-4AEAB1A6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6 Milovať chcem ť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e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čes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dlitby moje k tebe let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klamom hriech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daj zvie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vať chcem ťa, svetl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več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voje slovo počuje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u mne sa skláňa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koneč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čo ti vrúcne ďakuj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vďačný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Láska č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, ty svätý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ilosť tvoja raj mi chyst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myla zo mňa hanbu ví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vať chcem ťa, veleb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milosti kým smiem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20:57Z</dcterms:modified>
  <cp:revision>21</cp:revision>
  <dc:subject/>
  <dc:title>Je veľký náš Pán, on slávy je Kráľ Nech do všetkých strán  spev vrúcnych znie chvál.</dc:title>
</cp:coreProperties>
</file>