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04C-8EA8-49A9-A3C0-DE25E625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02B-B6A2-4F3B-9206-66F2EEEC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978-7DF5-46EA-991C-467DBB27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A27-E1A1-4300-96BA-C19F0F0F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CDB-F7E3-47F5-8A2D-14407DE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8C2-E658-4B50-B00D-05FACE8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82D-C4A6-4A05-B650-75D930DA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57A-8821-4DD9-916B-68FDBDD8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A56-DAA2-449C-82C8-466699A9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A7E-F407-47A6-8FFC-B5BC456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AA2-E485-4105-BEE2-E846443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ADF-AEA1-4D98-8B18-4657677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B338-1428-49A3-9BAA-3FB273DD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4 Pán je môj vod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chráň ma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o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ýšiná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a zv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bezpečne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nezablúd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znám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vedie k nemu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y veď ma sám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na tvo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o dbá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lo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bránil 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mi celý sve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cestu razí Víťaz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kráčam k novým 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Ó, Pane môj, len ty ma 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 noci temnej ty mi 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ôj vo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ám stra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, zástupca môj 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uj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a ma, za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ierou naň sa spoľ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19:40Z</dcterms:modified>
  <cp:revision>22</cp:revision>
  <dc:subject/>
  <dc:title>Je veľký náš Pán, on slávy je Kráľ Nech do všetkých strán  spev vrúcnych znie chvál.</dc:title>
</cp:coreProperties>
</file>