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AC8-8924-47D0-8B82-81D6AEDF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5DD-A816-4EE4-8DF4-8665F0D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43C-6E64-45CA-8AA8-2FB7EEAC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A34-2200-47D9-9FA3-414948A6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17E-A68D-42D8-AE85-A7271CA3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C50-078B-4E12-9DD8-AE14E44B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C96-49F2-4219-BDB0-CEBD4DD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522-FD65-46FF-AA47-836546AA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31D-B239-4D33-8604-136F375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0C0-EEE3-439C-BF1F-9C258F3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20B-AC83-43E2-A558-A7D3292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167-3369-481D-86FF-DCAAC8A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891C-1BE9-4F74-B313-400FE43E49F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8 Pane,  tvoje dielo chc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avia udeľ, popraj sí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om na česť tvoju ž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vet pozná, že ty s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a si môjho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ma Slovo tvoje c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ľa jeho rád aj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z tvojej múdr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a spela k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 tvoj nech m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zmätku cies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i myseľ, srdce v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semä pravdy s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j mu nerušený vzra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ho zalej, dozrieť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 žatvu zachovaj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som nemusel sa chv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prídeš súdiť svet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voje dielo chce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konať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42:21Z</dcterms:modified>
  <cp:revision>42</cp:revision>
  <dc:subject/>
  <dc:title>Je veľký náš Pán, on slávy je Kráľ Nech do všetkých strán  spev vrúcnych znie chvál.</dc:title>
</cp:coreProperties>
</file>