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EEE-7849-432C-A83D-F5B47942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4DD-B0EB-4E63-92AB-8B922DCD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490-8062-40DA-90C3-BFFD8C72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7E9-3700-4DD7-97BD-B030EA66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851-705F-49E4-9E44-B4CF0D24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3B7-707A-4F98-B609-5ECEB2F1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8BD-8AAB-4BB3-BBB8-F1644B24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519-32DA-4335-8C22-61EC20D3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042-599B-42ED-974D-4993F860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DC3-70DA-4051-9CC7-1D39F032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94F-DCAA-4830-BF67-2E48BF37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A82-F175-4963-BBCB-D8033609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2711-DC47-4F45-8BCE-437883980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8 Strápených únavou úprimne vol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ápených únav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e vol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tá súcit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Boh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iesni a úzkost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balzam Slo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ých, čo ho prijm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sníme o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ej má pre všetk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chcú byť šťast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íšiť vie úzk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o láske hl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raky sa rozply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ár úsmev zjas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mu, kto ver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Boh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 chlieb on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vodu živú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uchovnej posily odveký zdroj;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ňom si znav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odpoči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mierni každý sto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ôľ,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lieb z neba ty si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ýtiť aj zástup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moc máš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ôvere dvíha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ázdne len dl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, čo treba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z lásky dá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8:59:00Z</dcterms:modified>
  <cp:revision>20</cp:revision>
  <dc:subject/>
  <dc:title>Je veľký náš Pán, on slávy je Kráľ Nech do všetkých strán  spev vrúcnych znie chvál.</dc:title>
</cp:coreProperties>
</file>