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C4D-9621-4BD7-A500-D2F6B1B7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E26-CAD8-4BF8-8110-F337483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EE5-2663-4A86-B159-1F4CCCE2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09D-F7E8-4308-B8BC-244DAAE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D4B-66CA-42A3-B368-B5ACE48C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9A5-778B-413A-A3BA-3973F96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8A0-4BAE-41CA-B3FB-6C44395A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DCF-CBDF-4E47-A71C-EB82789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BBF-DCFD-4F10-A199-69E61B6D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BE1-3DE0-4EBF-B6C6-84DCB0C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504-9906-4F11-A869-9E4E41E1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7FD-1156-41BA-A9D1-DB45A4E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C2C8-E66E-48BF-8BE4-E385ECA6E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5 Česť, pôvod ani slá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, pôvod ani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eľkosť ob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čokoľvek kto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úde neplat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láska nášho Pá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perly cenu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nás sa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Sudcom u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 prázdne veľké č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krása zvučných sl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lásky sú len hli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ovu ozven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Božia milosť več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tak sa poní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k bránam nekonečn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prach náš povýš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v divov v tom je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Láska v útrap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e ňou pohŕd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niesla na ruk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ám zjav,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môž pochop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pravdu tvojho sve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rieť má, kto chce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4:03:45Z</dcterms:modified>
  <cp:revision>22</cp:revision>
  <dc:subject/>
  <dc:title>Je veľký náš Pán, on slávy je Kráľ Nech do všetkých strán  spev vrúcnych znie chvál.</dc:title>
</cp:coreProperties>
</file>