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2D6-C832-45A7-99AC-6DA185B1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E3FE-C01E-41A4-AC41-FC847847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4D5-1BFD-40EA-A04A-FD6E2FBD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136-2878-457B-9F2D-C20DF003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BBD-76EC-4E57-810D-048201E9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E9D0-76F2-498C-A8EC-D318CC92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50B0-248F-40DD-996D-3B0B3801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2710-27C4-4C92-B63E-3A107D89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2087-8446-4B35-A886-3CA8918E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C17-9D5F-4E81-BA71-FE1D99DD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991-5D4B-40EC-B41E-83DAFB8C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6B97-BD19-4118-A1B7-77C00FC1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6FA2-F3D6-475F-A6E2-48FD85220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87 Na slávu Tvorcu svoj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slávu Tvorcu svoj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siedmy svätí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pred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ou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u moc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a v úcte korí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sobotný nám pripravil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tú najkrajšiu zo všetkýc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h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 chví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ievajme, jas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Bohu vzdávajm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Pánov pre ná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k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blaho zname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m od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nok náj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y duša znavená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sobotný nám pripravil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tú najkrajšiu zo všetkýc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h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 chví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ievajme, jas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Bohu vzdávajm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Pánov dokonané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m dielo zvest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d k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ým skutkom Tvorc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a srdce raduj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sobotný nám pripravil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tú najkrajšiu zo všetkýc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h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 chví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ievajme, jas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Bohu vzdávajm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už na tejto ze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Pánov vzácny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ým vzácnejší nám bu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o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j ot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n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sobotný nám pripravil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tú najkrajšiu zo všetkýc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h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 chví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ievajme, jas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Bohu vzdávajm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8:10:47Z</dcterms:modified>
  <cp:revision>22</cp:revision>
  <dc:subject/>
  <dc:title>Je veľký náš Pán, on slávy je Kráľ Nech do všetkých strán  spev vrúcnych znie chvál.</dc:title>
</cp:coreProperties>
</file>