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9D4-2DE5-4C1D-9E0F-2DFBB5BF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1DF-0C87-481D-9384-CF03AA2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8D2-254E-439B-BDDD-CD61F45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997-378E-4C18-8254-62D8BF0A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064-7585-4C5E-B433-E74DB46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32C-6D47-41A6-979C-53E7D49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724-B21E-4F13-B96D-6C13E1D9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501-3CF9-4233-8DD3-ADB6F9A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085-5539-4982-BE3E-83A7E408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524-F3C4-41FF-B1DD-8841BE4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270-E446-431D-AB89-B777E53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184-1219-49CF-B829-EBE4C03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85E-E24A-4774-A952-6AB8D0BE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8 Pán Ježiš z lásky ku m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z lásky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človekom sa stal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moje hriechy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spásu mi daroval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vzácnu vyl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ňal zo mňa ťarchu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poko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hcem chodiť stále s ním.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každej núdzi pri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Priateľ najlep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rdci bolesť cít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pomôže, poteší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vie, že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čistým živo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ťaziť v boji s hriech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silu mi dá len o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svo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iť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adostne ho ví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na zem príde zas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29:24Z</dcterms:modified>
  <cp:revision>21</cp:revision>
  <dc:subject/>
  <dc:title>Je veľký náš Pán, on slávy je Kráľ Nech do všetkých strán  spev vrúcnych znie chvál.</dc:title>
</cp:coreProperties>
</file>