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5EE-0A5C-4806-AEF7-75B7313D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499-D4FD-455B-B096-655FF80E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ECC-F13E-4E56-B53D-B4260158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2B3-D8E2-486A-984E-88F10552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D5F-F5C9-4E77-8215-1762120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F73-A392-4478-9A92-12A5F346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8A4-54EC-4790-81B2-C42FF726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2B1-E649-4A74-BA77-125E1F7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6CC-FD8F-4426-9216-8EE5849A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689-9CF4-4E59-84E8-574A24F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6EC-7B70-4610-B86C-764E4C2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DD8-3CB9-4614-9B47-B1B540D7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E3C-8247-4135-97ED-AC44A789A60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8 Prúd času rýchle odnáš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úd času rýchle odnáša tie chví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tvoja láska darovala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pred,Pane kráčať chc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novej sil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tebou vstúpiť raz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y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, Pane stále viesť nás Duchom Svä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lova tvojho nech n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deťom svojim, láskou čistou spä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mena tvojho šíri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ý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3:59:40Z</dcterms:modified>
  <cp:revision>12</cp:revision>
  <dc:subject/>
  <dc:title>Je veľký náš Pán, on slávy je Kráľ Nech do všetkých strán  spev vrúcnych znie chvál.</dc:title>
</cp:coreProperties>
</file>