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5B0-8151-409A-803E-638F5E37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BAA-EE25-464E-B2C0-DF1E3760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A00-A2D9-428E-A66C-A4201190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B6E-5FA9-4324-8EBE-A66CE5C2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C40-A507-495E-AF48-AF86DAD4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41B-B69F-4B4E-B2F5-88E8C69B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EEE-480D-44CF-B5D2-23736054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B94-4ECE-4A93-9646-F8B14512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4AE-4164-4480-B199-82C90A07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61C-0C51-4038-88DC-C521A81F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045-68ED-4D10-8A56-07006B74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C3E-8832-42E1-8513-0F22303F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7E1-8628-4885-83B0-39F878C0307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7 Spasiteľ zve ť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, keď slávou verných obdar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vé šťastie v srdci zažiar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radosť večnú nič nezmarí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Ó, Pane, idem už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asiteľ zve ť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poď k nemu dne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rným srdco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beť mu n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primnú vďak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chválu a č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ávať mu z lásky po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, keď slávou verných obdar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vé šťastie v srdci zažiar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radosť večnú nič nezmarí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Ó, Pane, idem u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ď domov, dieť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ď, kým je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lá ťa jeho láskavý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vie, či zajtra ozve sa z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meškaj už, len poď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, keď slávou verných obdar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vé šťastie v srdci zažiar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radosť večnú nič nezmarí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Ó, Pane, idem u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ôveruj smelo, blízko je Pán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hriešnych znášal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esti rá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údiacich volá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 všetkých str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čuj len, ver a poď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23:36Z</dcterms:modified>
  <cp:revision>30</cp:revision>
  <dc:subject/>
  <dc:title>Je veľký náš Pán, on slávy je Kráľ Nech do všetkých strán  spev vrúcnych znie chvál.</dc:title>
</cp:coreProperties>
</file>