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315-C0A6-431B-A9C3-818ED5C4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760-225F-4828-931E-34023ED4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840-6D50-4EEE-AC3C-E10ADB48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135-74A5-4781-B7A9-7D826FCB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93D-CF88-4F47-B204-5D860135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92C-B814-4E83-AAE4-85718AE5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D58-604A-462F-9C7F-F248F0DB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A8D-DE26-479E-8501-88DBE7CA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516-9DC2-4270-9591-2001B5FD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B18-8767-4F8C-9616-2A090D0F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7B5-04A1-45DE-91C8-7914E298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F7C-35A7-4A26-A35D-53FAFB7C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7B7C-4579-42C3-B46D-5F849A0726F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3 Za svedkov spásy, Pane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svedkov spásy, Pan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láskavo nás zve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kôr, než dielo doko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 ľud mať pri ňom chc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tvojej láske vzácnu zv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končín sveta máme nies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žehnaj sejbu v časn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moci  tvojej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pracovať a dielo dokon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ám si z vôle Otcove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ž na kríž, Kriste, ši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ukázal si k obnov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er cesty, žitia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nás tou cestou kríža veď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ktorej v svete spásy nie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j dobrý pomôž bojo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ieru v teba zacho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ž do konca, tam v sláve u Ot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, Pane, uč vždy pamät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tvoja božská moc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vo tme svetlo zažín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remôcť smrti n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u mocou svojho vzkries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splníš nádej spasenia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sláva ti na výs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život nový v rad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dať chceš nám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z lásky, Pane s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stane už utrp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 zlo sa pomi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 zástupmi vykúpen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e s Pánom bu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zne tmavej noc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ri pravdy pocho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už skoro príde, tešme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pravme sa na ten deň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5:54:47Z</dcterms:modified>
  <cp:revision>47</cp:revision>
  <dc:subject/>
  <dc:title>Je veľký náš Pán, on slávy je Kráľ Nech do všetkých strán  spev vrúcnych znie chvál.</dc:title>
</cp:coreProperties>
</file>