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68E6-2885-4C4E-A8CA-5F395BDBB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DEC8-62DF-485D-9A32-71A002BC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C947-91C6-44DF-949B-4FFF6D182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B4F4-D52A-43FE-9E69-225A2C81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4CA2-0BDD-423D-B20B-584A3D19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82E6-4A8A-4948-BCBA-BCB47C29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E8FF-FD51-4FA9-9E75-D5C07EA9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4AE3-9F3C-4DD7-8D25-4B210268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4E27-2D87-450B-843F-7A21D138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126B-91D7-4AD1-A5C0-1D3F02FA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BE99-2645-4F04-AAF6-4A734629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4EB2-5497-4989-AF21-7EB0C676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6D99-3124-41C6-B551-2C99F3CFEE47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35 Rozsievajme vša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/: K práci volá nás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ov jasný hl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atva je už blízko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zrieva už klas. :/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ozsievajme všad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zácne semä pravd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vesť o Božej lásk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šírme zas a z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uchom svojím Pán tú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iatbu našu zvlaž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zácne zrno dozr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íde žatvy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/: K práci volá nás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ov jasný hl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atva je už blízko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zrieva už klas. :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ejme, keď sú mrak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keď slnko svie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i je voda skalná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či nechuť v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lia nedozerné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áce všade mnoho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atva je už blízko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ýchlo letí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/: K práci volá nás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ov jasný hl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atva je už blízko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zrieva už klas. :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zbierajme snop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rne, v svätej bázn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ým nás volá k diel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žej lásky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skoro sa skončí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íležitosť k prác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š Pán je už blízko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žatve dozrel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4:03:40Z</dcterms:modified>
  <cp:revision>39</cp:revision>
  <dc:subject/>
  <dc:title>Je veľký náš Pán, on slávy je Kráľ Nech do všetkých strán  spev vrúcnych znie chvál.</dc:title>
</cp:coreProperties>
</file>