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0B0-547B-4915-B0E3-DC13C8AE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478-5275-4F6F-8D70-1AF361F9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514-4AFB-44E7-933C-5885AF05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BF1-D069-4FDE-B357-51A9682F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1B5-0AFC-4234-A8C4-79976D6F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2E6-4F65-48D1-88BE-098055DC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D5F-4038-4FEB-B227-35BB2A68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E02-1083-47DD-944B-498C9F20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CA9-A9BE-4D3C-911D-75662DAC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E1D-4E74-42E3-8304-CD9E121C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3B9-0B71-4105-BA47-2FC4D83E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F28-67B0-4AA6-84A7-5E591CA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6CF9-3C13-475C-BE79-A6185B1C249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6 Tak mnoho prác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je vôkol n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zlomnou viero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ľaď stále na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vedkom lásky jeho sa staň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celý, stíš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Je doba vzácn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milosti č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mnoho práce je vôkol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tva sa blíži, dozrieva k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ltnúce lány zvestujú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koro príde náš drahý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celý, stíš s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doba vzácna, je milosti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Božej láske šíri sa zv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svetlom pravd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ľudí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ľutuj času, neboj sa strá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znamuj spásu, pomáhaj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celý, stíš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Je doba vzácn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milosti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, čo ľuďom sľubuje sve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klamné zdanie,vädnúci kvet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vá len Božie zasľúbenie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v Boha dúfa, nezahy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 celý, stíš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Boží hlas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Je doba vzácn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milosti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si ho prijal, šír jeho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olstvo vzácn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š svetu niesť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4:24:48Z</dcterms:modified>
  <cp:revision>40</cp:revision>
  <dc:subject/>
  <dc:title>Je veľký náš Pán, on slávy je Kráľ Nech do všetkých strán  spev vrúcnych znie chvál.</dc:title>
</cp:coreProperties>
</file>