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BFB-B9E9-44B3-85E5-D4200AB1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26B-8E7A-4846-989F-378DCA57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C60-AB10-4566-B071-418E371D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4E6-524B-4398-81E4-6D487511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C62-EC74-43D2-83A4-3B9AEA7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4B8-7C66-4A77-83CF-2B2E913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7D2-D39E-4A51-8B7C-28EE71A1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914-A109-4898-A1F1-FEC5514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80B-B756-4AF8-B254-6698132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B71-0A89-47B5-B621-67ED2889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E10-28D0-4A59-A956-A1B16C3A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929-17B8-4AEF-8E73-15DEC94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58FD-6A66-4848-BAB5-CA8AA16ACF8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6 Nech nám srdcia plní rado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nám srdcia plní rad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osti a lásky ci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ec v nebi zve nás deťm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my smieme jeho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sláv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nás ako Otec vern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ie, chráni, žehn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ú bolesť láskou mier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keď občas trest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slávy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rázcestí keď nám vol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eba správnu z rôznych cie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ánom smieme vždy sa spojiť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domovu on chce nás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tný tón našej p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ŕdc vložil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iť nás chce smútku ties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ízko je už slávy cieľ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33:07Z</dcterms:modified>
  <cp:revision>77</cp:revision>
  <dc:subject/>
  <dc:title>Je veľký náš Pán, on slávy je Kráľ Nech do všetkých strán  spev vrúcnych znie chvál.</dc:title>
</cp:coreProperties>
</file>