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257-083F-4D29-90F9-05255EC0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639-A035-40D8-BF39-EEE0AA47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A1B-55F8-413C-8EA6-6AE96458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BAC-037D-4F95-8933-898ED0C3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2F7-7885-463D-B0EF-50889E6B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EA6-7299-421D-8106-2E83EDEA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866-453E-4D78-80AD-72A92DC2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B70-B30A-4EBC-A37E-884C582A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1A2-1A21-4281-AE77-68390C06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886-128B-4C6A-B3EE-2EB3A938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7FE-78A4-4633-9DE5-02B11360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7C9-EE05-4D88-A2F4-8B599FC2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EFCE-3470-4B02-8509-559FA5649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5 Tebe, Pane, odovzd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be, Pane, odovzda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verím život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ieni každej dávaš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íšiš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ďku žitia môjho ve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úrnym morom útrap, bi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brehom mieru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už vier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á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boj krutý neraz nú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eniť plavby sm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tvojho Slova čujem znov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boj sa, len 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ma tiesni nástrah s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už sily vo mne ni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cou Slova nádej no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áva viere vzl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 spásy cieľu, Spasit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rak svoj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de je čistá radosť 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 svoj domov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láskou prijmi biedn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yna márnotratné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 ťa chváliť, vďačne slá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ána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ého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22:30Z</dcterms:modified>
  <cp:revision>22</cp:revision>
  <dc:subject/>
  <dc:title>Je veľký náš Pán, on slávy je Kráľ Nech do všetkých strán  spev vrúcnych znie chvál.</dc:title>
</cp:coreProperties>
</file>