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CBD-4A8E-44D9-BECD-41C7424F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98D-F586-4C3E-AD6D-D944EE8E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56F-8084-400F-BB5A-D0FFB3F4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C94-BF83-4BAC-87AF-E4FF4293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8E9-6189-4F46-A126-D022DFA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23D-7F4D-47F6-9331-1305A396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880-2A8F-4030-8A81-FACAD14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86F-9A24-4227-BAEE-44699F92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4F3-C794-46EA-8AD0-0EC13D49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A7C-6892-40CD-B8AF-A31DAC10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876-68FB-4F3D-A746-23DB045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D14-C4AE-49D3-821B-BD21798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339E-C9F9-48C7-98EA-699CE2064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2 Už otvorte sa, krídla b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otvorte sa, krídla b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môže voj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Kráľ a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večný Vládca víťaz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chranca náš všemoc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ojde slávny Hrdi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jeho veľká, bezmedzná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plnosť krásy, svät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arca všetk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Kristus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lásky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človek nikdy nie j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n dom 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ný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šetci túžia s Páno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srdce jemu otvor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áskou k nemu zaho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 večne bývať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obdarí ho spas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pasiteľ náš drahý, prí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obraz 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obnov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oviesť nás do slávy b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š si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h a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3T07:29:20Z</dcterms:modified>
  <cp:revision>8</cp:revision>
  <dc:subject/>
  <dc:title>Je veľký náš Pán, on slávy je Kráľ Nech do všetkých strán  spev vrúcnych znie chvál.</dc:title>
</cp:coreProperties>
</file>