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D64-D5A3-4E07-B4CA-FF2566E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253-321B-45E0-B817-39391A92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AEE-D06E-4FC7-8D4F-ADEB166A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A61-300D-424B-9F93-123D079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0C4-C5E3-4B5E-96BA-D65A2B3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007-3BA4-45F1-8268-B4A910E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BD4-E784-4C08-AFB0-114B87C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025-B476-4F6D-A549-57DAB8D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2A8-CE02-4230-90D1-90134C0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5ED-EA6A-431D-8E59-0C33303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886-4254-4158-9E66-1B418774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8C0-7343-400B-8774-2D367FC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FE5-C1BA-4AB7-B1A2-5BC0B7B3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3 Teba, Bože, chvá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a, Bože, chváli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tak hriešne, biedne plemä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ou sa korí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ývame ťa z prachu ze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čnosti ty si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Tvorca, Vládca,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mi, Otče, obeť chvá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ti z vďaky prináša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si svojho Syna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tor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l si Ducha Svät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šiteľa ver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njeli ťa v nebesia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prestajne oslavu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e meno veleb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o všetko vyvyšu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em je podnož tvojich nô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 Boh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3:59Z</dcterms:modified>
  <cp:revision>9</cp:revision>
  <dc:subject/>
  <dc:title>Je veľký náš Pán, on slávy je Kráľ Nech do všetkých strán  spev vrúcnych znie chvál.</dc:title>
</cp:coreProperties>
</file>