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3D0-4385-4D95-9633-C9C6F3F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0D3-F192-4438-85E4-F3CFE099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C28-491A-44F6-B95C-9BB6F3E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E75-ABE0-4976-BC13-93187375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72A-2CB3-4D84-B494-578D7D9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B3A-6EC0-4299-81B2-555C16D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632-D5D4-4195-9DF8-B384FBF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B6A-2100-410F-8490-F41B617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5C5-0DF3-42CD-95F0-93C47149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06C-3D02-44B9-9380-B725AE2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47A-DD30-48B4-8BEA-BC39346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966-9318-4E34-A733-28EE770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5C8-0DFD-4167-AC30-61C65CD0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0 Na milosť tvoju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tvoju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očakáv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tane sa čo 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súžení sme, v žia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úcit s nami m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, utrpenie vzdiali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voju milosť d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únava nás zmá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ápas ťažký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náruč nezatvára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ť novú silu vi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vodcom naším stály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opraj z mil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mieme raz ťa chvál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večnej rad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8T10:49:08Z</dcterms:modified>
  <cp:revision>21</cp:revision>
  <dc:subject/>
  <dc:title>Je veľký náš Pán, on slávy je Kráľ Nech do všetkých strán  spev vrúcnych znie chvál.</dc:title>
</cp:coreProperties>
</file>