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4F87-B9A2-4586-BF90-5DB0DA6D8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7ADC-4F2E-46A2-97BC-D3C235C8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52FF-9E59-4DC6-92EE-38707ABFA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64A3-7B83-4747-A579-7427B9E6D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5F0B-6549-4885-9AB6-550FADB7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A979-378C-4647-BBE9-67F740D6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79C2-8B2D-4B0C-8908-B45DABFC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FDDE-6606-49FF-B689-F76C10E1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A6DA-7379-46EC-A9A9-2A93286E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5DB1-CFC0-49B8-9D74-1B9EAC38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C466-F2F2-4868-BCBC-A5080A10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3044-1BBC-4A87-A01D-32D7E29D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9A0F-03C9-4FF5-93ED-BA97B14B1536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42 Radostná zvesť o spasen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izne tmavej noci ti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ari pravdy pochod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už skoro príde, tešme s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ipravme sa na ten deň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dostná zvesť o spasení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nie už všetkým národo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namenia sa napĺňajú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d Kristovým návrat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šade verné Božie de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rojanjelskú nesú zve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udca je už predodverm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zdajme Bohu slávu, č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izne tmavej noci ti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ari pravdy pochod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už skoro príde, tešme s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ipravme sa na ten deň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lízko je už doba slávn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dej sa raz vypln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Pán túžby našej vier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skutočnosť prem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 tône smrti, z hrobov prach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ov hlas keď zavelí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í čo v neho uverili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tretnú sa s ním pri ciel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izne tmavej noci ti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ari pravdy pochod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už skoro príde, tešme s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ipravme sa na ten deň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láda hriechu už sa skonč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stane mier na zem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pasiteľ nám zaruču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čný život blažen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stane už utrpen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šetko zlo sa pomin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o zástupmi vykúpených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čne s Pánom bude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Dusan Bielik</cp:lastModifiedBy>
  <dcterms:modified xsi:type="dcterms:W3CDTF">2010-04-03T11:19:15Z</dcterms:modified>
  <cp:revision>47</cp:revision>
  <dc:subject/>
  <dc:title>Je veľký náš Pán, on slávy je Kráľ Nech do všetkých strán  spev vrúcnych znie chvál.</dc:title>
</cp:coreProperties>
</file>