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DB8-C253-42AE-A807-B9448DA4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11F-F13A-41DD-BE59-7C00C787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E0F-4260-4CF6-B29C-AE34043B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CE9-1372-4493-A9A9-A808F583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971-1202-4D5A-85B9-A657E9EB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DCC-DF7B-4BE6-B65D-3C856F46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F48-5828-4E70-9814-D8BC8577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078-2D4B-49C1-8260-7A954901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E08-B3F7-4CF9-93A2-547CDA7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10F-0576-42F4-BCE9-A1EEC90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0CD-474E-4ACC-950B-D113D43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AF1-0062-401F-A01E-B80308B2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8391-C919-4ECA-A6BB-15422423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8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k nám zaví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ov deň k nám zaví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ebies pokoj do sŕdc vli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 zdroju živej vody z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e nás Bož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ísľubom je nových kr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oc hriech z raja vyhnal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dzvesťou tej rad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nám Pán dá z 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lažuje v 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tiu dáva nový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ustatým síl obnov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lúdiacich zve k domov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tokoľvek chce, prija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tcovské to pozva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ráť sa domov, dieťa vr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rado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, pokoj chcem ti d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24:07Z</dcterms:modified>
  <cp:revision>22</cp:revision>
  <dc:subject/>
  <dc:title>Je veľký náš Pán, on slávy je Kráľ Nech do všetkých strán  spev vrúcnych znie chvál.</dc:title>
</cp:coreProperties>
</file>