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31D-EB25-44DA-98FB-36C563B6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E30-533A-4BCD-8041-0D1A3B7F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0C3-2AEA-41D2-96E4-704A0009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D3B-60A1-491F-8E0B-09F92F1D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7A3-24DB-4D6F-82E3-0EA682D7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D84-8436-4A73-B0B0-46F0459B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0BE-BDFD-4A18-A4D9-456D611E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61F-9C03-4727-86C8-9AEDBD29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965-CAA6-41EB-AD1A-74B6120D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AEC-A128-4325-94AB-0E8752F1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5B6-F7BA-4542-BA67-AEBEFD14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E32-A093-40C4-BDE8-A79AF268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A5CA-20E7-4559-B5D2-C2137EE48BF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5 Do diaľav sveta, Boží ľ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diaľav sveta, Boží ľu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s radostnú zvesť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je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k nemá biedne zahynú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počuť chce dnes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í hlas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pravdy Božej pochode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 svetla svetu prináš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šíri radosť deň čo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mračná dušu povznáš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ez závoj sĺz smie nádej zrie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Boží maják v príboj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čuť spásne slovo znie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rany sveta zahojí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spáse túžia zástup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ch milosť Božia nasý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zloba pravde ustúp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 lásky srdce pocí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7:07:26Z</dcterms:modified>
  <cp:revision>49</cp:revision>
  <dc:subject/>
  <dc:title>Je veľký náš Pán, on slávy je Kráľ Nech do všetkých strán  spev vrúcnych znie chvál.</dc:title>
</cp:coreProperties>
</file>