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21DE-EAAA-4C21-AFBE-75A7688D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24C9-020B-4CA4-9FE6-A9E2AC45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BEA7-AAE4-4650-8533-1463A729F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1B8D-2E04-4367-BF19-F26039E48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4814-51C6-437C-9842-634BA0DB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6EBE-84BA-4B45-8260-0BFDC84F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A25A-6E6C-4697-8EC1-D83117DA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8A50-A320-40E7-863D-936C8ED7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15AF-4B78-4E3F-AD78-242E55C0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0225-0C3D-4798-BFC9-D4DCF0DD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8990-B316-4C6A-A39F-18186534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C2BC-3CB9-4014-A95A-0AC8F585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4BCD-B7FA-4C94-BDFF-5D0BDF1D6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47 Ó poďme a chváľ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už pristúpme pred ne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 Krista láskavé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zývajme len je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náš je Pán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Ó poďme a chváľ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ho Spasiteľ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prišiel sem z neb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kvôli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v neho dúf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minie sa cieľ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už pristúpme pred ne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 Krista láskavé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zývajme len je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náš je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chválospev vrúcn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ebesiam sa vznáš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v Kristovi k zem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a skláňa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istota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evná nádej naš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už pristúpme pred ne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 Krista láskavé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zývajme len je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náš je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Pánovi od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ďaka, česť a sl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zvesť o ňom let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všetkých strá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celý svet ne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mu chválu vzdá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0:14:05Z</dcterms:modified>
  <cp:revision>31</cp:revision>
  <dc:subject/>
  <dc:title>Je veľký náš Pán, on slávy je Kráľ Nech do všetkých strán  spev vrúcnych znie chvál.</dc:title>
</cp:coreProperties>
</file>