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4A3-C7E3-4BD7-85BB-8B29887D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8EE-2309-4050-997E-80C38544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B0C-41BE-4B75-BC24-29B85B85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5C9-F450-437C-9E23-1C1DBCC7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030-599E-4EBE-9A85-9C081CF1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207-0778-4D36-8FFD-C41417D5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6D6-9263-427B-9D3A-31F7AC37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B50-8521-4C2C-B486-63810076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20A-5DB8-4ABD-B363-ED848B00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684-8894-4DB4-A94B-582706F6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933-7B08-40B8-A702-EEA5BC67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2B5-A713-4EA9-A146-7E2F900A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4181-0A82-4197-B741-B18EBDE9336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8 Nič nedaj na zvodný hlas pokuš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lu Spasiteľ dá t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, pokoj ti vrá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oc hľadaj u ne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a všemocného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Nič nedaj na zvodný hlas pokušenia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hriech vábi, ak nebdieš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hneď v moci ťa má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uď vo viere stál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pomôcť vždy vi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dôveruj jem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ňom záchrana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lu Spasiteľ dá t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, pokoj ti vrá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oc hľadaj u ne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a všemoc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lá spoločnosť zvádz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ak v raji ten had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ak poznáš, že mál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môže t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čisté, to milu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z pravdy, ži v to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ľad na Krista Kráľ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r, spása je v ň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ilu Spasiteľ dá t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, pokoj ti vrá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moc hľadaj u ne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a všemoc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víťazov chrabrých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 privítať ta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nebude hroz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nijaký kl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zlého sa odvrá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 Kristom sa s spo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ak denne môžeš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iesť víťazný b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11:00Z</dcterms:modified>
  <cp:revision>90</cp:revision>
  <dc:subject/>
  <dc:title>Je veľký náš Pán, on slávy je Kráľ Nech do všetkých strán  spev vrúcnych znie chvál.</dc:title>
</cp:coreProperties>
</file>