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4B36-2824-4BA3-9C51-CDA45ABF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A58-BD4E-4177-96DD-0B90126D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D2E-07BA-4C16-8226-4A748CEC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265B-F35B-4F5C-BD21-5C00C754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892-F8BA-4642-B56F-55E40557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F06-E0C0-4D9F-864A-8CA40930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CB7-3D7A-4777-A2DD-9F178CA9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359-8453-456F-A75F-02E0AF2E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298-7ED0-4346-B9BB-B776929F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4CEC-E604-4470-92E2-1E252733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70D-0249-4E0C-BE4C-09CC1E93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A24-B336-4C2B-B974-0C04D0B1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056B-91E7-48FE-948E-ED0AE3BA7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5 Všemohúci Bož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sám si náš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, Kráľ, svetlo, kr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ť, naša spás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mohúci Bož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be patrí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ud tvoj v úcte česť ti vz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zhromaždení svä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korne a vďač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ýtiť chceme duše lačn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sám si náš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a zdroj stál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den našej chvá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rítomnosti tvoj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erubíni slúž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ôľu tvoju konať túž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ätý, svätý, svätý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ejú nebies chó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 sa ti v úcte kor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Tvoj trón piesní tó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vďakou našou le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e, Otče svät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rítomnosti tvoj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a sveta sl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ýchlo vädne, opa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ozum, vôľu, cit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aždý dar, čo má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láskou tebe odovzd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5:06:14Z</dcterms:modified>
  <cp:revision>11</cp:revision>
  <dc:subject/>
  <dc:title>Je veľký náš Pán, on slávy je Kráľ Nech do všetkých strán  spev vrúcnych znie chvál.</dc:title>
</cp:coreProperties>
</file>