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969-7D56-48E8-B9E9-9163F840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0A8-0982-4FF6-819A-C8F1511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C14-DA9E-4391-8970-DBF384F4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3BD-2BB9-442B-A185-A5C04037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C3C-D78C-4660-AC45-025C44A1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4C1-7E30-493A-AEAC-4B9D0D6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3AE-226A-40E5-A234-916F35C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AF3-5885-42F3-BE3E-1C64C02B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297-69AB-4E82-8531-2B3EBFA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660-9D68-4BB0-B2F9-1BFDE3F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31F-D89E-43C9-B947-213B3B3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6E2-43CB-4172-A792-9A11B08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247-F042-4501-B52E-DC9B84952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8 Chcem byť tvojím vďačným dieťať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byť tvojím vďačným dieťať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 môj, Otče môj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ysloboď ma z žiaľ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ete zl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íš môj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 celým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a zvádza hrie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veta kl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sa, Pane, utiek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spás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 celým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zmiet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rážoch márn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ma sám, veď ma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ým svet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k več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voj domov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, k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sa privini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len, tebe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om celým patriť chc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22:20Z</dcterms:modified>
  <cp:revision>20</cp:revision>
  <dc:subject/>
  <dc:title>Je veľký náš Pán, on slávy je Kráľ Nech do všetkých strán  spev vrúcnych znie chvál.</dc:title>
</cp:coreProperties>
</file>