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7EA-12BE-4150-8710-2B5C8864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51B-EFD0-41C6-9009-8A50C60A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8E8-F7C8-4E3C-8C69-F8425C43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938-49DB-45DC-B6CF-39ACDCD1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F4E-BA3B-4233-9EA2-5B4967DC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EFE-59F4-4C77-BD58-422A97E2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7D1-B295-4212-AADA-F83C0081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406-CC24-4AF4-9EA3-8C657F45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119-9342-4FD0-94EF-9BC529FD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337-CA50-4194-9EE8-E9F0D870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49E-1D6C-42B2-AF05-F1B340C1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758-F657-4034-BAFE-6680951E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1C8E-9AF7-4E0B-9CC3-AB742E8D2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9 Božie Slovo skúmaj den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e Slovo skúmaj den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radosťou ho otvár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os o jeho pochop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y Pána prijím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úmaj Písmo, Pán ti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e Slovo, Knihu kní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e pravdy srdcom cel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návaj, ži podľa n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uj, váž si Slovo sväté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vorí v ňom Pán Boh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 ťa viesť na tomto svet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zkou cestou k nebe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úmaj Písmo, Pán ti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e Slovo, Knihu kní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e pravdy srdcom cel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návaj, ži podľa n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m slovom sýť sa stá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ch, čo blúdia, k nemu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i v láske neskonal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u tvár dá večne zr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úmaj Písmo, Pán ti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e Slovo, Knihu kní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e pravdy srdcom cel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návaj, ži podľa nic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5T11:26:20Z</dcterms:modified>
  <cp:revision>19</cp:revision>
  <dc:subject/>
  <dc:title>Je veľký náš Pán, on slávy je Kráľ Nech do všetkých strán  spev vrúcnych znie chvál.</dc:title>
</cp:coreProperties>
</file>