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D75-7798-4059-B38D-C9F4D098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990-0A97-4BB0-9EAF-BD1A56B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611-2712-494D-8803-5C29CEBA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1F1-36D4-4063-8D0D-CFF4E1C4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7C2-AA59-48C7-A147-C886579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643-C909-4429-83B8-27F836A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3BB-3180-4B8B-9EC0-7E51BD11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C14-839C-479F-BB08-ECA5644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715-6128-4ABD-9AF7-5A47E79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AD1-E619-4726-A502-02A3B73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8E8-35C2-483D-A61D-4A57E43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A33-38E7-42D9-AC69-38979444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130-06FC-44B2-B769-2FA5916B9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3 Byť blízko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blízko teba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vrúcnu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 hriechom zvádzam márny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ápasím le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lákal by ma sveta k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ich osí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íl mi čeliť nástrah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večnej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Duch tvoj, Darc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býva, vládne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lovek vzdá sa odb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tvoj dbá len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dávaš, Pane,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duši strápe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 k nám už tvoje kráľovst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bav svet moci zle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38:49Z</dcterms:modified>
  <cp:revision>20</cp:revision>
  <dc:subject/>
  <dc:title>Je veľký náš Pán, on slávy je Kráľ Nech do všetkých strán  spev vrúcnych znie chvál.</dc:title>
</cp:coreProperties>
</file>