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4A9-3AF8-4B40-B2DE-6E81120A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274-6A7F-415E-872C-38B49C6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A7C-9AC9-4B9A-8101-42F10F17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BB4-BFFE-4E0D-B321-2BE73400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80C-E2FB-4CDA-B6E3-BE83543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00A-7FFD-420D-A18E-EEB0DD50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2B4-14A7-4E62-8CA8-E3667D76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AE5-55B2-4395-AFBA-9714F74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23E-1027-4CED-ACB1-C187265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080-7993-4BB4-A42D-A5787C9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F64-EAE7-4298-8864-460A188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CF7-0160-4E4D-A879-59BBE88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A9C-FC9F-4886-885F-415B49B3AEF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8 Keď súmrak halí strá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úmrak halí strá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tíchnu údol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tebe, drahý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úžby rozhor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úžby rozh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ruža vôňu sv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 vôkol rozd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pieseň vďaku moj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tebe prináš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tebe prinášať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d svetom už zľah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prestrela svoj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ebe patrí vďa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uplynulý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uplynul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šetko teba,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rúcne veleb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chválou bez prest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voje meno ct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voje meno ct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19:53:54Z</dcterms:modified>
  <cp:revision>60</cp:revision>
  <dc:subject/>
  <dc:title>Je veľký náš Pán, on slávy je Kráľ Nech do všetkých strán  spev vrúcnych znie chvál.</dc:title>
</cp:coreProperties>
</file>