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2DAF-8E10-4E77-B468-0F58FBE5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4C13-3A40-4B79-82C6-7E0D2DA8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AE19-619C-4844-AE71-14573744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7EE6-21B2-4198-AE76-AF924B626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ADDA-9753-4BF4-95E3-165BE6A0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95D8-95D1-44BE-86BF-59BD2F35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C2B3-9CD3-45A4-A807-E6C9DF4F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06AD-E40A-4797-88C5-485D60E2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1D01-F3D6-48F9-9E5E-01364639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1039-D125-4516-B887-B5A7A078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6300-EF90-4ED2-8824-C75A3226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0915-FBA2-4BA9-B233-1239435C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A45A-D550-4576-9937-422B11DDC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85 V mysli rád zaliet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ma neopust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aj kríž dopust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to sa vždy spoľahnúť smi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 sebou cieľ svoj zrie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odvahou kráčať vpre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 kríž niesť vžd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atočne ch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rdce vďačnosťou prekyp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môj hriech zomre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í Syn sá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kríž pre mňa zárukou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v ňom záchranc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ého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ova krv tiek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enie prinies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 záchranu iba v nej m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pásnu moc veriť sm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mňa Pán trpel, v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raz večný život mi d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rdce vďačnosťou prekyp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môj hriech zomre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í Syn sá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kríž pre mňa zárukou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v ňom záchranc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ého m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mysli rád zalieta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, kde môj drahý Pá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ríži sa obetov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horký kalich p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ma vykúp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ám za mňa život svoj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rdce vďačnosťou prekyp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môj hriech zomre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í Syn sá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kríž pre mňa zárukou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v ňom záchranc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ého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vou kríž skrope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e je docene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 neprijal najväčší D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nohí ho zavrh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ou opovrh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pre nich nič neznamen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rdce vďačnosťou prekyp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môj hriech zomre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í Syn sá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kríž pre mňa zárukou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v ňom záchranc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ého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4T19:04:51Z</dcterms:modified>
  <cp:revision>20</cp:revision>
  <dc:subject/>
  <dc:title>Je veľký náš Pán, on slávy je Kráľ Nech do všetkých strán  spev vrúcnych znie chvál.</dc:title>
</cp:coreProperties>
</file>