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FFF7-9CFC-4016-A79E-270CC0AE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5DDD-0AA1-4342-8E34-04FF2A2E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FF1D-2688-4BC6-BA34-98F30A66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2181-617C-49B9-A0C5-ABAF05A87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4FB9-8575-44F3-B1B6-49684044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8790-F246-487E-B2BD-63C11EF0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7231-C0E7-4E85-A0E9-B65F4901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B9E9-F78C-4405-B459-2DF4A694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650D-ABE3-4C89-90B0-A5BE55F2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A583-3587-4659-82A8-36F10598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3371-AF9B-4ABD-B274-D531EE81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229D-F9AC-4CB8-97DC-3193E1C6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385F-9E09-4875-95AB-A873909B6580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20 Ježiš prišiel hriešnych spasi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žiš prišiel hriešnych spas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baviť ťarchy ví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e ťa náruč otvore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í Sy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by hriech tvo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l jak šarlát dvakrát farbe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ho rád za biele rúc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m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 len Pánu Ježišov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oľ si lepší di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iechy sníme, radosť vrá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6T12:10:32Z</dcterms:modified>
  <cp:revision>20</cp:revision>
  <dc:subject/>
  <dc:title>Je veľký náš Pán, on slávy je Kráľ Nech do všetkých strán  spev vrúcnych znie chvál.</dc:title>
</cp:coreProperties>
</file>