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CD9-B55F-4274-85AC-5F14ACB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54D-25FD-4312-8842-54BDFBED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4AA-40BC-404B-899E-7C3789EB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43B-8BCF-42A2-884D-8CBAAD53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FC6-8927-4345-8B2F-47C3115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5C6-0804-4B81-A19C-8433E6B7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DA5-D256-4107-AAB0-A2B1F8B4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C78-5202-4EF9-877F-FEF29F62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153-C442-41AB-AF79-A0C1EA9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957-E210-4C8F-9567-BF92287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41A-E276-4344-9EC7-2F474E9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26D-86F4-4568-A722-4FBBD40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304-7483-4B51-9650-517CA44E2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 Vzdávaj česť Pánov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covi zeme i neb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úctou a v pokor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nne mu odovzdaj s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e ho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je tvoj nebeský Kráľ, pamätá, ver, aj na te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elý vesmír sám riad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okom láskav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e aj na teba hľad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oho sa te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ať v ňom ochrancu smieš, on vždy ti len dobre rad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 česť Pánov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ň čo deň sláv meno jeho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 celý život sv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uj Všemohúceh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vetla zdro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iteľ, Záchranca tvoj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i sa len na neho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21:06Z</dcterms:modified>
  <cp:revision>9</cp:revision>
  <dc:subject/>
  <dc:title>Je veľký náš Pán, on slávy je Kráľ Nech do všetkých strán  spev vrúcnych znie chvál.</dc:title>
</cp:coreProperties>
</file>