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0AA-0688-4B55-AA55-294D1C2B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CAD-E9DF-4508-A962-EC80F7E6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9CA-E6EB-4505-B0CF-405245DC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254-B9C1-4469-BBCD-70001FB5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798-91D0-4CC9-9134-9C707369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517-4EE3-446B-828E-4ACC5BED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49C-C865-4C00-9C21-A886C2EB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EE6-34CE-44AC-878B-F91BBA96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C7B-A2BD-48CF-B0A3-9229AB5E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79C-4853-4F80-92F5-6A55C9E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F46-7D7B-4662-B9E5-C7E3BAC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93E-84AC-4B82-823D-946B45CD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4F7F-CFBB-4D4B-AC52-386227898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7 Tvojím chce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ím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ť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rahý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4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e moje zmocni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 ňom stále túžba pl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dieť vierou 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e rúcho nie je čis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bohý je odev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 ráč ma odiať,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 vzývam, chcem byť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 môžem kráčať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ma zvádz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om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i vodcom v žití cel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premil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keď neviem, čo ma č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, a či tráp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čo mal by som sa ľak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o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tálym zdrojom si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ej chvíli, v každ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premilý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10:14:10Z</dcterms:modified>
  <cp:revision>21</cp:revision>
  <dc:subject/>
  <dc:title>Je veľký náš Pán, on slávy je Kráľ Nech do všetkých strán  spev vrúcnych znie chvál.</dc:title>
</cp:coreProperties>
</file>