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DEDA-C6AF-4279-B5D9-B53C2B278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A19A-C2B3-4AAE-9D95-6D29CDF91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6266-9560-4B20-9600-439CCC784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07F1-D74D-4460-9CA0-54FF5B9DF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BB43-50F1-4714-8438-E5EEDFFFA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AA82-ADD0-42E4-80A2-1B9D94318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00A8-545A-4421-A82E-738447AA8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7EFF-02DD-4B28-BF14-2C687B55F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77D5-A8EA-41C8-BBEF-F4F1032D5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2BC8-C77D-42FE-BBC9-5D8FAE9D7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44E0-0656-40A9-8194-BA3756EC8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C3D9-92FB-4510-B985-250622868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564DB-5765-4B5A-AE12-14591439BC0E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70 Počuj našich prosieb hl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očuj našich prosieb hlas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šemohúci Pan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hojnosť darov v každý čas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áme z tvojej dlane.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ám aj tento manželský pár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šetkým, čo im treba, obdar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ieru, nádej posilňuj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rdcia láskou naplňu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ernosti sľub stvrdzujú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tomto dome tvojo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uč ich, nech ti zbudujú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chrám aj v srdci svojom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ktorom sám by rád si býval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radosť dával, slzy stieral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aril svojou milosťou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ol ich stálou radosť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Uč ich kráčať životo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eba nasledova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pohode aj v čase zlom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ždy ti dôverov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omôž deti vychováva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lížnym slúžiť, lásku dávať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ich dni sa pominú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aj im v tebe spočinúť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8T08:01:35Z</dcterms:modified>
  <cp:revision>71</cp:revision>
  <dc:subject/>
  <dc:title>Je veľký náš Pán, on slávy je Kráľ Nech do všetkých strán  spev vrúcnych znie chvál.</dc:title>
</cp:coreProperties>
</file>