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B7D-36E1-42BD-94BC-22ECC0AF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915-8C69-4763-9A32-B476FAD5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6C6-6237-4189-9E25-DD5546CA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2C6-0DE6-4594-B053-6D6E8342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2CD-27D0-4379-A08D-0E46C0D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5C0-80C9-42B2-9E1E-41E5F73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FA6-D088-4818-9347-F2BD433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BB1-816D-4549-985B-ABC134E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27E-0278-4A26-BFB2-A3C1FEA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42F-1D81-4F54-ACDF-9360DED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C97-0A92-4E91-A159-70B5B90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C7F-859C-4F6E-A340-6AB7FDF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97A-B60C-461C-9FAF-301E15588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0 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stúp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zostúp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buduj si v nás svoj chr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eň z neba, kiež tvoj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ameň viery nieti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u Svätý, mocne v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zo spánku, svieť a hre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verných tisí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ôsob nové Turí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tvoja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ôže v nás hriechu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ládne aj život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naša vern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vždy nás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m svetlom do tmy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vieru posil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pravdy utvrdz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u Svätý,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íme o nová j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z nížin pozemsk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krás večných, nebesk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1-01-05T13:46:45Z</dcterms:modified>
  <cp:revision>14</cp:revision>
  <dc:subject/>
  <dc:title>Je veľký náš Pán, on slávy je Kráľ Nech do všetkých strán  spev vrúcnych znie chvál.</dc:title>
</cp:coreProperties>
</file>