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26B-5BA9-4FF5-85CD-2298E838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777-C012-42C6-B8F4-C5FC9C67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300-3050-461C-A4D7-342C358E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116-859E-454C-8983-125C74C8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69A-E856-4725-AB68-F4392FF7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3E1-F8E3-469F-8790-E2CFC43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562-046A-41D0-B887-8D778907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97E-FD30-46E8-95D9-4366E34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5AE-9C4B-4C89-8B85-02B55D5B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802-10DF-4997-A8EC-0812686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8E1-5F37-48AD-BC70-C86431E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F66-FE51-4972-9BF1-57F9660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73E1-008A-4C04-8ADF-26ACF9C8F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4 Života dar z teba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dar z teba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ho tebe odovz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užbu svojich rúk jak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kladiem, Pane, na oltár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hy obdar ocho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ť vďačne za tebou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dar hlasu, čo s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vzdá ti chválu, slávy Kráľ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ou chcem ťa, Pane, c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ou pravdy veleb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, čo som a čo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tvojej službe vďačne dá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ľu moju posil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kutkom lásky usmern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väť srdca každý c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nech viem v mier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ľuďmi žiť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 vrúcnej vďaky pl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o, čo som a čo m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o, v čo dúfa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úprimne ti ďakujem.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09:45:56Z</dcterms:modified>
  <cp:revision>20</cp:revision>
  <dc:subject/>
  <dc:title>Je veľký náš Pán, on slávy je Kráľ Nech do všetkých strán  spev vrúcnych znie chvál.</dc:title>
</cp:coreProperties>
</file>