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1EA-3358-4777-A405-00AF1BC2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C73-FF81-4253-B5C0-ED3DEB0A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057-8E2A-4E58-ADC3-7D3B7657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546-CEFD-4A69-BCDB-CC0B31FB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654-013E-4AE2-B72B-231CC569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F5B-4041-4FC4-AB9F-7855E8C4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2C9-1A77-4A2E-8AF6-EEA79D5D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137-CBA6-4C05-891A-252C6BC7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1C1-7102-4590-B82C-FEE147F9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485-85FC-4131-BDFE-FC4E1221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964-1423-4EAB-9B39-6A4A2157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59C-A158-48C0-A7BD-6B949478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E853-7E15-4C9A-A330-FFE9767C394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69 Šťastný je dom, kde vítajú ťa ra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v tvojej bázni rastú neustál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všetkom chcú si z t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klad br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piesňami ťa radi oslavuj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robia tvojmu men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cky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tnú zvesť o spáse oznamujú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nažia sa aj iných k tebe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je dom, kde radosť pripravuje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šetkým pokoj do sŕdc zasieva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je dom, kde bolesť odstraňuj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oroby liečiš, smútok zaháňa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raz sa skončia bôle, strasti, bo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áš verným z lásky domov jedin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vezmeš k sebe všetky deti svo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lávnej, krásnej, večnej otčiny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je dom, kde vítajú ťa rad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ateľu vzácny, Pane Ježiš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s tebou chcú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o všetkom vždy rad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ávajú úctu tebe najvyšši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sú ti všetky srdcia odovzdané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dôverou k tebe hľadi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rad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tvoju vôľu pýtajú sa, P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slušne ju plni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vďačn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je dom, kde spolu muž i že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rovnakom duchu teba vzývaj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odlitbách vrúcnych den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kolená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tvojich rúk vždy všetk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kladaj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obaja sa pevne držia t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radosti v blahu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žiali, starosti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utujú svorne za tebou do neb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u úzkou cestou z tvojej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je dom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už aj deti malé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ia sa, Pane teba poznáva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7:55:02Z</dcterms:modified>
  <cp:revision>70</cp:revision>
  <dc:subject/>
  <dc:title>Je veľký náš Pán, on slávy je Kráľ Nech do všetkých strán  spev vrúcnych znie chvál.</dc:title>
</cp:coreProperties>
</file>