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0F0-3169-4AF8-99CB-CE00FFB8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6F9-D6CF-4374-90C3-3D8583CD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30C-37F1-4E52-9472-973702EC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A36A-FECC-4945-AA6F-43A5CD8B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E5F5-8A15-4C9A-BF20-5995BFFF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A4E-ACF7-476B-AFE3-F54509C1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54E-FB16-43E8-AEAB-AC099EA3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9F2-1DD4-4A9A-9A21-98DEF0BA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0BC-5CF1-49F5-9580-540A9E41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C72C-BEAF-4849-A9AE-13846F13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C0A8-72CD-4A02-8C93-F0FD959E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7B3-A9EC-4F66-AE43-1B8DAEE3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38BF-F1EA-4A80-8050-CBC168C34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7 Pán je môj Pastier nebesk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 môj Pastier nebesk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núdzu nepoz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on k vodám tichým vodí 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k sviežim pastvinám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dušu moju občerstv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erne ma vždy vi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po ceste spravodliv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svojho mena česť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pôjdem smrti údolím, však nemusím sa b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prút jeho vždy ma poteš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pri mne bude stáť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neprajníkmi bohat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tôl mi prestier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a kalich vínom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 štedro nalieva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á jeho milsoť nesmiern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lásky znamen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||: v nej kotví viery isto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budem bývať s ním. :||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3:29:01Z</dcterms:modified>
  <cp:revision>21</cp:revision>
  <dc:subject/>
  <dc:title>Je veľký náš Pán, on slávy je Kráľ Nech do všetkých strán  spev vrúcnych znie chvál.</dc:title>
</cp:coreProperties>
</file>