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FCB-DE85-4420-87B0-5D93436E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CCF-7527-4B10-8501-AA4C6D3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6F0-449B-423E-A7C2-D7EDD848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679-77CD-479C-990B-3A17890F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8B5-0997-4122-BEF6-7C6171C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5A4-AD12-45E1-BC34-88169382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2C1-CEEF-40B1-B843-DA4E2CD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401-1410-4956-937D-F9C5EC7D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957-A3A5-4DBF-B99A-C4FF57C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D67-0F09-4F7A-871D-5551DB2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100-B71C-4211-B97E-B2D7CB7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82F-E5CA-4DAE-BBF5-EC6ECE4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E46C-623E-430D-B7E4-2AA28C93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9 Vzmuž sa, stádočko ty mal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muž sa, stádočko ty mal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nepriateľov nemaj str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muž sa, Pán je s tebou stál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roč s piesňou na perá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zbrojí ťa svojou sil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eho sa spolie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sa jemu zaľúbil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atený ti vrátiť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odliehaj sveta zvodo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iam, čo ponúk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náručí len Ježiš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ho blaha záruk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trpenia prídu mnoh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šak hlavu smelo vzpri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na oblo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vojej sláve zjaví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boji zostaň neochvej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zmi celú Božiu zb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ista – Kráľa chválospev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tať radostne sa stro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trať nádej v žiadnej chví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i keď si v tráp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Pán tých, čo preňho žil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ncom slávi odm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49:33Z</dcterms:modified>
  <cp:revision>21</cp:revision>
  <dc:subject/>
  <dc:title>Je veľký náš Pán, on slávy je Kráľ Nech do všetkých strán  spev vrúcnych znie chvál.</dc:title>
</cp:coreProperties>
</file>