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66C-5947-4C70-A67A-37C5FAC2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907-06F8-4B64-8951-B89DF579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87E-40C5-497B-8C3D-0CA5BE16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99E-A439-44FE-9F46-5F5EB91E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7A6-91D7-4C70-85C8-843FB7AA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23A-51DC-4F98-8FDA-45A8B37A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83A-4339-48CB-8B95-A65EC742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0A3-E13E-4149-A94F-BF8EC1B5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572-CF7B-4A7E-9C08-605D218A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32D-2913-4D10-8259-B500DE49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47F-1241-4FAC-9B9C-4198D209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ADF-FE8C-4D63-A454-C8ECA664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CE39-9CA7-4957-BA2D-29815298DF7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7 Zbor verných detí Kristový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bor verných detí Kristový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k službe má byť hotový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čuje každé stvore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v ňom je naš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Ducha svojh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chce nám d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 v našich srdciach prebýv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vojej lásky plameňom hriať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ietiť v svete studen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volá k práci každéh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hľadá sluhu verné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celý svet to poč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jeho príchod blízko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dielo bude skončené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jeho slávy uzri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trie nám pot i slzu z ri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lávy večnej prijme ná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4:44:06Z</dcterms:modified>
  <cp:revision>42</cp:revision>
  <dc:subject/>
  <dc:title>Je veľký náš Pán, on slávy je Kráľ Nech do všetkých strán  spev vrúcnych znie chvál.</dc:title>
</cp:coreProperties>
</file>