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A59-F5C7-4845-9421-93FA30AA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2AC-0A6A-48F6-84ED-1860022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0EF-0339-4F7E-A287-8FEB3922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06B-5338-4C46-90F5-80121525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F9F-581C-43B0-BF32-D9E5606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E89-0E5A-47F6-B5A0-97CB48D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F31-F44F-4269-8BE0-E32B8A4D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8FF-2A0C-4A5B-B18D-C503971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35E-BAE8-46CE-9771-7864897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29C-D1DF-4B2F-BD4F-66D53D8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303-F797-488C-B1FB-419BB5D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5BF-B355-4DAE-B23F-5346F6A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E0C-3A44-4CBD-B7F1-81FBF44C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2 V náruči Ježiš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mňa zomrel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koj svoj mi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aň sa spolieh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sa ku mne sklá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 tiesni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odpočí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rdci jeho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blaho prež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pokušením ch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mizne pochybn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íťazstvu nad zlom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a zmuž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ýva mi najlepš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olesť každú s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ojiť rany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i Ježiš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oju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on dôkaz dal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a mňa zomre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ať mi život ve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 býv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riechu noc sa skon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jeho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09:17Z</dcterms:modified>
  <cp:revision>21</cp:revision>
  <dc:subject/>
  <dc:title>Je veľký náš Pán, on slávy je Kráľ Nech do všetkých strán  spev vrúcnych znie chvál.</dc:title>
</cp:coreProperties>
</file>