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FCB-1AA4-4199-8239-79CBF849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BB3-E39D-4C69-B6E0-5D92DE9C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023-DBF4-4A67-95C2-FB80C07F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AA5-52E1-4F9E-A298-3CB17FE0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201-A82D-4F94-8612-C38DC3C7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37E-E753-4224-AE6E-7018A231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C31-194A-4CBF-BE42-EBC15354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D8B-AF53-494A-8CD2-741E2507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04F-5D91-4409-9BF6-A519C0DE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637-81BB-4333-B608-E2501FC2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112-B649-4EE6-B461-360832AC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7AA-AC81-4B57-BDD5-4C141A00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6BD7-2E77-4C14-AAF9-309BE3FB3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302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 Na teba zrak s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voj upie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-306000"/>
            <a:ext cx="112680" cy="12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81080" y="-360"/>
            <a:ext cx="950616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Na teba zrak svoj upieram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môj Pane s dôvero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mne priateľom si najlepším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a pevnou opor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1332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Strach, úzkosť mať už nemusím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ty môj si pevný hrad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chcem radostne ísť za tebo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žiť podľa tvojich rád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Ty, Pane o mňa verne dbáš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bdieš nado mnou, to viem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za tvoju lásku nesmiernu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ti vrúcne ďakujem.</a:t>
            </a:r>
            <a:br>
              <a:rPr sz="4800"/>
            </a:b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6:56:09Z</dcterms:created>
  <dc:creator>Stano Slamka</dc:creator>
  <dc:description/>
  <dc:language>en-US</dc:language>
  <cp:lastModifiedBy>Stano Slamka</cp:lastModifiedBy>
  <dcterms:modified xsi:type="dcterms:W3CDTF">2006-11-23T17:04:06Z</dcterms:modified>
  <cp:revision>2</cp:revision>
  <dc:subject/>
  <dc:title>301  Keď svit slnka stráca jas</dc:title>
</cp:coreProperties>
</file>