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E171-5DAE-4D00-AD3C-4381B2EDF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DF10-03B2-47F4-874F-51FB22EFE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7D46-987A-4435-B51E-D9A2870B2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3C63-6484-4322-8C57-2EF4D3AA0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5041-81F6-4F74-AF69-03A5BFFA3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E218-A24A-485A-BE4A-5086D613B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7CFA-BA66-4086-AA98-3E32B38A1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F6B9-0FE7-4DC4-AB1F-96D8D5825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AA51-9405-4274-B1D8-BB662E47D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58AD-75C0-44EC-90B9-AF2E8EE3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EA9A-D30B-4D43-B732-7AF23801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C7E3-5A04-426D-BD38-576A6BEA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A3118-A726-485E-A41B-75E8F79D8F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26 Chválospev vďak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radostn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Chválospev vďaky radostn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ech srdcia dvíha k nebesám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kde anjelov chór slávnostný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apĺňa svätý Boží chrá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h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ojím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lovom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tvoril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vet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m všetko z lásky daroval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,</a:t>
            </a:r>
            <a:br>
              <a:rPr sz="40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ez neho sme jak poľný kvet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žiť večne s nami vždy si prial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ákladom vlády jeho j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áska i spravodlivý súd;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ilosť a svätosť jeho smi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zvestovať svetu Boží ľu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Pred</a:t>
            </a: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Božím</a:t>
            </a: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trónom</a:t>
            </a: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vznešený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s úctou sa všetci skláňajme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náš Pán je vládca všemocný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n jemu chválu vzdávajme.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54:56Z</dcterms:created>
  <dc:creator>MD</dc:creator>
  <dc:description/>
  <dc:language>en-US</dc:language>
  <cp:lastModifiedBy>MD</cp:lastModifiedBy>
  <dcterms:modified xsi:type="dcterms:W3CDTF">2000-10-11T19:05:42Z</dcterms:modified>
  <cp:revision>29</cp:revision>
  <dc:subject/>
  <dc:title>Je veľký náš Pán, on slávy je Kráľ Nech do všetkých strán  spev vrúcnych znie chvál.</dc:title>
</cp:coreProperties>
</file>