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C7E8-A31A-4D9A-8D2D-EABFF4DAB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37CC-0A64-46B4-AF6D-F54BA16A4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9F7D-0EB6-41F7-8F5C-54FBF070E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B654-6E87-4A1E-A0BB-043C6EE35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CE8A-9387-4285-B4B2-A16D3B2E7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BBCD-2775-4251-BBFD-8BE60D349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B49E-3B7A-4232-B90F-1421CA6BF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528E-8CEA-4009-865D-CA77D1EB6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2D6D-EBC4-45F1-815A-5213FB44C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E8A2-7429-42B9-8D14-4DBFA5D60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1699-20CA-4E08-8788-94F42D901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5E47-A771-4518-AB28-BF64A2D27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054E5-BC5F-459F-AC49-9C7497557612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196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Ježišových šľapajac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ovi stále slúžiť budem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ním pôjdem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v ňom ten správn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itia smer nájsť môžeme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Ježišových šľapajach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ísť chcem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pre neho verne pracovať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jeho pomoc smelo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úfať smiem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ôžeme vždy naň sa spolieh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ovi stále slúžiť budem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ním pôjdem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v ňom ten správn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itia smer nájsť môže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adostne my o tom hovorím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ko k hriešny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sa skláňa sám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aždého, kto príde k nemu, prijm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ucha svojho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 dať všetkým n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ovi stále slúžiť budem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ním pôjdem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v ňom ten správn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itia smer nájsť môže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ipravovať jemu cestu mám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ho druhý príchod zvestovať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iež to z lásky k blížnym vykonám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by mohol z nás sa radov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25T10:39:54Z</dcterms:modified>
  <cp:revision>20</cp:revision>
  <dc:subject/>
  <dc:title>Je veľký náš Pán, on slávy je Kráľ Nech do všetkých strán  spev vrúcnych znie chvál.</dc:title>
</cp:coreProperties>
</file>