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700-7135-454F-89D3-66A41A43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688-6EC4-4C32-ABF1-3C480E6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EE4-BFE4-4E2F-BA1E-0EF192A3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49E-CE5B-46D9-8216-F90DDD58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365-A75C-40C1-A3C1-5A39B19A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55B-1987-4189-B86D-9C34806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E29-FA28-4B31-92F2-52C9C66A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90F-8DD5-49C9-81F9-2F6C614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122-CAC6-4C04-B824-13D295F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A44-A811-46B6-A01C-F18E876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141-7A28-4298-9293-E6ECEC1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A9B-A87A-473E-AA57-3E8F1B3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331-E399-438F-830D-57BAA4EC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7 Ten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rivý l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svieti mi tm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ok môj vedie v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je vždy so m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záchranou stal sa 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vil ma vín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d chválu mu vzdávať chcem za spásy č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ozptýliť mra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súženia čas mdlie nádeje zra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sľúbil, že nad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bude b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pev vďaky znie j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hvál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ňom svetl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a 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bezpečne viesť chce vždy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ý č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žiarivý Lú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tme mám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vet zvádza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okušeni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v mdlobe a slab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dá dosť sí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chce, aby som sláv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ním z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49:01Z</dcterms:modified>
  <cp:revision>22</cp:revision>
  <dc:subject/>
  <dc:title>Je veľký náš Pán, on slávy je Kráľ Nech do všetkých strán  spev vrúcnych znie chvál.</dc:title>
</cp:coreProperties>
</file>