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20C-6A63-4BC1-B3A6-CD0CE206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538-F70E-415F-9D78-F8FC15F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DD8-58CE-4453-8070-8DE07F37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A70-D0B0-4C52-A6C2-8E2BF746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05B-963D-4CB4-AECD-05317C9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060-7C6D-4C11-ABEB-D99E70C5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2E6-B4D8-432D-8266-91EE3F6C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CDE-6196-4B5E-AF19-183F5B87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E37-CE8C-4516-9F53-191C7A7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18A-F599-43AB-B91B-3CF0916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A3A-38F5-4933-8FBB-9AEE7AC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016-67E4-4AEC-9451-F8371B56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64E-56A6-4EE8-BF55-A5DC1233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3 Znie lásky Božej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lásky Božej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 dieťa, ku mne po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út hriechu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sa oslob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u ďak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elý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do rúk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ikdy nesplat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svoj, to, Pan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k v lásky zaja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avždy zos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š v sláve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ziať ľud verný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 rád ti vzd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chválu, Pan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za môj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lich trestu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ejší som ako sn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vykúp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05:09Z</dcterms:modified>
  <cp:revision>20</cp:revision>
  <dc:subject/>
  <dc:title>Je veľký náš Pán, on slávy je Kráľ Nech do všetkých strán  spev vrúcnych znie chvál.</dc:title>
</cp:coreProperties>
</file>