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E4F-E80F-4A96-A3AB-7F4A4A52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615-9C9D-4A95-A8B9-D9AD83C5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53B-8A32-49BF-8925-EC227217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523-5708-42D4-9CE3-DDCB0032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2E8-AA92-449C-8EBC-53EE2C1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D38-F28F-415A-B5C9-66168F20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868-F960-4897-8CD0-64D8DBFA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670-107F-4D5F-9A19-E4C0592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34C-EFD6-4AEF-9C87-0E85F2D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E71-B689-4B35-B1F1-4EEE080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6BB-B68F-4B4A-88D2-55E128DF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9A1-48AB-4532-AE2F-76E403B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93D-7D2A-483D-B12E-7E9A061EB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8 Prichádza več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y Krá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chádza večnej slávy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zývajú sa piesne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lmami cesta vystla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vôkol: Sláva! Hosan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nešený, hoci chudob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iatkom skromným nes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stupov poctu prijí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riešnikov sa u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v nebi vlád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útok,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jeli vidia: Pán, ich Krá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, dobrý, presvä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mrti ide v ústre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ieť za nás on sa nebrá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smrťou svojou zachrá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tu v neho dúfaj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ásu v ňom len hľadaj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1:39Z</dcterms:modified>
  <cp:revision>32</cp:revision>
  <dc:subject/>
  <dc:title>Je veľký náš Pán, on slávy je Kráľ Nech do všetkých strán  spev vrúcnych znie chvál.</dc:title>
</cp:coreProperties>
</file>