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05E-6437-456E-8A9F-1E35F079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054-951B-4F4F-AB9C-01CE9648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7EB-8C1D-4F07-930C-C96FCF9F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191-D69B-4D96-B7E3-F209BB91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AD9-B8B7-4D54-8DC7-BA2EC8ED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5D3-9B59-4656-97D0-CA80A1AA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2C7-7686-4A9B-ABF9-E404117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749-8E4C-48B9-A3E3-46B3897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3C0-1944-4FCD-A5C4-AB165DE7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DE2-576A-48F0-8F49-C077090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CD7-A209-4DFB-B794-C9C008E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82E-84F1-4902-9B77-B0510C90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586-862F-4541-A7F3-3E62CB69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2 Pod ochrano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jvyššieh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d ochranou Najvyšši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e moje, vždy sa t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ko Tvorcu všemocného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|: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a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ebo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bdi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obr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i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:|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d ochranou Najvyšši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spáse vedie tvoja p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búrkach žitia pozemsk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á on ti utonúť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je Pán Boh skrýša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oc, stála zášti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o víťaz vyjdeš z boja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ávy jas ťa uvít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vzdávaj sa svojho ci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 viere vždy pevne st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tom z ruky Stvorit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vyrve nik podiel tvo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09:41Z</dcterms:modified>
  <cp:revision>22</cp:revision>
  <dc:subject/>
  <dc:title>Je veľký náš Pán, on slávy je Kráľ Nech do všetkých strán  spev vrúcnych znie chvál.</dc:title>
</cp:coreProperties>
</file>