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FDFB-8672-43FF-ABD1-5FEC576D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1F7-51EC-45DB-A79A-2CB1246D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D89-0784-4E2C-979E-CDE33019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9B0-8C30-4451-94A1-EF37A05D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E53-EDC7-4C97-95BF-F3A1FBCE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9CE-66BD-4098-B46A-F08481FB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456-9961-48FF-8935-50463A36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045-7771-411D-BC62-600BABB2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41A-F90B-4D50-B2AA-D2E78DAE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353-55CB-46F2-BECA-FF24F165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6CD-A7EA-46A1-8D86-B1518855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C8B0-97EF-4173-839F-D976790F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E894-B36B-4C8B-95E0-60A11CA0F51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03 Tvoj deň sa zas ku koncu chýl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 deň sa zas ku koncu chý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vzdať ti Pane obeť chvá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 vrúcnu vďaku v tejto chví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dary, čo si z lásky dal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občerstvil si dušu moj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klonil si sa ku mne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dávaš novú silu k boj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ceste k novým víťazstvám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s objala ma láska čis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á tvoja milosť velik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nevídané veci chyst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karhajúceho hriešnik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sobotný mi pirpomí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ty si Pán, môj Stvor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v tvojej láske odpočí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našiel v tebe večný cieľ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 v novom týždni, drahý Pa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ne blízkosť svoju cítiť d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oheň viery vo nne pla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ám som slabý, pamät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ne dovoľ, pros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stúpiť zas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odpočinku novéh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sprevádzaj m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aždom čas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ochraňuj vždy od zlého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6-11-23T17:15:26Z</dcterms:modified>
  <cp:revision>10</cp:revision>
  <dc:subject/>
  <dc:title>Je veľký náš Pán, on slávy je Kráľ Nech do všetkých strán  spev vrúcnych znie chvál.</dc:title>
</cp:coreProperties>
</file>