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E6D-CD7B-475F-A80B-0B0C9E63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0D0-3614-450C-8308-9F18C4C7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C05-3E29-40F4-A7F8-2419D72B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45C-883A-4CC6-9ED4-CC7390A2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61E-FB1F-4D55-A68E-BB7069CC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442-2149-4C38-9872-6061727B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3AA-F1F4-4D05-8097-A4088055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256-F1F9-4FB3-BA52-2441396D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9B4-AE49-4068-AE83-BDDC5C9F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3E5-24DB-4892-A2A2-F8C63E96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BEC-1EA4-42E1-8543-8C862EB7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BB9-009E-4220-9330-72D7AE85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9485-A24F-4342-83BE-19C098849A1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9 Môj drahý Otec nebesk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ôj drahý Otec nebesk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 v nebi trón svoj kráľovsk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tom aj na mňa pamä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každé dieťa s láskou db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tom aj na mňa pamät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každé dieťa s láskou db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každom vrabčekovi 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celým tvorstvom stále bd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ieva krásou nežný kve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tvoril z lásky celý svet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ieva krásou nežný kve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tvoril z lásky celý sv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spadne z mojej hlavičk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ni len vlások maličk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ktorom on by neved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mňa má rád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om poznať sme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ktorom on by nevede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mňa má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som poznať sm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v srdci mojom prebýv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a mi svojho darov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ďačnosti kráčam za ním le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ôverujem mu deň čo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vďačnosti kráčam za ním len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ôverujem mu deň čo deň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50:30Z</dcterms:modified>
  <cp:revision>80</cp:revision>
  <dc:subject/>
  <dc:title>Je veľký náš Pán, on slávy je Kráľ Nech do všetkých strán  spev vrúcnych znie chvál.</dc:title>
</cp:coreProperties>
</file>