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795-260B-472E-9531-506466F2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BFD-705F-430F-9432-5ED88225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865-98A5-452D-883F-BE29B897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D57-BAD8-42BD-BCC7-DE038037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E86-4C34-46F5-BA3A-5068AEFA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B05-66B4-46FC-B951-9F489F3F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45A-CC36-4960-8596-5955AB8D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57F-116F-452F-BD42-BD846BEF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417-BD51-450D-AF44-F3676E0F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683-E547-4F75-B621-E141BCB4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9C2-5D74-4E19-BE4A-D5F85E18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A58-A73D-4DAF-B471-D910F4D0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4519-7E50-45B7-9CC8-087566756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8 Na Pána spolieham 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Pána spolieham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jeho lásku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v ňom je moj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svoju skrýš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nepokoj mnou zmi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v pomoc dúf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chráni svoje dieť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ie zahn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trasti t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Pastierom je moj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nemusím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stráži okom svoj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 stále pri mne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ier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, nádej strác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Ježiš o tom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uňho pomoc hľa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k sebe privin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 ňom mám zdroj vody živ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aj mannu, z neba chlieb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n v láske dobrotiv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a zbaví ťarchy b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esť náleží mu, vďa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smiem tu preňho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jeho príchod čak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 ním chcem raz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b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3:52:30Z</dcterms:modified>
  <cp:revision>22</cp:revision>
  <dc:subject/>
  <dc:title>Je veľký náš Pán, on slávy je Kráľ Nech do všetkých strán  spev vrúcnych znie chvál.</dc:title>
</cp:coreProperties>
</file>