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EA8-C76E-42E8-B650-9FAC9096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280-2D1B-4E23-A31D-7912A19C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209-193C-4BD3-B45E-13242721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985-1E17-4D89-A2D3-E702A5B8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C9B-4B33-4E60-9F29-C0D6E281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9A5-6AAA-44A6-8EFA-F322C0C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841-258C-4B47-B66D-DA85D9C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3C5-9619-4FEF-8C35-DB01A0D9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907-3468-4F06-A63D-4CE9483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911-0BEE-40CA-BD68-A82C788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63D-80F8-44EC-8838-D04333A2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3F5-3C71-4F33-9B87-4364738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2B7-421A-47F4-853B-A58D0A22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8 Pane, ráč nás Duch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ráč nás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hojnej miere obdar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e stále pripr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u pravdu obháj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šky znášať trpezli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pomôž sá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hovievaví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m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lížny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í, ako ty si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tivosť sprevádzať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 naše správ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ládnuť nás nauč váš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ušeniam vravieť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ody Ducha tvojho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nášať nám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ti chceme verne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nás zachov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19:57Z</dcterms:modified>
  <cp:revision>19</cp:revision>
  <dc:subject/>
  <dc:title>Je veľký náš Pán, on slávy je Kráľ Nech do všetkých strán  spev vrúcnych znie chvál.</dc:title>
</cp:coreProperties>
</file>