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398-A022-4C8E-9266-DBD9BC54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75E-2F24-4329-A510-FB5B309B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858-2BDC-48D1-9B14-185CD65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8EA-E7B7-426D-A934-A2086583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CEE-F2AB-4FDB-BDD2-3881EA5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DD2-EC46-4CD7-840F-1CE8A5B8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FD8-E83A-4573-B83A-DA717046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EF2-CD35-43D9-B6FB-BC5F8DEF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C8E-363D-4660-8299-71C2CF54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B13-F9CC-4508-9D6C-C729E6E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CB1-6037-41EF-8962-2BB7639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6B1-F858-4F01-93EE-6CF08E0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776A-3140-490C-8E31-8D96D3C7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8 Je veľký náš P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veľký náš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lávy je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do všetkých strán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vrúcnych zni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d celým vesmírom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u má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lášť na náš svet pamätá,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láňa sa k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tej moci zves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šíri sa v dia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Tvorcovi česť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každý rád vz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halí tma obzo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i hromu znie hl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v tom zas len Láska 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 osloviť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tkých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Slovom, čo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vďaka mu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zácny ten d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vorstva Pán, Pria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asiteľ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láskavo nad svet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ží vždy strá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o náš svet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ládne v ňom hriec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láske nás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d nami bd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omu, kto túž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spásou sa st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milosti večný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raz d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5:40:57Z</dcterms:modified>
  <cp:revision>6</cp:revision>
  <dc:subject/>
  <dc:title>Je veľký náš Pán, on slávy je Kráľ Nech do všetkých strán  spev vrúcnych znie chvál.</dc:title>
</cp:coreProperties>
</file>