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D78-DD30-4469-9228-A0BB0FFF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6E7-7C15-473A-A8A0-6F8A0028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47D-8286-4CF9-AFB3-1284A6D9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F33-1377-4E7C-A727-05B06B03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84D-7C60-4665-B120-E79EA961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961-581C-4DF2-88D4-2D8D8A63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9FB-27E0-4BCD-A58D-9EA63AFA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794-3986-464D-8960-E11AFBBA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BB3-9E4E-47D7-8A70-46FA940C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B83-822E-4AF6-902D-3BC0F2F0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68D-EEE7-483E-B509-D5C488F3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C37-B5DB-440F-A95A-5FDF6162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2926-519C-4030-916D-8F7A931F695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39 Vstaň, žatva sa už blíž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ťaň, žatva sa už blí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cuj od svitan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taň, nech ťa nezastih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esť zmešk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cuj, kým slnko svie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ýchlo sa dĺž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taň, lebo noc sa blí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ájde spásy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taň, lebo noc sa blí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r v čase poludn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dz, že ťa stihnúť môž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íľa posled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cuj len, dieťa Bož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máhaj nechuť, l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taň, lebo noc sa blí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cuj, kým je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taň, lebo noc sa blí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chop sa a neváh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s odmenou ťa čak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ráci vytrv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acuj, kým nezastrie ť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ozivý smrt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staň, prilož ruku k diel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je spásy deň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4:50:31Z</dcterms:modified>
  <cp:revision>43</cp:revision>
  <dc:subject/>
  <dc:title>Je veľký náš Pán, on slávy je Kráľ Nech do všetkých strán  spev vrúcnych znie chvál.</dc:title>
</cp:coreProperties>
</file>