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948-2567-4790-9264-A751CD7A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CFF-C9C1-4DED-8AE3-300FCAE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C30-1E9B-45E0-8329-9C75338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5B4-9096-4198-A623-2F8EF99A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2AB-C3FF-4845-B6C9-9DFFC629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296-3CE2-4D5C-831F-22496AB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BA6-C632-4CD0-85B5-D1A4709D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DFE-DFFF-497F-A486-E96B2C4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3CA-FE0D-4DAD-9AC7-FF0C056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2C9-3069-4D4D-903E-A1C5368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AA7-31EB-4EF0-BAA2-F4CFEA3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83C-42F9-473E-AF8F-0ED76E7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38C3-EF2F-4DC0-B577-F36F63EE6D0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1 Pole sveta podľa Slo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le sveta podľa Sl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k žatve dozrie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ýzva tvoja, Pane, zno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práci žencom zazni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buď poslov svojej zve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v srdciach viery p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om svätej horliv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čeliť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dar zástup svojich ženc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ou Ducha z výs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ich službu lásky venc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meníš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sa kráti, blízko je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ti čas míňa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žatvy, pošli po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tedro otvor nebesá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38:29Z</dcterms:modified>
  <cp:revision>45</cp:revision>
  <dc:subject/>
  <dc:title>Je veľký náš Pán, on slávy je Kráľ Nech do všetkých strán  spev vrúcnych znie chvál.</dc:title>
</cp:coreProperties>
</file>