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ED53-A3FB-4C4C-A207-D80A7B8D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4201-2371-4E5D-B432-E215474D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06D-72AE-43C3-A6E1-9278C9FC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CF18-E6ED-4934-874D-21EFA28C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BC4-7908-42CB-99A3-44523D54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1EB4-C947-4545-9A5D-50D1E286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A60A-7693-4301-AA5A-95D0A33F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113-9663-42AF-8BD2-1C01725E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4389-CE55-4EC8-89E2-AC0ECB7D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AF8-24D0-4A23-ADE6-34282678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9897-65C4-4815-AA5B-4B8FD6FC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2974-2B96-44A1-9283-7F19ADA2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C226-07FC-4388-AA50-C1C9B5659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81 Kristus, ktorý za nás trp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, ktorý za nás trp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ľúbil, že sa vráti z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chranca náš, Vykup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de už o krátky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láve svojej príde Pá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láve svojej príde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lý vesmír bude navž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liatby hriechu zbav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dnú smrti mocné hradb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znie hlahol nadšený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chádza náš drahý Pá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chádza náš drahý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aránkovi patrí vďak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ti a slávy hoden 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ľud ho s túžbou čak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ádeji na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 už skoro, Pane, k n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 už skoro, Pane, k n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2-13T07:18:59Z</dcterms:modified>
  <cp:revision>7</cp:revision>
  <dc:subject/>
  <dc:title>Je veľký náš Pán, on slávy je Kráľ Nech do všetkých strán  spev vrúcnych znie chvál.</dc:title>
</cp:coreProperties>
</file>