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9C3-7696-492C-A0DD-CB77F65A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8B2-ABCE-4FE3-ABA5-E70F4206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93A-DC3F-4758-BDD7-2778C904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4E5-EA0B-4363-A1EC-2807FE07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AED-2BCD-461A-A8F0-B7B8619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C6B-DCF0-47EF-932E-7850ED3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088-1A8A-441E-BF5B-FB10E30C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623-5559-409E-A5A5-357B674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A32-59F5-4EA9-84D7-D9475924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E0E-8A21-4378-8664-16A93556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760-42D3-47B0-A20F-6AEA981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328-5A5A-4211-B48B-5F80349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63C2-2F53-4EFD-932B-10BAB72E3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9 Čoskoro sa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Pán k nám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á celým svetom z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 zlo sa navždy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ok bolesť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zo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sa chv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 skrylo lúčov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l však z mŕtv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a sme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 už zem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kým slnko záj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ilovne pracu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hoslavenú tú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ľuďom zvest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príde, v sláve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žehnaný mieru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s ta, k sebe vz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5:40:34Z</dcterms:modified>
  <cp:revision>37</cp:revision>
  <dc:subject/>
  <dc:title>Je veľký náš Pán, on slávy je Kráľ Nech do všetkých strán  spev vrúcnych znie chvál.</dc:title>
</cp:coreProperties>
</file>