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3911-DC88-4B93-993F-D11E135F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08D3-60FD-4827-9952-2BFBD9C5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4C23-62DA-4E2B-82B4-F9374964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0B19-9E2C-47E3-814A-DDCE9451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8D37-79A8-4860-BFFC-037CEAF3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E7DA-203D-4E2F-B620-278E840B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A93B-800F-424E-9C76-D167116A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3EDE-6B74-417E-8C63-D26CE55B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2023-D4CA-4DA0-B878-7D57414F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FD82-D87E-49B7-8C64-674ED54F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422-CD2B-452C-BB42-4B0E3404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110B-5EE0-4162-813D-270ED733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9123-0748-4E7C-8633-5E2989881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60 Do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j domovin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o večnej domovi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už dnes by ísť som chc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verným miesto chyst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drahý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 nepríde už nikd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iaľ, bolesť, trápe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 Pánovi česť a chvál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zdám za vykúpen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 večnej domovi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k často túžiev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vládne láska čist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Otca svojho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 poznám, čo je šťast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nemá miesto hriec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, kde smr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stane vládnu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už nik nezomr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o večnej domovi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az Pána uvid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srdcom vďakypln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a jemu poklo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n krvou svojou svät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i spásu vydoby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o vlasti nebeskej a krásnej mi bránu otvoril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.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5:43:37Z</dcterms:modified>
  <cp:revision>22</cp:revision>
  <dc:subject/>
  <dc:title>Je veľký náš Pán, on slávy je Kráľ Nech do všetkých strán  spev vrúcnych znie chvál.</dc:title>
</cp:coreProperties>
</file>