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95E-D447-48FA-9D07-834C3204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784-E4FD-4C61-99BD-E861EF4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279-E1C0-468B-BBEA-C97EFA80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B66-D5F9-4228-804F-9E78FDB7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A3E-5A24-4E05-AFAB-CB5D07BD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9DD-44BF-4337-A959-B57DBA9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ADA-C683-4B80-83AA-DCA711AD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886-CFE4-4390-A2DB-7EEBE173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2A2-5462-4CE3-8C98-ECD521CA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0CD-816E-4647-B330-213AE64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404-86E1-48E6-B114-FAC33A1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7A7-C282-4639-92DB-B6DFD1D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5EA-6A62-457A-862B-5C5B9CA06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9 Tak ako jeleň k žriedlu vô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ako jeleň k žriedlu vô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náhli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duša moja po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ane, prahne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únavná tá žitia pú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noho na nej strá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ma, Otče, doviesť ráč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pred svoj Majestá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mútok dušu zapl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 teba dúfať sm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ej, Pane,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vekov nech je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om stvor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Otec, Syn i Svätý Du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ďačne chválen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20:26Z</dcterms:modified>
  <cp:revision>20</cp:revision>
  <dc:subject/>
  <dc:title>Je veľký náš Pán, on slávy je Kráľ Nech do všetkých strán  spev vrúcnych znie chvál.</dc:title>
</cp:coreProperties>
</file>