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8F4-7FF5-4782-9760-7A48A029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F48-7FD4-4752-B9FD-BC2EA255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518-D545-4EBB-8679-F2859C4F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5E9-2263-4F06-B022-997A7860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952-922F-4DFE-912B-AC49E6B8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22F-B3B4-4555-822D-280BF8D7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AC1-C2FF-408C-A64B-EB716CFB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83A-8912-4AAB-8BEA-F8FBED25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AFC-0BF4-4422-BC13-AA7A4016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321-4049-435D-A4A3-F49B8831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233F-61DD-4292-8569-A8446FD2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FC8-68AD-4918-9DB6-E169DE23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D458-9C0A-44DD-9929-0ADF31809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083 Zem, počuj slávnu zv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tejto zvesti hl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všetkých končín zni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on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vojich rukách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Kráľom sveta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, počuj slávnu zv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je tvoj Kráľ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 končín sve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ajov, mies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u znejú piesne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duše mojej vzl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u vrúcnu vďaku vzd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chráni dosiaľ celý sv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, Láska presvä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, počuj spásy zv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Pán Ježiš je tvoj Kráľ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jemu patrí sláva,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a nás život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prachu zemských cies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z lásky poníž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 z bahna hriechu tento sv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lávy povýš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, počuj mieru zv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Pán Ježiš je tvoj Kráľ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pokoj sveta, ťarchu bie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eba z lásky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mieru Boži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každý môže m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iesňou srdca vďačné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u vrúcnu chválu vz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, počuj večnú zv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Pán Ježiš je tvoj Kráľ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neho nikde spásy ni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lávne zmŕtvychvs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2-13T07:41:09Z</dcterms:modified>
  <cp:revision>9</cp:revision>
  <dc:subject/>
  <dc:title>Je veľký náš Pán, on slávy je Kráľ Nech do všetkých strán  spev vrúcnych znie chvál.</dc:title>
</cp:coreProperties>
</file>