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9B4-978B-4C0C-B9D1-8AC31CB3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840-E46F-4CE4-8469-D7ED731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80F-2993-4119-AD31-DAAAED88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D32-8630-417B-9B2C-528D3E75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AAB-CE5A-4354-A905-B4923910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BF0-8F89-4DCD-9237-48F5EFF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E03-154B-49CE-A883-00B2525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B57-9AFA-4D66-B003-03F68985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DA-6C36-472C-8AC8-CF07359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FF1-CE67-4BFB-B7FC-428C16D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537-053A-4800-9C4F-61C3011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3BC-051E-42FE-9E6F-2709B65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5112-D326-4842-B79E-42117FEA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19 Buď Bohu vždy č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Bohu vždy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š zblúdený s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ou milosťou k se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ce navrátiť spä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uď Synovi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sa Baránkom st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za hriešnych z milosti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vot svoj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j Duchu buď česť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nás privádza dne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 Slovu pravdy a stále chc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pečne vies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, buď mu chvál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aleluja! Amen!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Haleluja, večná chvála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a spasenia deň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8:49:46Z</dcterms:modified>
  <cp:revision>5</cp:revision>
  <dc:subject/>
  <dc:title>Je veľký náš Pán, on slávy je Kráľ Nech do všetkých strán  spev vrúcnych znie chvál.</dc:title>
</cp:coreProperties>
</file>