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99D-5AF7-423A-9B41-1E106EE8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F9F-8437-4E05-B8F0-8C04080D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564-CD59-4DF4-9779-0C17B70F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4D5-F835-480A-A7E9-96FCAFEC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9C0-556C-4209-B6F5-6DC2D97A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E4E-1B2F-4CB0-A64C-B980BFE8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076-CF54-4218-A881-FB2AF249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E02-ED52-466C-95A0-80E63AF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F88-EAD7-4C7F-B588-336734B3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74E-76F7-42AA-8E6F-3DCE488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3CD-9945-4C77-9C5A-1D0F3962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09E-4CA7-4D30-A8A0-A84A6C8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FA91-0559-49AC-881F-AB21C7257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0 Keď Pán Ježiš opäť prí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 smie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Ježiš opäť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žiari zem sláv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ne nové, krásne rán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, čo v neho uver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ú jasať v on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ich vezme k s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ú 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 sm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ŕtvi v Kristu vstanú z hrob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ám Pán ich zavo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í živí telo nové dostan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u radovať sa bud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ich smrť už nezdol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edy všetky sveta strasti presta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aj ja so spas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konečne blažený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mi radost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večne slá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 sm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pracujme pr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írme jeho spásnu zvesť,</a:t>
            </a:r>
            <a:br>
              <a:rPr sz="48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úto úlohu on z lásky zveril ná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mnohí prijali 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li mu chválu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príde, vošli s 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ebies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2T19:48:21Z</dcterms:modified>
  <cp:revision>6</cp:revision>
  <dc:subject/>
  <dc:title>Je veľký náš Pán, on slávy je Kráľ Nech do všetkých strán  spev vrúcnych znie chvál.</dc:title>
</cp:coreProperties>
</file>