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E60E-BAF8-46F0-B5EC-D3C875450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8903-D55A-41C7-AFE9-AAE667B90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1467-411D-4405-A4C8-EEA4EFEF7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4933-D43A-44EE-AC04-45FEEBE4B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3C7D-7DCD-4E6E-8C20-C77CDE48B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C7FE-9077-4879-BBA9-0869BCEC2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3CD4-0AAF-4DD2-990A-FE2B751D3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3A34-8B99-4565-9165-5AFE291AE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A9BA-A138-4171-A3DB-0DAC2E56C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A6A5-9826-417E-9DC1-FA4B9A44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D5CD-0DE1-43D5-94F3-C6E523413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EC9C-A075-4C8D-A98A-593A79F90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D3FF1-A780-4766-BF36-81E5160D73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224 Nenariekaj, začni dúfa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nariekaj, začni dúf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oc máš v srdci bolesť, žia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evne ver, niet prečo zúf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za teba život d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ocný Kráľ, čo v nebi vlád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j nad tebou verne bd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maj pochybnosti žiad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amätaj, on láska j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erou kotvi v Božom Slov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mútku tieň sa rozplynie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ti sľúbil všetko nové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 srdcu si ťa privin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r a dúfaj, vykroč znov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rne bojuj, znášaj krí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ocnou zbraňou jeho Slov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pokušení zvíťazí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 sa vôkol čo chce de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žia láska verná 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oc smrť všade hrôzu se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ťa stále miluj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zmätku žitia pozemského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rdca raj ti sľubu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oľahni sa, dúfaj v neho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koj svoj ti daruje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7T13:12:36Z</dcterms:modified>
  <cp:revision>22</cp:revision>
  <dc:subject/>
  <dc:title>Je veľký náš Pán, on slávy je Kráľ Nech do všetkých strán  spev vrúcnych znie chvál.</dc:title>
</cp:coreProperties>
</file>