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D73-516A-4BDA-9A63-5B4C9777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7AD-1ECE-4919-8EF2-822F4352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521-FCDE-4A41-9ECB-9DD2F3D3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3CB-8C14-488E-AB8A-512DA055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0DE-B491-4B74-8C78-60B755B7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F2B-04E9-4B39-B0F9-08849715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2CB-8CB5-4323-9338-8EAD0B85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B14-9D90-4F98-A67E-D7F92380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BAE-B708-4ECD-A58F-223AAB3A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419-6E9B-45E2-B9E0-DA32E4B6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F19-3864-4E13-ADA2-46D1177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631-2670-4E2A-884B-3AA056C7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E754-5BA7-4D94-A06D-ECB677CB8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1 Oslavujme zvučn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spod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Oslavujme zvučne Hospodina,</a:t>
            </a:r>
            <a:br>
              <a:rPr sz="4800"/>
            </a:br>
            <a:r>
              <a:rPr b="1" lang="sk-SK" sz="4800" spc="-1" strike="noStrike">
                <a:solidFill>
                  <a:srgbClr val="66ff33"/>
                </a:solidFill>
                <a:latin typeface="Arial"/>
              </a:rPr>
              <a:t>dokiaľ sme tu na zemi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lebujme vďačne jeho Sy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akujme mu piesň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ho úprim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šnym ľuďom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, jasajm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u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die nás do nebies br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On je svät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mocný je náš Pá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orečme 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ernosť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a nikdy nemen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jme na slávu Všemocného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ne chvály s nadšení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iro Danihel</cp:lastModifiedBy>
  <dcterms:modified xsi:type="dcterms:W3CDTF">2001-07-08T08:27:56Z</dcterms:modified>
  <cp:revision>7</cp:revision>
  <dc:subject/>
  <dc:title>Je veľký náš Pán, on slávy je Kráľ Nech do všetkých strán  spev vrúcnych znie chvál.</dc:title>
</cp:coreProperties>
</file>