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632C-B1BE-4E87-B601-7FF36DD9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DE6-9BC9-4BAA-8B8B-E6F229E7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2CC0-D8EC-4656-B434-03C4E73B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66AC-2E30-4FB3-B1B9-411CDA52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9421-1B76-4AFB-9C5B-5715E398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600-7CC5-492C-A1FE-EA408649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9FC-1473-4DC8-A4FD-D1B32E46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FCE-CD6E-4037-8E42-EB802CFE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1320-E41C-4430-A352-1E86508A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E88-66E8-49B8-B078-7F0C683C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9FF-9E1D-4970-9F10-4F466555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C1EF-98BB-473E-A3F9-51D3B7B7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36AE-4A54-439E-BD3B-E3BCF0642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95 Prehojné žehnanie z ne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hojné žehnanie z neb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chce Otec nám dať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jlepšie vie on, čo treb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e chce pri nás vždy st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 Pane, žehnať ráč vždy ľud svoj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y čo z milosti m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áhaj zúročiť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hojné žehnanie dáv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spodin komu dať chc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úcte kto pred ním sa skláň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ou mu v ústrety ši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 Pane, žehnať ráč vždy ľud svoj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y čo z milosti m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áhaj zúročiť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hojné žehnanie dost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í ľud vykúpe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ríčny dážď keď mu posl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, Pán osláve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 Pane, žehnať ráč vždy ľud svoj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y čo z milosti m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áhaj zúročiť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hojné žehnanie Bož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revádza dosiaľ aj nás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koľvek stihnúť nás môž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ľud svoj ochráni v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 Pane, žehnať ráč vždy ľud svoj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y čo z milosti m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áhaj zúročiť n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5T10:24:49Z</dcterms:modified>
  <cp:revision>19</cp:revision>
  <dc:subject/>
  <dc:title>Je veľký náš Pán, on slávy je Kráľ Nech do všetkých strán  spev vrúcnych znie chvál.</dc:title>
</cp:coreProperties>
</file>