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B903-16E2-4FC2-946A-433A1E63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707E-6DBA-48DD-9694-5A9C13F8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AC5D-F786-4EF6-ABAD-A85A2417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0A70-8C4D-4B8F-A77B-E2AF2B37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02AF-151A-4BFF-8C09-93BEE6D8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FC86-1638-4584-A2C3-609E3651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0B91-9D4E-47F5-ACEF-57DF7D44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7A50-BC08-4560-B4DF-B0F7E46B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E062-EA57-4F47-8253-31D601D9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58CF-A67E-478C-9F07-108CCA2A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887A-136E-424D-AF9B-3B5046C0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B3BA-164B-42A0-A7A3-B2351549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E398-94EC-4FC8-A17C-CF0DCDBE6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32 Pán Ježiš je môj klen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je môj kleno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 neba,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zmysel má môj živo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v ňom mojej cesty cieľ. : 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 večnej slávy prišie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hriechu zbaviť, ví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pozdrav Otca sveti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on svätý Boží Syn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rany hriechu hoj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tíši srdca ž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die verne, pri mne stoj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tak, ako vždycky stál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hlieb a Voda živ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svetla spásy Zdr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ilou mojou bý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keď zúri nepokoj.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4:09:47Z</dcterms:modified>
  <cp:revision>21</cp:revision>
  <dc:subject/>
  <dc:title>Je veľký náš Pán, on slávy je Kráľ Nech do všetkých strán  spev vrúcnych znie chvál.</dc:title>
</cp:coreProperties>
</file>