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D2B-87B9-4B8C-99E8-21468A61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BCD-2AA8-43DA-B1C0-A0D5D2E7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EC5-1564-4178-9359-6CB4119C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017-6826-4552-A583-B54E3774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8E8-A459-4308-810E-826D144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1FF-5302-4363-BF51-2FA7B1AA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740-8C53-41A2-AC05-EBFC8397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082-EB79-4D6C-AA21-1B5F6167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BA6-2E04-41C3-B056-CD556431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CB7-D236-4989-BC5C-65C68D36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533-A390-434F-A447-DA71CCB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F2F-1DE9-48F8-8BCF-249513F2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833B-A6D9-4113-9707-EF537E4F5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2 Už slávneho dňa jas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slávneho dňa jasn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v diaľke zora sk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blízko chvíľa šťastn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predo dvermi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biely oblak z diaľa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viera vidieť sm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ríchod Kráľa kráľ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Haleluja!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 priatelia sa stret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adnú oko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dá nám radosť več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šetko obn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mrti vládu z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večnej sláv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uzrú vykúp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nehynúci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modlitbou a vi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pred v láske kráča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horlivosťou vrel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blížnych pracu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vzoprime sa zlé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nahu posvä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me môcť j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šťastní v ústrety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7:43:39Z</dcterms:modified>
  <cp:revision>3</cp:revision>
  <dc:subject/>
  <dc:title>Bez nadpisu</dc:title>
</cp:coreProperties>
</file>