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F3A-230A-4CD2-ABA0-9A77BA78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52F-3478-4E6E-9FD8-BA8B9AA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5B2-9A84-45B0-9A1F-DD057B72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D95-BFB0-4F4D-8B6C-D686085D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B5E-4BD8-4E36-BB45-9C0FFA1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E00-6A8C-4B4C-AB45-DB1A012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8D8-81AF-40C8-B843-82FE9A60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956-F1D4-462B-8C45-45682A2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8D4-3997-40BE-8B30-5E42A5E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0B8-9395-4D23-9418-C08B4D89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B2A-3AC8-46EF-9E87-78897DE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321-9C28-4A41-A68F-E904F03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ED10-167B-4FCC-AAC5-83A09138F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2 D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d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a, O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, 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 čo deň ma, Otče, ve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o tmy Slovom svojím sv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úprimnú mi srdce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láske svojej zacho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iech keď hroz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všetkých st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pred pád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chrá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včas sa zobud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ch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nikdy nezradí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eď príde úzkosť,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vždy pri mne, Pane, st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dar silou, múdrosť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hr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vojou mil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tebou kráč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pre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vžd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smie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lúžiť blížnym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 láskou chcem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ma v svoj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52:09Z</dcterms:modified>
  <cp:revision>22</cp:revision>
  <dc:subject/>
  <dc:title>Je veľký náš Pán, on slávy je Kráľ Nech do všetkých strán  spev vrúcnych znie chvál.</dc:title>
</cp:coreProperties>
</file>