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523-0E3E-405C-BB48-D26CC5E4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676-CCD7-4E19-878E-54BAD871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1E6-E2A2-4107-B0B5-806E06F5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2BC-DDA2-4D59-9962-2DBD39B3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F2D-C00C-4735-9350-01ECB43F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2D3-8072-4449-9DAE-019BA8FD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FBC-D510-4B8F-9093-4D88EDE3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5AC-4BB5-4486-B912-16151257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DB4-BEE0-4AED-B927-47B017D4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9E8-0B2E-458D-B33D-A61AB63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DD7-B18F-4C76-9DFC-861384B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E4A-F3BA-4236-8C8C-0F71949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968-B21D-4607-9AA2-5D5498361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3 Pane, z tvojho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z tvojho požehn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lynú prúdy radosti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nás tvoje ruky chrá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pokušení, v úzk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každej dobe napriek mdlo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aj vo viere stálos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prijmi chválu, vďačn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ť, dar spasenia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iež nám tvoja stála vern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áskou srdcia napĺň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eď nás k cieľu,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hoden chváleni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7:53:52Z</dcterms:modified>
  <cp:revision>22</cp:revision>
  <dc:subject/>
  <dc:title>Je veľký náš Pán, on slávy je Kráľ Nech do všetkých strán  spev vrúcnych znie chvál.</dc:title>
</cp:coreProperties>
</file>