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6B5-DDD4-4CE8-AAB0-CF9ABB7C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799-F60A-4952-A2F4-82ED71B5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5DD-535D-4D66-9F87-699977C8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06F-DD67-431B-B712-20ADC9B3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18C-A433-41BB-9FFD-AE7AB58B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7DA-B035-465C-A836-9FD42226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E80-41EA-4D98-90B9-C257E83A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482-B091-46CC-AB63-18ACF333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AFC-9790-4C9F-8D35-9F87673A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50B-D14D-4E8D-994D-DEC82380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383-4A88-4D2E-B947-E35D4B3C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5B5-9D0F-4FFC-B103-E996E5D1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BBD1-4BC2-42EE-8709-0740AC798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0 Pán Ježiš je pre mň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jdrahš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rád ma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riateľ mô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pre mňa najdrahš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celom svete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jeho meno vzácne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ilo srdcu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d hlavou m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erny mra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pieram k nebu viery zra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mútok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í ma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ateľ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tíši bole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úcit so mnou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pokoj svoj mi dar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iedu moju z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kúsil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ždycky v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iela pomoc zas a z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idem tm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predo mn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riateľ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je môj záchran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ním chcem verne í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jemu z lásky, 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život zasvä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môj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dobre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za všetko ďak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21:31:06Z</dcterms:created>
  <dc:creator>MD</dc:creator>
  <dc:description/>
  <dc:language>en-US</dc:language>
  <cp:lastModifiedBy>MD</cp:lastModifiedBy>
  <dcterms:modified xsi:type="dcterms:W3CDTF">2000-10-11T20:21:11Z</dcterms:modified>
  <cp:revision>3</cp:revision>
  <dc:subject/>
  <dc:title>Bez nadpisu</dc:title>
</cp:coreProperties>
</file>