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F35-DA5D-4603-80C5-5994EA06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613-42DC-48E8-9EB6-AE5914BD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8BC-5F93-4107-96B8-CC5E1736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6FB-6DC5-41B9-910E-52E56DCF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A4A-6F16-4AA8-AC1B-3AC8D47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3DD-1D5A-4094-8B07-CE5CB35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528-EA41-4660-A29B-CA0D6EC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336-8A25-4AA9-900B-F50F1554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79B-F334-4FDB-A851-5FBDF1B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7D8-63DF-43D1-9A82-92C3BA8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0C4-85CE-4FCD-BEEA-4F85B42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56A-39C4-4C58-922B-C1EA6D0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23CE-19DD-45CF-9411-1DAEB06F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5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sa zídeme tam spol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i sa zídeme tam spo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Pána miesto chystá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nieto strastí, bô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droj kde blaha je on sám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i pred trónom Baránko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z sa všetci stretn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de ho chválospevom nov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olu slávi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ude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i to mesto uvid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torom vládne láska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či nás Pán všetkých pri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onen slávny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ý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?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Áno, tam, áno, 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ídeme sa spolu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ríši svetla, nebies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pred tvár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raz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4:59:48Z</dcterms:modified>
  <cp:revision>21</cp:revision>
  <dc:subject/>
  <dc:title>Je veľký náš Pán, on slávy je Kráľ Nech do všetkých strán  spev vrúcnych znie chvál.</dc:title>
</cp:coreProperties>
</file>