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026-4B0B-4C76-B5F4-7E01638B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F87-0744-4A93-BFFC-F6F5581C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D06-9540-4779-87A6-51FCB96C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D98-588A-4A9F-91F3-46FA95D9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033-12F7-4808-9161-7C3A18A2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7DA-2F2D-4626-ACBC-1D2832A8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ABC-1D7E-4F8B-8642-B16A731C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AA9-6178-41BA-95ED-5F6B3E42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A3F-E4DB-486C-81AE-321C930E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C1A-4ED3-49ED-B036-22BAA59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732-8870-462B-847E-EEF872FA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26F-3383-4FEB-BAE1-C6530DF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2CAA-F75D-4183-BE2D-497D5CCFD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3 Uplynulý tý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z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plynulý týždeň z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l si s nami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ečnej chvály počuj hlas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ebesia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kd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ró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o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má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Pred tebou sa skláň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u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ť ti vzdávame.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 sľubom veríme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voju lásku, dobr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 dar Ducha pros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rý vedie k 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Odním bôle, star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ravej radosti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y sa k tebe blíži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ústrety nám vyjd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y vieš, po čom túži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káž svoju slávu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Už tu sčasti skúsiť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nám chystá večný raj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ím Slovom poteš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útechu daj kajúci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bré snahy upevň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suš slzy plačúc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: Sobotný deň posväť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a zemi i v nebi tam. :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43:04Z</dcterms:modified>
  <cp:revision>22</cp:revision>
  <dc:subject/>
  <dc:title>Je veľký náš Pán, on slávy je Kráľ Nech do všetkých strán  spev vrúcnych znie chvál.</dc:title>
</cp:coreProperties>
</file>