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828-B21B-423F-A54D-B3B52081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30A-CBBC-4227-A428-8CCCE3F1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C85-433B-4C51-A143-55F4CAE2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0C3-E89F-48F1-8EF2-3D6D8D90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F69-D1BC-46B0-9D1D-9C2289DA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9E7-0A31-4859-9F23-4089F44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37A-DF28-4FC7-AA74-E48239FA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C59-BC14-4BED-AAE7-AB768FE8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5A4-FF17-44B4-A7EF-191E00F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4E0-A59D-48FE-B38F-426261FC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F75-CCA6-4040-ADC6-D453DCE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246-A1A3-4E1D-A156-BE72E913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A97A-B52F-4CEF-AAE6-1CB8E90F1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8 Pred tvojou láskou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vojou lásk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skláň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 vďačnou úctou, pokor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rúcnu chvál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vz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kríž je mojou opo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tvoja milosť neskona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ečný život darov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Pane,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 láske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n bremä snímaš, dávaš m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vlievaš, tešíš v ž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e si za nás m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chcem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 hriechom bor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voj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sa vnor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túžiš, aby všetci ľud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spásy v tebe prij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í, čo vo tme hriechu blúd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 pomoc hľada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pomô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a verným stan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dkom o tvojej láske, Pan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55:17Z</dcterms:modified>
  <cp:revision>29</cp:revision>
  <dc:subject/>
  <dc:title>Je veľký náš Pán, on slávy je Kráľ Nech do všetkých strán  spev vrúcnych znie chvál.</dc:title>
</cp:coreProperties>
</file>