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6454-D668-4448-8EA4-03250F5F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638F-5A7B-454B-B2DF-DB2F2346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4896-3FE8-4D82-AB7C-8809DD92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FC87-45FC-4423-ACA1-3C0384A9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570F-5AD9-48CA-AB70-20BAA3F9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9712-29D9-498E-8985-2D1EBC31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73AA-B75C-4967-8A3E-3BF81674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6602-F89F-4AD3-8735-96A0F7CB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5180-8A66-4A4F-9C16-604B0C81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B366-028C-4695-969E-7E977BE9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E6A6-ED9F-4AF7-9C39-D21C2C28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9607-63F3-45B5-AE4A-E91E782E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5806-D0B7-4B82-BADF-8BA2C223E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71 K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obotného rán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ám svitol nový ja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sobotného rán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m svitol nový j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ce teba, svojho P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nes chváliť každý z 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ak z rána rosa kvet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ždy dáva sviež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ak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hnáš v tom dni svätom nás v svojej štedrosti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nes vďaku priniesť chce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 tvojej lásky či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e z kríža prijať smie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ar odpustenia ví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 sám si naše stra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údel niesol rá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v novej rajskej vla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ás pri sebe chceš m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k tebe priniesť chce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ú hriechov našich tia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ď vykúpenie zrie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v tebe, Pán ná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dnes o požehna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ťa vrúcne prosí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cestou spásy k cieľ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len teba chválim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 synov Božích prá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m vydobyl si spä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voj návrat očaká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ubolený sv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v tvojej prítom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as mieru nast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i koniec neprávos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stné zvítani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7:02:02Z</dcterms:modified>
  <cp:revision>22</cp:revision>
  <dc:subject/>
  <dc:title>Je veľký náš Pán, on slávy je Kráľ Nech do všetkých strán  spev vrúcnych znie chvál.</dc:title>
</cp:coreProperties>
</file>