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35B5-B24C-46A7-AD3C-620F004F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0A1F-1344-465E-9D14-900BC873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A87-168B-42C1-91E9-92BAC95E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B149-5ABE-4B56-A775-0CF0BE98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F09-F00F-46B3-90C9-B3A72F17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EC44-567C-4C4B-84DF-2F1FDC67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9AA5-FCF1-4B01-A539-D5E350CA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93D1-293B-46B6-8820-54C70A1A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E59B-A454-4E68-B6A0-5695740F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61AC-263B-4DD5-A304-CDB0C9FB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23EC-335B-4692-B4E2-B27BF6AE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8B05-A8EF-4881-99EC-2BA65C93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C5D7-CC84-45BA-A843-13BF602F8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87 Smútok stried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lesť a žia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mútok striedal bolesť a žia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ríž svoj niesol som s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chránil ma môj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Golgota, Golgo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chránil ma môj Pá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, keď kráč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om s n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som našiel svoj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šiel ma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Golgota, Golgo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šiel ma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áchrancovi dobrorečí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mňa dal život svoj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žiš je život mô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Golgota, Golgo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 mi vrátila Golgo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žiš je život môj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2T08:01:08Z</dcterms:modified>
  <cp:revision>20</cp:revision>
  <dc:subject/>
  <dc:title>Je veľký náš Pán, on slávy je Kráľ Nech do všetkých strán  spev vrúcnych znie chvál.</dc:title>
</cp:coreProperties>
</file>