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7EF-AF1B-47AA-8609-0F688B15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334-6921-4565-A409-6C91BF09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A5C-E485-4702-9EDF-0764572A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FC5-07AD-49CF-840B-62F7FDDE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17E-2B37-4152-8DCD-5DF31DD5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EA1-BD2A-4D15-A556-25610C3E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EE8-C635-4758-9900-F1ED57FA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A7B-D92F-4CF4-8104-1CDE97BC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5CA-1811-4992-86A3-0BDAC326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32A-CFCA-46AE-9032-BD805599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8FA-8BF1-4C4C-BAA8-DA4CF924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CD63-7D59-4283-B93A-2BE64962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1D8A-CDE0-4DDF-98D4-DEBE66BAA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1 Meno Ježiš požehnan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eno Ježiš požehna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ácnejšieho mena ni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je všade zvestova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spásu prijal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eno Ježiš slávne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ňom máme spas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ú šír o ňom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rukou daj sa v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om mu vzdávaj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ho mene Pán Boh žeh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y dáva v 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láska k nám je ver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ť núka zas a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eno Ježiš slávne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ňom máme spas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ú šír o ňom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rukou daj sa v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om mu vzdávaj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vzdávaj menu Ježi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ec nám v ňom všetko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uj sa, kto v neho verí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mu slúž, on je tvoj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eno Ježiš slávne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ňom máme spas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ú šír o ňom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rukou daj sa v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om mu vzdávaj če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0:32:48Z</dcterms:modified>
  <cp:revision>20</cp:revision>
  <dc:subject/>
  <dc:title>Je veľký náš Pán, on slávy je Kráľ Nech do všetkých strán  spev vrúcnych znie chvál.</dc:title>
</cp:coreProperties>
</file>