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A7CF-D300-4F25-8911-65E54C7B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169-8321-4922-A718-DA1FABB3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229-7B03-476B-8DDE-A2FE1FE7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2BF-5994-489E-BDE1-C72A2035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B83-DAE2-413D-B640-131380A6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5E0-211F-4139-988B-A4DFA3D0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FAA-4277-405C-8FEE-ED9DD046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948-A510-4D15-B682-9696780C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E8CB-DDD9-46D9-92FF-B57184A4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5FA-2B8A-4E66-BBBF-4A5279B1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D24-F121-4BF4-ACE6-EBEE2F08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C3A-860A-47B9-86B4-403045D9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35E2-3AF8-4AF7-8BFE-52B24AD7A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3 Príď, Svätý Boží Duch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Svätý Boží Duch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a mocne vládni v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 vplyvom tvoj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e 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tichý počuť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oheň z neba, rozohr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srdcia stude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prúdom moci nebesk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ú znovuzrode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vánok tich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ôsob v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č mier do sveta n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 nám šíriť, kým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ú spásy zvesť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vlaha z neba, Boží 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rop úhor navôk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k balzam lieč a popraj z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íš hlad i srdca bô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múdry Radca, Teš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nauč ako 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víťazstvu cieľu určuj sm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Duchu svätý, príď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5T10:09:13Z</dcterms:modified>
  <cp:revision>19</cp:revision>
  <dc:subject/>
  <dc:title>Je veľký náš Pán, on slávy je Kráľ Nech do všetkých strán  spev vrúcnych znie chvál.</dc:title>
</cp:coreProperties>
</file>