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18D-E46E-4CEE-921A-FF0907B6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D11-BF08-4EA1-88AB-C0C992E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471-1288-4EA6-A447-A4561814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90A-0ADF-4F30-98C6-29386AA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D03-A8A5-41F5-8B51-48F2451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AF1-F616-42E7-AD89-0BA31D1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2AE-9EE0-4958-8E50-176FB40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D6C-7F95-48B6-A760-FF69B19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D46-95DB-4AA0-8647-1777BD8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DEC-F659-40EF-978D-F2EEDBA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22D-00B4-4406-9B7B-D480665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CB1-AE64-41C3-B370-BC4D746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4D0-CB7B-47B8-8138-BA3E1348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5 Ži vo mne, drahý Kris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 vo mne, drahý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mojom srdci s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Duchom svojím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cestou spásy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rady tvojho Sl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denne prijím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ítim, že si pri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ť v srdci pravú lás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adnu zlobu v ň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nedokáž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a to slabý s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preto spolieha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oju pomoc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rád ma vypočuj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 pevne veri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m vybuduj si vo 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elý som vždy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iba ty si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ravý blaha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m, prosím, moju pý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ozdob poko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skúškach, v každom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ojou opo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v tvojej cirkvi úd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re mňa veľká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j konať tvoje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ebe šíriť zv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lížnym o tom hlás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ása v teb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áš rád všetkých ľu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každý o tom v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09:55:03Z</dcterms:modified>
  <cp:revision>20</cp:revision>
  <dc:subject/>
  <dc:title>Je veľký náš Pán, on slávy je Kráľ Nech do všetkých strán  spev vrúcnych znie chvál.</dc:title>
</cp:coreProperties>
</file>