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784-B09C-4C6D-B615-5A3C3824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2FE-DD17-4EFE-A3C0-8EAA510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F0B-BC50-4863-B01E-E638C661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A71-B093-4916-8722-143EA289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0D3-28AD-45D2-B09D-9D0926F8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D89-4A08-4342-AF39-B5FA6CEC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CE4-4312-4333-BCE0-A80C29B8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7D5-7F66-4000-8803-2088897E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ABE-F82A-434B-924B-A42835B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287-9627-4F26-8F38-195A199F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8D2-C2C2-4696-89AF-D6A3865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13A-E8FA-470E-A818-A6A5804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A692-6E20-4A22-AA54-6568EE4F5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7 Pán z lásky trón opust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tvojich mu za to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prijmi za svojho Krá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obhajcom tvojím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láskavo k tebe sa skláň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tebou verne bd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, chválu mu 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prest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tvojich mu za to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prijmi za svojho Kráľ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z lásky trón opus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pôsob jak spasiť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ie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život svoj polož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hriechy a za viny naš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tvojich mu za to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prijmi za svojho Krá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nádej pre člove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do hlbín hrie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kles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láska je odve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on za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ä vín nies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e teba na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tvojich mu za to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voľ si svoj života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prijmi za svojho Krá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 srdce klope 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dovoľ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eho vstúp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cestu ti osvie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nebud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mnote blúd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40:01Z</dcterms:modified>
  <cp:revision>33</cp:revision>
  <dc:subject/>
  <dc:title>Je veľký náš Pán, on slávy je Kráľ Nech do všetkých strán  spev vrúcnych znie chvál.</dc:title>
</cp:coreProperties>
</file>