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C6D-446D-4583-9771-51804AB4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CA9-FDF5-4189-A0D5-D19758F6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105-1068-4707-8B19-5BA551BB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0C3-3F6C-403A-A04B-028E052C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09F-46EB-4C47-A0F3-654A510D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34D-2CF8-4DDB-B5D0-2E06DCA5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F4A-4F62-4618-BF6D-1C1CCB73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01B-5D26-4045-AF58-4CE4D4E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A8E-0CA9-448E-80CC-958B697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3DD-A59F-4C27-8AC8-BB7B354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7FD-0740-431B-B8D1-5A690A1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583-7B26-4634-9F4B-29E7C84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A1A-15A1-4DCE-9E41-49F70C707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2 Príde skoro už ten č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de skoro už ten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každá bolesť vzdi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remä hriechu spadne z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za oko nezakal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 a smútok prest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večná na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doba, tešme s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končí utrpe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ou hľaďme k nebe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kiaľ máme vykú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ôverujme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me stále hotov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9T11:57:00Z</dcterms:modified>
  <cp:revision>21</cp:revision>
  <dc:subject/>
  <dc:title>Je veľký náš Pán, on slávy je Kráľ Nech do všetkých strán  spev vrúcnych znie chvál.</dc:title>
</cp:coreProperties>
</file>