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C846-B00C-439D-902D-8EF1A9CE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163F-1B77-4A4C-96BF-AB4927F1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4C4C-4CD9-4CB7-8F6A-0EA162BE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69B7-5D22-48DD-BA2D-8A2D3D3D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EA04-6A23-4C6C-95F2-13B73377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7008-8364-40B1-A10B-B7CD629B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2935-ABC9-4C05-92CB-4548CB1A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E411-D82F-42FE-B643-93D91DC8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91DA-F4AC-4CDA-A376-6E7F8018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AD4C-E177-4335-8D0C-450F03F1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96FF-B02B-4B1A-9ED9-D3B5314A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92E9-0B4B-46D4-B331-6E768983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E543-6BED-41ED-A88E-7FB8F2B3C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62 Jak víťaz letí vesmír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k víťaz letí vesmír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kriesený náš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m tajuplným priestor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, k nebies výši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žiaru telies ohnivý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sláva jeho skv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hviezdnych diaľka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onivý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u Haleluja! z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v sláve neba prebý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predsa blízko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á Hviezda večne žiariv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šíri mieru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uh tvorst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sa začí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všetko má stred svo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vety diaľne pohý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život náš má zdroj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21:30:54Z</dcterms:modified>
  <cp:revision>35</cp:revision>
  <dc:subject/>
  <dc:title>Je veľký náš Pán, on slávy je Kráľ Nech do všetkých strán  spev vrúcnych znie chvál.</dc:title>
</cp:coreProperties>
</file>