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84D-38E8-4588-91A1-6F16187F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EE5-0733-4277-B147-46351273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0D6-601B-4DC8-B966-F90E1605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9B0-F4B5-4612-816C-2E4059E2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CEC-4FA2-449A-B49C-C960FC59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9E0-B86F-4D54-BD32-BECC0F1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06A-9E01-4145-BF4A-43828340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F7C-9194-4D89-8387-CD9E147F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021-D78C-4145-8E1B-C27E1247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567-624E-4EF8-8072-54D6324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886-7B31-4BE2-9C1F-B5002B98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FBE-2DEC-41C2-AE6D-DCDFCDE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1701-ECF4-4D1F-961D-D3ACFE710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5 Ty sa za nás prihovára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a za nás prihovár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rahý Pane Ježiš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e deti požehnáv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jmi poctu najvyš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aj svätí anje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ujú meno t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sa skláň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u, česť Ti vzdá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áš vždy na hriešny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júcim rád odpúšť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nižuješ ľudí pyš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rných však v láske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š vzácny vier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pokojom nás blažíš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besiach, u Otca,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pravuješ miesto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 všetkými starosťa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e k tebe prichádz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 máme, nie sme s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ho Ducha chceš nám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ikom inom spásy ni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ba v tebe, drahý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svoj si za nás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me ti pieseň chvá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23:05Z</dcterms:modified>
  <cp:revision>32</cp:revision>
  <dc:subject/>
  <dc:title>Je veľký náš Pán, on slávy je Kráľ Nech do všetkých strán  spev vrúcnych znie chvál.</dc:title>
</cp:coreProperties>
</file>