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57AA-43A9-4681-B6A5-871651EB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13FA-D0D0-4DEC-B7D9-624C8FDA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E5B-C146-4BF9-A7B0-06E469DA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BBB-761E-48F5-A3D1-8CBCF17C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D4E-763E-42D4-9EBC-006D7E17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049-BCA7-46EB-88E8-05C94DDF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DE9-6576-42C3-85F3-51526A00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6FF-2A89-42A6-B71D-77310E38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A2E-D992-4E22-A7F0-5E494B0E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5AB-3223-4301-82D3-A0D9FE6C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CF8-2BD1-4000-B05F-1674D322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4510-BE85-46E6-B4C4-EE39F972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1948-ECBD-4647-A1EB-E38BFFBF4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9 Ja viem, Pán je záchrancom mojí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árou v tvár ho uzrieť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v sláv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naveky s ní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v údolí tieňov sa teš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nádherným zasľúbe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s ním ja sm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 istý, že cieľ dosiah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 láskou a vrúcnosťou vďačne 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a velebiť chce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iem, Pán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com moj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slávy neba sa vzd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môj hrie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Golgote zomre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ne istotu života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s ním ja sm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 istý, že cieľ dosiah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 láskou a vrúcnosťou vďačne 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a velebi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hrobu víťazne vstal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ládne aj nad smrťou s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sláve sa vrá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na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lásky sľub zanechal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s ním ja sm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 istý, že cieľ dosiah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 láskou a vrúcnosťou vďačne 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a velebi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09:02:15Z</dcterms:modified>
  <cp:revision>20</cp:revision>
  <dc:subject/>
  <dc:title>Je veľký náš Pán, on slávy je Kráľ Nech do všetkých strán  spev vrúcnych znie chvál.</dc:title>
</cp:coreProperties>
</file>