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809-BB21-41F2-8FF2-0B1496AF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101-2E06-4811-861C-3C68C6FE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087-1DC4-4C4A-B337-26A9F1D5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8A7-72B0-4C02-9137-F23AEF89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2B4-5D5E-4F64-8E55-45953E4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9F-9AF6-47FF-A765-7E1145F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A87-3114-444E-8AC2-658A581D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16C-0235-4093-A09A-F53C297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62-7CDC-4453-BF42-11250FD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864-57D2-49AE-A744-5047C53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12A-502C-4D42-8B6D-2933256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D08-0ED7-4135-A347-FE37321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CFF-F595-4449-AF6F-17821AACC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6 Zas vôkol radosť vlád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Zas vôkol radosť vládne,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je všade spev a jas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a kraje nedohľadné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sú plné sviežich krá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aždá kvapka ro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ako krištáľ sk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ú včielka nektár nos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pieseň vtáčat z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u kvitnúce sú sad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chodník do pol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reťaz vrchov hľad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tichých údo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n obilia sa vl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potok žblnko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motýľ na výsl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Bohu chválu ch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nespočetné da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z lásky Stvorite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bá o všetky tvo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život má svoj ci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ní svit, pokoj noc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z milosti nám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ary jeho moc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 vďačným srdcom chváľ!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uzivatel</cp:lastModifiedBy>
  <dcterms:modified xsi:type="dcterms:W3CDTF">2010-07-24T11:46:32Z</dcterms:modified>
  <cp:revision>91</cp:revision>
  <dc:subject/>
  <dc:title>Je veľký náš Pán, on slávy je Kráľ Nech do všetkých strán  spev vrúcnych znie chvál.</dc:title>
</cp:coreProperties>
</file>