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FEC-6B69-44A4-B9F3-A489AFB1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FCB-94B0-4957-B46C-5A73DAB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FC2-CF09-4E2F-AC0F-EA987E98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621-DBB7-42E4-AE9D-88EC7429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43D-371B-49D0-B2C6-93453142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B11-6375-4E19-A3A9-2ECD1C7F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CCE-82FA-4D5C-8F4F-44D6EDB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432-E8EF-46CF-8CB2-66A9986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013-3B68-4E9E-86F3-EB543AB7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11A-791A-4D36-96EF-4C07143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9DA-4617-44C9-A0F2-D6A4B94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CF5-9553-4F20-958F-AECA13F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81D-FD08-4F72-B983-525FF71D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2 Dnes teba, Ot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 na neb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 teba, Otče na nebi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cem chváliť, piesňou veleb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 ten pamätný deň stvor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red tebou skláňam kol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zácny nám je tento deň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eď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žiadna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úzk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tar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i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m výhľad viery nekry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Bohu chvála v srdci zni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tvojho Slova pravdy j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estu svieti,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y iste k cieľu d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tvár raz tvoju uzri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vyplní sa túžob s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de stála radosť, večný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m Spasiteľ nás priví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dá nám veniec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vot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37:48Z</dcterms:modified>
  <cp:revision>22</cp:revision>
  <dc:subject/>
  <dc:title>Je veľký náš Pán, on slávy je Kráľ Nech do všetkých strán  spev vrúcnych znie chvál.</dc:title>
</cp:coreProperties>
</file>