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73F-8A1D-4D70-B00D-D2EFBB0F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88F-0FF4-4DF5-B635-8CC6DD14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A61-F37D-46E4-A383-5FD9BD57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CB5-AA09-40AE-93F9-DD6D3196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EB1-5FD1-4189-AB4D-5B954080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0A1-6BC6-4A6F-97E6-3632C480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CB6-EA23-417F-B575-F1C04563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E01-592E-449D-B1B5-73054A89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7B5-191F-4DAB-A2D4-3B1FD2EB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647-037C-4B16-BF76-AEABE00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EB1-43F9-4756-B1E0-256DEEBA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8D0-9FF3-499C-86E6-72815831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D40F-F7E6-4748-BFF3-A5F354632DA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1 Tak, ako dávno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dnes z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, ako dávno, aj dnes z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Božej lásky pozva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 ochotne naň odpovie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ť nový život s Kristom smi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š z hriechu pút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vyman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vojho Tvorcu osláviť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er Kristovi dnes život svo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dobre bojuj viery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čuje vrúcnej prosby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pomôže ti práve v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všetkom, čo ťa trápi, v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koj svoj ti dar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ľaď na neho vždy s dôver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ajlepšou je opor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s ním bezpečná je žitia pú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ňom smieme večne spočinú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0:29:05Z</dcterms:modified>
  <cp:revision>24</cp:revision>
  <dc:subject/>
  <dc:title>Je veľký náš Pán, on slávy je Kráľ Nech do všetkých strán  spev vrúcnych znie chvál.</dc:title>
</cp:coreProperties>
</file>