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0B8-141E-495A-B507-7C711BD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B87-825A-4A67-A83E-704A68D4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BD5-7D1C-4099-8668-F1EB0D3E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543-317D-471D-BCC4-69F7822A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F23-5046-4925-9A00-836CF72D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840-AFFC-458E-BD54-EBCCFCB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268-F491-45D9-ABB1-A5C0E4F2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77E-D8BD-4B51-8FD9-B588B7E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E6E-50AD-4E48-BBBE-EAC70E7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F74-305E-4E45-A679-55FC8D94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13F-7AEF-4BD0-ABCE-4A48490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C3F-E8C1-480A-AF5D-8B58126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B08-BD01-4004-8EF2-992381C7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4 K svojmu krížu veď ma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vojmu krížu veď m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 mil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ním hojnosť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vný zdroj si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a kríži mrel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ťarchu hriechov nieso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u vinu krvou z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tratený nie s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om biedny, zra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istov kríž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na mňa pozr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u som na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 moja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ja nádej,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aj za mňa zomr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utiekam 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len, z kríža l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ýšti pomoc st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u v svete neis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pevná je skal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1:59:45Z</dcterms:modified>
  <cp:revision>20</cp:revision>
  <dc:subject/>
  <dc:title>Je veľký náš Pán, on slávy je Kráľ Nech do všetkých strán  spev vrúcnych znie chvál.</dc:title>
</cp:coreProperties>
</file>