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24D-AA5F-488C-AA3F-79D196C1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EB3-23F5-4529-985F-36FC7A9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C19-B338-4C5F-8F03-6F258F30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D9E-B505-41B2-A805-1FC1C7D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B4F-B476-4417-AE18-35528E6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67E-86FB-44A1-A561-992BA5E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CE0-8E8F-40A6-A353-E3F3A3B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3E7-7FB3-4300-B698-47BDA600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826-1CE4-4335-B0DD-BE613036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B1A-72CE-41C0-B65C-A20A2F9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3E7-4F2B-48EA-946A-07FC012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1DB-5999-45D2-89E8-EB076C5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E50E-DEBE-4FF3-8FB3-156DD528B3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3 Prebuď hriešnych, čo bez Kris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hriešnych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bez Krista márne hľada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 šírej ceste svet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enie strácaj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buď unavených, slab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ých, čo tiesni smr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a im zaskvel Kristu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noci im svitol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z ospalosti všetk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ých mámi sveta kl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z bahna túžob hriešny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preli zrak na kríž ta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aj za nich Kristus trp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šných múk, keď kalich p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nikto nezahynu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le s ním raz večne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spiacich, sebaist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ým zdanie bráni zr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len s Kristom prišla mil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ez neho spásy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laj, že sa blíži rán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sa skoro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dar viery vďačne prij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naveky nezhynie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2:09:18Z</dcterms:modified>
  <cp:revision>36</cp:revision>
  <dc:subject/>
  <dc:title>Je veľký náš Pán, on slávy je Kráľ Nech do všetkých strán  spev vrúcnych znie chvál.</dc:title>
</cp:coreProperties>
</file>