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6DD-068C-47BA-A119-C86571CC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1F5-2C98-4796-99D0-2A728F1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2F4-8E56-4652-948E-FEDF7376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BAD-60B1-4BB2-88D3-C0F08CA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62D-96E4-40BF-8DB0-9DE87F16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2D1-8F84-4F70-9BD7-1672D1C1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122-5DE9-4DB6-8D05-0290DF1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F0D-2A33-41F4-AA7C-32195BF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7C9-E57D-4124-86A4-ADC5B8B5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0C1-DC18-4682-AC70-3E22FCD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964-1729-43CB-9DE1-149C93C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8B8-710D-48E1-8987-D8D09C6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052-11E4-4336-9A16-B9E0F76F861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7 Čo dať ti máme, Bože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dať ti máme, Bože n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šetkým vládneš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má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y môžeme len česť ti vzd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rúcnym srdcom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dosiaľ nám si dal dosť sí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ľud tvoj ťa, Pane, prácou cti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láskou staval tento 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chváliť mohol teba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hnaj dom tento z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aždej zbav nás úzk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m je miestom modlitieb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ľud tvoj sýti z neba chlie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tvoju pomoc dúfa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i dnes vrúcne žel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pobyt v tvojej blízk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nám vždy zdrojom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stále nám je tento d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bytku slávy symbol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všetko zlo sa pomi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ľud tvoj v tebe spočini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7:17:40Z</dcterms:modified>
  <cp:revision>51</cp:revision>
  <dc:subject/>
  <dc:title>Je veľký náš Pán, on slávy je Kráľ Nech do všetkých strán  spev vrúcnych znie chvál.</dc:title>
</cp:coreProperties>
</file>