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03E-2582-460F-A9B2-0A7ED215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25A-7D06-48FF-88F2-359760B2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E81-2EF1-4423-95C4-EDD1DDFB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ECB-9E6D-446D-B6EC-2083C4C6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F72-BC53-4134-B10D-7C5AFF5F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37C-AFC7-4A1C-BD89-7691BDDC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819-2241-4014-A840-64439BF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ED4-ACFA-47FB-B8CE-0E80023C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F9F-3637-49CF-B556-B5BBDBB9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D31-8E22-46A0-8F96-1D5F36B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33B-D516-4F3B-947F-F3FDDC7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6A3-2803-4B26-A6FB-3725A4E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3DEC-F625-4140-86C6-FC84BC32B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4 Choď, nádhernú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ás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okojná noc, tich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šetko vôkol sp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z neba žiara ja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náhle obklop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anjelský spev z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očesť Dieťa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ľudstvu darova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Láska pre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yn Boží k nám raz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 sa naro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aše hriechy trp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vot polo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, nádhernú zvesť hlá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krásnu správu zanes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arodil sa, jas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prišiel Kristus, Krá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7:41Z</dcterms:modified>
  <cp:revision>31</cp:revision>
  <dc:subject/>
  <dc:title>Je veľký náš Pán, on slávy je Kráľ Nech do všetkých strán  spev vrúcnych znie chvál.</dc:title>
</cp:coreProperties>
</file>