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B8B-855A-4314-8AA4-2ED38CBF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D46-7667-41C7-988A-22358669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E4A-E516-4B6D-916C-E36E8819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255-4D39-43A5-8D55-43AD48F6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11F-B099-40DE-BE17-725B6A8E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9B9-7A30-4CED-9A0D-EC01F8BE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5B5-29CE-478A-AB9D-61388688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BEF-7E27-4F9F-8286-252039B4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F43-240A-458E-8A5E-ADD7C392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933-EF25-4BCD-A90D-7A5D0B3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1DD-F4E5-41A2-9996-B778F38C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F5F-7B75-46EA-A8E2-56A9B217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4F51-77EB-489B-9673-3261859BA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300 Náš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, Pane sobo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Bože, Pane sobo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ždy plný lásky, dobroty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č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uj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ašich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labých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osieb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hla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iar svojej lásky roznieť v 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a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prítomno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oj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jav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s k sebe tiahni, zlého zba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naše vrúcne piesne chv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 ob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rijmi,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ý Kr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u svätiť sobotu nás uč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od tej večnej neodlúč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eď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erným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dáš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tvár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vo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ju</a:t>
            </a:r>
            <a:r>
              <a:rPr b="1" lang="en-US" sz="35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rie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lasť novú v sláve uvi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Príď skoro už, deň túže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 radostnej tej premen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o splní naše nádej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strasti nav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y odve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38:23Z</dcterms:modified>
  <cp:revision>23</cp:revision>
  <dc:subject/>
  <dc:title>Je veľký náš Pán, on slávy je Kráľ Nech do všetkých strán  spev vrúcnych znie chvál.</dc:title>
</cp:coreProperties>
</file>