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F0D-5B46-4F67-84E0-BABDF903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31E7-5B57-415F-9EF7-0EE5F58C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411-BF91-4126-A4E9-ECCEA80D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932-AC29-4F1B-AD68-54E8AB8A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83BC-A397-4931-A86A-11505EF2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D71E-0504-474A-BBD9-A813CF63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C021-FA36-46A4-B35F-F204FC2E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56E-33E7-4B7F-9DCA-47E58BF2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BC8-FBAF-4776-B344-BA5BD137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938-C18E-4713-8CBB-8086D9D3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B2C6-2ED9-4203-B48E-EE7C23D3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A21C-867A-4CAF-8AD2-78E7D5DD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5184-6E19-4548-97B4-06ADBF6F7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92 Znie celým sve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ný t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ie celým svetom jasný tó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všetkých strán čuť hlas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čoskoro už príde o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Pán a Darca spás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eč Božia všetkých var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spánku budí spiaci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s žatvy prišiel, zvest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spasenia je vzác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radostné to posolstv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ľuďom nádej 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končí sa už otroctv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domov očak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príde, zmizne smrti tieň, čas sĺz sa nenavrá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skoro nastane ten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pasiteľ sa vrá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ť adventu tón radost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 liek na sveta rany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Pán splní sľub svoj slávnostný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už otvorme mu brá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ydobyl nám víťazstv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Bohu česť a sláv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ď, Pane, tvoje kráľovstv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ľud ťa očakáva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2T09:58:54Z</dcterms:modified>
  <cp:revision>21</cp:revision>
  <dc:subject/>
  <dc:title>Je veľký náš Pán, on slávy je Kráľ Nech do všetkých strán  spev vrúcnych znie chvál.</dc:title>
</cp:coreProperties>
</file>