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269-3779-44C8-89B4-F555DE57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044-A06D-450E-B0DA-C5984932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206-04E2-4539-AD89-E15C5BB9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F11-7A5C-4B58-82F0-0EC247AD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D75-C546-48C0-8FE9-076EEC58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56A-B8A6-4E57-8E88-ED635704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FC3-75DF-4747-AB6C-F7CCF44D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D3E-44C9-4AC1-8963-5425169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C92-CD28-49FC-8211-1D2B68D3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624-C71C-4D40-9C9A-4E11EE3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2BE-EEA6-4422-A92B-B1BC8B7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6C8-47C9-4BB2-A127-6661CE8D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5798-76C9-46C8-AF17-007E1D33E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3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iac m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 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viac možno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m svete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ž tej tvojej láske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m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a odovzd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ňa šiel si na krí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alich múk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y som z tvojej lásky a dobrot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ím dlh vďaky splat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ti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ľub, že raz uzr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ú presvätú tvár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pre moju vi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rť podstúpi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mne život več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ým vydobyla?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 i vo ve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tvojím chcem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 vykúpený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v sláve ťa ct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ebude str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ied, rán, súž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j blaže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ez sĺz, lúče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ď, Pane náš drah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jav svoj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avždy sa skon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la desivá n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vitne deň sláv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čas vzkrie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zdáme ti vďa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dar spase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49:27Z</dcterms:modified>
  <cp:revision>22</cp:revision>
  <dc:subject/>
  <dc:title>Je veľký náš Pán, on slávy je Kráľ Nech do všetkých strán  spev vrúcnych znie chvál.</dc:title>
</cp:coreProperties>
</file>