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8E5-5F1F-4487-9983-7DEDC21F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911-D0A2-480B-933C-F583309C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725-430D-427A-B4E8-2320AE4B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638-F330-42D3-82D3-3422A051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02A-817B-4353-8797-847C55E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FFF-D1E5-4A35-8BFA-CDEF1D32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586-8E0A-44BE-8EE1-8A08B387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E85-41B0-447B-8BDF-2E4396D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B09-1BA5-4179-BF34-874F1AE6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FD9-4D28-4CCC-B676-C3E2F523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2A9-604E-488A-B3FB-9A0AA37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6FD-BD6D-4EBE-AFA6-000CC28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344-F70A-4D8D-B3A1-D7FAE5DF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2 Ako hviezdy jasný sv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hviezdy jasný svi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el k púti povzbud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Spásu hľadať š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ju v jasliach nenaš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nech, Pane, pravdy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ou k tebe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čo krok zrýchl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divom dych taj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ad zjavom užas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Dieťaťu pokľak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nech stále nieti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ť Pána, kým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z nich tam vzácny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žil ako na oltá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n príklad vzneš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 a poškvr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aj pre nás vzoro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máme Pána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svätý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olávaj v nás nechuť, li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túžba nezhy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raz tvoje spas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žiadna žiara hviez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ude nás musieť vi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4:21Z</dcterms:modified>
  <cp:revision>29</cp:revision>
  <dc:subject/>
  <dc:title>Je veľký náš Pán, on slávy je Kráľ Nech do všetkých strán  spev vrúcnych znie chvál.</dc:title>
</cp:coreProperties>
</file>