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0C5-7872-4C63-B46D-A7E68248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496-675E-475C-A270-CBDB379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5CE-85FC-4D2D-A413-3B2F8C82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393-3025-4924-B7E4-6E073E1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F80-FC57-4273-B53C-38D9000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02C-CBC2-4902-91B1-5940733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281-88A9-4B54-8B4E-C6434A27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B1D-2D62-4B31-91B4-E7854242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1AB-3BD0-4257-B4C5-E291332B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1E5-E911-4581-9049-CB6A384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F24-D46E-46BF-8441-BC91DCB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F95-C20C-4919-A814-6E1A42E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704-EF8D-4C80-B9A2-3F1D68CBE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9 Keď divy tvojej moci zri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luny, tichý vánok z hô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uk hro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áčích piesní chó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chválu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najväčší je lásky č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nevýslovnej cen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asiteľ, tvoj milý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k hriešnej sklonil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lásku tvoju preveľk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ilosť dáva človek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ždy ťa každý chvál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ivy tvojej moci zr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Tvorca a môj Pa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l tvojich ta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ať dary z tvojej dla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naplnený úža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v bázni pýtam: Čože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a mňa myslíš stá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tvojich činov pre mňa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v nekonečnej lásk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hviezd, čo noci zjasň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et skromnej sedmokrás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pokrm dávaš, tíšiš smä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usmerňuješ svetov l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ým mocne vládn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búrku, víchor ovláda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oru staviaš hrádz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všetko tvorstvo starosť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káš krásu z kvetov priadz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0:06Z</dcterms:modified>
  <cp:revision>29</cp:revision>
  <dc:subject/>
  <dc:title>Je veľký náš Pán, on slávy je Kráľ Nech do všetkých strán  spev vrúcnych znie chvál.</dc:title>
</cp:coreProperties>
</file>