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EC60-5703-4CA5-978D-0AD0C7EF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8E6F-3E88-4EED-8CE0-E8196CD8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DC67-6708-420F-8109-D0C9C3B6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9E6-CAFC-4CD7-8086-835E15CA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4C28-7D74-4A5A-A890-D23E240A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92A1-79AB-4F97-9A09-C9386B27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9FFA-1A0A-43CB-B229-164641B9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2DDB-F464-4C8C-B239-AF16DD45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C638-3ECE-4859-A354-B6CAD488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D08-5F7D-4E8D-B57B-9B876ADB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A3BC-C22D-43E1-9289-84AC4396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7DF2-5940-4130-AFDC-7F65417D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918D-B9B8-48CE-9015-E767F5AC2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71 Nepoznáme, drahý Kris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poznáme, drahý Kris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ú vzácnu hodin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i v moci prídeš is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emskú vziať rodinu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všetci vykúp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li navždy s tebou t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ich slávou ozdobený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víta Boh Otec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, kto nádej uprie smel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vlasti, ktorej zrieť smie bre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má vždy túžbu vrel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ončiť slávne žitia be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sa k tebe vierou vi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lo Slova vedie 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tme sveta nezahy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ateľa má vern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stavične teda bde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edujme reč znam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ru, nádej posilu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ou láskou spoj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náš Pán osláve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ráti a nás pozdrav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ých svojich vykúpený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čným vencom osláv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MD</cp:lastModifiedBy>
  <dcterms:modified xsi:type="dcterms:W3CDTF">2000-12-12T16:51:33Z</dcterms:modified>
  <cp:revision>2</cp:revision>
  <dc:subject/>
  <dc:title>Bez nadpisu</dc:title>
</cp:coreProperties>
</file>