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0D1-4C3F-4610-B7DA-EF0C9F4B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FDD-B49C-4F2A-A02E-31F58836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6B6-2F43-4327-9CC6-38F8450C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9F4-7FAB-4DA8-B1C0-0A95140A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772-98C6-46F8-949F-60482A3E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719-75D0-4A96-8446-67C9F9B4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428-BC58-48B2-AC1E-A2F2C343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4B1-26F6-4358-85F7-E99DC649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823-914E-41B3-B56D-15F53019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687-4DDE-4B28-8A31-1090A59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043-46BD-46F1-A87B-121EB3F4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58A-3790-43EE-B974-16FE30E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20EA-9573-4509-A6C5-E7B9F1FE6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0 Ty, Pane, ľud svoj vedieš 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Záchranca, zja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hnivom stĺp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o ríše večných krás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Pane, ľud svoj vedieš 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ho žehnáš, zveľaďuj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slovom potešuj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lávny a moc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blaku skry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 k cieľu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Záchranca, zja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hnivom stĺp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o ríše večných krá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príval zla nás ohroz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s vedieš, opatruj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oďku žitia usmerňuj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lávny a moc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blaku skry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 k cieľu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Záchranca, zja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hnivom stĺp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o ríše večných krá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 tebe sa vždy utiek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esklameš neopustí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tvoja nedopu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 s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lávny a moc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oblaku skry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 k cieľu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08T13:34:28Z</dcterms:modified>
  <cp:revision>22</cp:revision>
  <dc:subject/>
  <dc:title>Je veľký náš Pán, on slávy je Kráľ Nech do všetkých strán  spev vrúcnych znie chvál.</dc:title>
</cp:coreProperties>
</file>