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EFE4-8724-436C-B262-61A2F8FB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AC1E-B531-4BCB-9637-074CEFDB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4E9A-79B6-4472-9D99-BE784328C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9A45-A834-4C2D-8C16-D17E4D4EC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7309-1032-42C7-B6E0-93FB69DD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7DC3-117B-4C75-A9CA-58FB4315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7797-AECF-470E-9207-3743426D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E15B-E94E-42A1-A40A-C6B5FD38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0408-7434-49DD-AA1C-654D9051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A799-0B7F-4127-8B87-810187D7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ABBF-2E94-4F96-814E-29531792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9B3C-45C6-4F7F-B89F-A8B03CCA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8015-0D17-441E-BA32-300AA061C650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19 Tej tvojej svätej krvi prú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j tvojej svätej krvi prúd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 mojej spásy zdro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 v tebe, Pane spočinú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navždy byť len t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ôj život v tebe pramen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d teba spásu večnú m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ín hriechu navždy zbavený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ád sa ti, Pane odovz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tvoja láska odveká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ie tešiť v úzkos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hriechu zbaví človek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á balzam mil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ôj život v tebe pramen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d teba spásu večnú m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ín hriechu navždy zbavený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ád sa ti, Pane odovz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iež už tu cítim tvoju moc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ú tvoju dobrot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premôže raz hrobu noc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zkriesi k život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ôj život v tebe pramen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d teba spásu večnú m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ín hriechu navždy zbavený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ád sa ti, Pane odovz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 v svetle tvojom vykroči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tebou v istot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smieť  ťa budem velebi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o večnom živo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ôj život v tebe pramen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d teba spásu večnú m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ín hriechu navždy zbavený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ád sa ti, Pane odovzdá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3T19:40:40Z</dcterms:modified>
  <cp:revision>22</cp:revision>
  <dc:subject/>
  <dc:title>Je veľký náš Pán, on slávy je Kráľ Nech do všetkých strán  spev vrúcnych znie chvál.</dc:title>
</cp:coreProperties>
</file>