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8E7-07C6-4BBA-82D3-310299FD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02C-F29C-476D-ACA9-2A332197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E26-4E20-48C7-8382-09A23243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6F4-70D1-49EC-A6C4-85B36512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2A8-E3E7-4FA2-8919-28C27A2F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60A-905E-4D79-BB96-5E3D1DAE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E27-F20C-44AB-8D43-345F8A4A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D1C-59FD-4192-B485-0C39E88A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04E-0EEA-455C-BE26-5E68FD89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583-DCD1-4D1D-971C-B18C9ABA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121-BA34-440B-AD4F-B4852960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093-0864-4DD9-B17D-1345CA03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43CC-A5F8-4730-868A-733CE69F6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8 Aké príjemné a krás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ia láska nech nás spá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ach Kristus kraľ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veky kiež z blaha ra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 z nás sa radu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é príjemné a krás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cirkvi svorne naží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é vznešené a vzác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bies pokoj rozsievať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by sme sa v každej do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ím Duchom dali v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od pravdy sveta zlo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dali sa nikdy zvi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ia láska nech nás spá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ach Kristus kraľ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veky kiež z blaha ra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 z nás sa rad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Bremä jedni druhých nes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tca máme jedného;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a nás Kristus trpel vedz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olá k sebe každ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a to stále pamätaj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a ním verne kráčaj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nevy, sváry zanechaj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vzájom sa znášajme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ia láska nech nás spá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ach Kristus kraľ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veky kiež z blaha ra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 z nás sa rad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riaci kde svorne žij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hná dielo nebies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de láskou srdcia bi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si rád svoj volí st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é príjemné a krás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cirkvi svorne naží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ké vznešené a vzác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bies pokoj rozsie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!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31:32Z</dcterms:modified>
  <cp:revision>22</cp:revision>
  <dc:subject/>
  <dc:title>Je veľký náš Pán, on slávy je Kráľ Nech do všetkých strán  spev vrúcnych znie chvál.</dc:title>
</cp:coreProperties>
</file>