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30F-7656-40BB-984A-4E8645DE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178-5D03-4F8A-B0C4-77467E9B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303-0FB8-4771-ACEF-D6A1471C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1B8-806A-441E-938C-AB065F08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B85-77DB-4A51-9B88-1371C176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67D-E973-44D1-A830-7E55BC84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075-D784-4B08-A03E-F8CE70AA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B0D-F449-40F8-A717-55553FD7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76E-04F6-44DD-B6DC-BF6905D8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BA6-3725-4546-8896-39CC678B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93F8-4056-4382-A6ED-597F9A7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50E-1128-4D68-9A96-CA163E82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ABC8-E018-455C-8E91-B22AF9ADC87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0 Skončila sa tmavá no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ončila sa tmavá n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ážila nás Božia moc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tče, skloň sa v láske k n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dnes ráč nás chrániť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lu Ducha svojho d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 viere nás zachov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 nad zlom víťaz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česť tvojho mena ž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staň s nami v tento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žeň každej strasti ti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rdca nám pokoj vle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ad nami stále bdej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20:04:30Z</dcterms:modified>
  <cp:revision>62</cp:revision>
  <dc:subject/>
  <dc:title>Je veľký náš Pán, on slávy je Kráľ Nech do všetkých strán  spev vrúcnych znie chvál.</dc:title>
</cp:coreProperties>
</file>