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655-A366-4AF8-8D1D-203C3DFC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3DB-47F8-4FFA-A06E-E0E4D344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A9E-97CB-455D-9391-53AF9967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288-8E7E-4EDF-9FB5-CD66BABE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13C-76BA-4EEA-9440-51ABC55F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670-2BEC-4B2B-8434-DAA78364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F2E-D277-4203-9DF7-2AAE35D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D98-A59C-4A1C-8BF1-8BD11ED3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A42-412A-4B6D-ADC6-D15D4BF6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5F1-29CE-423A-91BE-7B515B9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CEE-507C-4F7E-A2A5-84337B44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FF5-8449-450B-B097-B5268AB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1635-A647-4BA1-ADA6-1244DF79AA7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5 Svitlo ráno po tme no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itlo ráno po tme noc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ari úsvit, svetl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é divy Božej mo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dia pieseň vďaky v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rstvo slávi Stvorite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ho múdrosť veleb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mu chvála patrí vrel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emi aj na neb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emi aj na neb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chce trápiť dušu star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trieť úsmev žiari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o srdca vložil rado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etovládca žičlivý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láskavý a stál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ca spásy, žehna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e hoden našej chvál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čo deň bez prestan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čo deň bez prest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ledné raz ráno svit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c sa navždy pom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budnú sa strasti všedné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deň spásy nastan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nkom nám tam bude ve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rca sám, náš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mu chválu vzdáme vďa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n slávny spás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za ten slávny spásy cie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14:41Z</dcterms:modified>
  <cp:revision>67</cp:revision>
  <dc:subject/>
  <dc:title>Je veľký náš Pán, on slávy je Kráľ Nech do všetkých strán  spev vrúcnych znie chvál.</dc:title>
</cp:coreProperties>
</file>