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4E7-846F-4D9B-A503-ECEE903B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556-4F2C-48C8-96A7-BF784AB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541-F238-438C-925C-D913F946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E20-DBD6-4628-A089-68245D69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839-3F09-43BD-88E5-EA2522B4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D2F-C9C5-4293-9A66-7480AC4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8BF-485F-4D91-BA8B-CEE735B9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7F1-AE32-4414-90F4-E5C4D47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88C-B6AF-4AD3-9B7E-38031691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3D7-7C8A-41AF-A0B9-02441B5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94A-8DE5-44F1-821C-4ACB56E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619-1200-4B58-B2C1-36460BD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9148-E749-46D6-B2B6-1FED7A0204D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0 Blaho tam, kde sľuby svät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Blaho tam, kde sľuby sväté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samo nebo požehná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kde dve srdcia v jedno späté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ojí láska úprimn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Šťastní tí, čo miesto ve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dnosť láske dávaj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laho tam, kde muž i žen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Božiu pomoc dúf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am šťastie prevé bý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sa s Pánom radiť chcú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lnko za mrak skrýv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 modlitbe vždy pokľakn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am láska čistá bl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de Pán všetko spravu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osou zhora srdcia vla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radosť, pokoj dar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dá svoje požehnanie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tým, čo vierou prosia oň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die nad nimi neprestajn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je ich verným sprievodc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j vy svojho Spasit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 svadbu dnes pozvit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bezpečne s ním až do cieľ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stou lásky dôjdet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29:04Z</dcterms:modified>
  <cp:revision>92</cp:revision>
  <dc:subject/>
  <dc:title>Je veľký náš Pán, on slávy je Kráľ Nech do všetkých strán  spev vrúcnych znie chvál.</dc:title>
</cp:coreProperties>
</file>