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308-6750-4E5E-8C57-F331C392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4F6-484A-481A-B950-73A52D52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1D0-E2C5-43B2-B5CA-355F6950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177-3BD6-4ED8-9FE9-B34C4991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5D0-9CC0-451A-9959-0E853506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44E-0379-48B7-B1AB-55975A7E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366-0A81-459F-BFB4-61125A4A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60D-9434-45D8-9932-C3AC92C6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49F-C115-45D8-93E2-6F75F759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204-D706-4238-8BF2-663A40C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C39-9BA2-489F-840C-74FEF6FF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38A-74FF-422F-9D1F-494892A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CA19-A252-4B12-B6A1-72023AD0B45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49 Pane, ty nám dávaš hoj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ty nám dávaš hojne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darov svojej mil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ti za to odovzd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rdce plné vďa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jmi aj dnes našu chvál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ú obeť zmieren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nám z hrobu ukázal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stu k sláve vzkrie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y tvojej ruky,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nás verne zúroč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užbou blížnym bez repta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klad tvojej lásky c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znieť vôľu, chcenie, snah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práci úspech, radosť pr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náporom pokuš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ru bdelú zachov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dať možno, stále dávaš mierou svojej štedr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irkev svoju zachováva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ravde, láske, svor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taň s nami, drahý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kiaľ naša trvá pú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íme, že lampe vier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dáš vo tme vyhasnú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8:31:25Z</dcterms:modified>
  <cp:revision>53</cp:revision>
  <dc:subject/>
  <dc:title>Je veľký náš Pán, on slávy je Kráľ Nech do všetkých strán  spev vrúcnych znie chvál.</dc:title>
</cp:coreProperties>
</file>