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9035-923F-44CE-A2D3-D7575BD7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FD1-204E-4DEF-BA44-438FBC1C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9508-DA2D-458F-9ECE-F409C866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B2F-8398-4716-B6D8-E22F01B5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145-C442-4033-9E28-32CDD876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A29C-1927-411A-9528-B1FE7789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1DF5-6F02-4E1C-B41D-2A4DEA59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B67C-490C-4B47-ADF5-63D2AEBF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5DB2-8E8F-4EC3-8F29-209D173D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A47A-EEDF-4F06-9B78-F72B5651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2E2C-F1FF-4D71-80ED-3EB713C0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1F54-6CA9-4C74-A549-5EB87B9B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2D5D-731F-4180-AB35-96493D725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53 Ó, Kriste, v toľkom žial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Ó, Kriste, v toľkom ži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n plný, bole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ak hanbou sa mi kal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 chveje v úzkost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mojou vinou pil s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trpký kalich múk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 som dar večnej spás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el prijať z tvojich rú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m ukryť mám sa v bô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stíšiť srdca sto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ina v duši pá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bolestný tvoj sk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uj vrúcnu prosbu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meň žitia môjho be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voje zľutova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pre mňa spásy bre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ov nemám, hlas mi viaz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it lásky nestačí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prejav toľkej priaz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ím sa ti odvďačí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tvojím byť, ó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 slabej viere vzl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vojej skry ma dl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prídeš súdiť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mojej viere skal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zúri prudký b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záštitou mi stál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íš búrny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neraz ešte tiesn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desí smrti tieň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 v tebe, večnej Piesn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iem slávny spásy deň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36:17Z</dcterms:modified>
  <cp:revision>31</cp:revision>
  <dc:subject/>
  <dc:title>Je veľký náš Pán, on slávy je Kráľ Nech do všetkých strán  spev vrúcnych znie chvál.</dc:title>
</cp:coreProperties>
</file>