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B7C2-809E-4961-873C-BF78B110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C910-6172-4A84-BEE6-071DD492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44A1-D2B6-4A7E-A32E-7AF5C08D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C76A-8192-42ED-887F-5091779D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2FDF-4AB1-4418-AF36-925DFFF8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6DA1-4344-4AFF-802E-83855CE0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A4D8-12C1-4E65-90F8-894FC63D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648B-8258-411C-957A-4E927950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DBF3-A1B2-4CB2-B614-188CD09B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EF6F-779D-4406-8993-BA593317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3798-7B6E-443E-AEC8-9CC330BA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5F1B-7196-4837-8080-DD0656C8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D6F2-84A0-4F9A-9E41-30BDD9571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45 Každý duch nech veleb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 prišiel medzi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ľme Boha v každý ča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ždý duch nech veleb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a slávy na neb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er a pokoj národ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oniec zlobe, úklad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sať môže celý sve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kúpený z hriechu, bied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siaľ znie nám radost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ev o sveta spas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 prišiel medzi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ľme Boha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, nebies okra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ej pocty vzdáva s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u Otca v sláve ž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maštali sa narod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šiel na svet Boží Sy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baviť ľudí hriechu, vín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mmanuel, s nami Bo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ala vekov, spásy Ro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 prišiel medzi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ľme Boha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taj, Knieža pokoj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vete sváru, rozbroj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taj, Spása odvek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techou si človek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šlo ráno spase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rť je moci zbavená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lesaj nebo, jasaj z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u vzišiel večný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16:26Z</dcterms:modified>
  <cp:revision>31</cp:revision>
  <dc:subject/>
  <dc:title>Je veľký náš Pán, on slávy je Kráľ Nech do všetkých strán  spev vrúcnych znie chvál.</dc:title>
</cp:coreProperties>
</file>