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F9AD-DCF6-48C9-B14B-0AFDB266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E62C-2FA7-40F8-A16B-8A651D9B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3A81-580B-4B8E-835F-B690F761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6BFE-1AD4-4A67-BD01-329FFB76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B53C-6EA5-40B5-B801-085DE2F9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F0F5-85E1-4A36-98B3-FEBF6C00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F4AE-CBBA-4F74-926A-5F18A34F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DDDF-9468-4098-BE87-B1E901B5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5C5E-07D4-4BB3-9992-0250AA30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40C9-44A6-481F-9D6E-50723928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FA8A-1C68-4C03-A32C-FA59B682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CDC2-1ED9-4479-834C-4F5238E5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5D16-6655-4D74-B707-63A7E583C491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17 Pomôž mi, Pane láskav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môž mi, Pane láskav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yť k službe blížnym hotov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ich biedou nech vžd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súcit má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šade radosť rozdáv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lúdiacich uč ma k tebe vie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domovu volať zo zlých cies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iesť im tú zvesť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máš ich rád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okoj chceš im dar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silni vieru v súžen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ásku a nádej udeľ mi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s tebou kráča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melo vpred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nehľadím už nikdy spä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ú tvoju lásku túžim m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svojich blížnych milov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kornú prosbu vypoču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moje snahy upevňuj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3T19:29:23Z</dcterms:modified>
  <cp:revision>20</cp:revision>
  <dc:subject/>
  <dc:title>Je veľký náš Pán, on slávy je Kráľ Nech do všetkých strán  spev vrúcnych znie chvál.</dc:title>
</cp:coreProperties>
</file>