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D32-6DC1-4F16-A1F5-98798304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DE0-F8DF-4986-B62D-65F6E324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163-B2D3-4FB8-A90D-A955EA71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A19-CB92-47CC-95DB-C34BE190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F55-7E31-496B-A60F-D73CEC3D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CAD-8972-4365-BA56-7EAD113A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803-EF38-4D9F-B3FE-200EEDE1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288-55F5-46B5-A9D6-8804890C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083-F0A1-4876-8F86-D2088C02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4CF-8791-46BE-A1CC-F83D0CA0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B74-39A9-4196-8FAF-A88AEDCF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248-B276-40F1-84F9-145F8B60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5656-AFAC-4887-89A3-226AAF8E3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3 Mysli na tie časy dáv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sli na tie časy dáv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Pán Boh zjavov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il svoj ľud, čo je správ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zákon svoj im dal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a ctiť a poslúch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ych svojich milov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a ctiť a poslúch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ych svojich mil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ývaj Boha jediné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skú česť len jemu vz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bázňou vyslov meno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obotu pamätaj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väteným časom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ích dietok znameni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väteným časom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ích dietok znam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ctu k otcovi i matk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om čase zacho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ĺžiš si žitie krátk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láske s blížnym nažív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ráň sa slov i činov zl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äzkov hriešnych nečistýc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ráň sa slov i činov zl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äzkov hriešnych nečist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dosť zlá, ni krádež nect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ktorého člove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lam a závisť, lživé zve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tana zbraň odvek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k Bohu dokáž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eho keď miluje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k Bohu dokáž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eho keď miluje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7:28:25Z</dcterms:modified>
  <cp:revision>20</cp:revision>
  <dc:subject/>
  <dc:title>Je veľký náš Pán, on slávy je Kráľ Nech do všetkých strán  spev vrúcnych znie chvál.</dc:title>
</cp:coreProperties>
</file>