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7F3-AEB5-45CB-88BF-4A12E6A4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458-7DCF-4F4E-AAAA-C9659B7F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E0E-9568-490A-BA28-427D26F9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D55-8E8F-413E-9D11-FCF45110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621-659D-48ED-BE16-9C1C3849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074-B655-4F47-BB12-4341669F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FAA-A658-43F5-8D59-91357EF2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D61-B3BB-4B5B-B02A-4DF7562B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D75-CE51-44A9-A2F8-F0BB3088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CDA-46F3-4FD4-A9D8-823E6DE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737-FA67-474D-B70C-79FDBB56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453-6D77-477C-846B-6A3D1A32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19E3-53E6-4A2C-A4F0-511808A49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310 Vzácny priateľ je Pán Ježi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zácny priateľ je Pán Ježiš,</a:t>
            </a:r>
            <a:br>
              <a:rPr sz="4800"/>
            </a:br>
            <a:r>
              <a:rPr b="1" lang="cs-CZ" sz="4700" spc="-1" strike="noStrike">
                <a:solidFill>
                  <a:srgbClr val="66ff33"/>
                </a:solidFill>
                <a:latin typeface="Arial"/>
              </a:rPr>
              <a:t>s láskou vždy sa skláňa k nám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jeho Slova pokrm svieži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dáva silu k víťazstv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66ff33"/>
                </a:solidFill>
                <a:latin typeface="Arial"/>
              </a:rPr>
              <a:t>Keď sa strachom srdce chveje,</a:t>
            </a:r>
            <a:br>
              <a:rPr sz="47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 hmlách sa stráca cesty cieľ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modlitba zas nádej vleje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pomoc pošle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Keď ťa žiaľ či starosť tlačí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voj či cudzí nesieš kríž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 námahe či bôľnom plači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 modlitbou sa k Bohu blí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Nenájde sa v svete šírom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priateľ rovný Pánovi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ie vždy pomôcť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vojím Slovom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radosť v srdci obnoví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šetci hriechom obťažení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poďte ku mne, volá Pán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nádej dáva v každej tiesni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lásky Božej spásn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 dôverou vždy, v každom žiali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tíš sa k prosbe pokornej,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spievať budeš pieseň chvály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v cieli cesty víťaznej.</a:t>
            </a:r>
            <a:br>
              <a:rPr sz="4800"/>
            </a:br>
            <a:r>
              <a:rPr b="1" lang="cs-CZ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uzivatel</cp:lastModifiedBy>
  <dcterms:modified xsi:type="dcterms:W3CDTF">2010-10-30T08:52:33Z</dcterms:modified>
  <cp:revision>24</cp:revision>
  <dc:subject/>
  <dc:title>Je veľký náš Pán, on slávy je Kráľ Nech do všetkých strán  spev vrúcnych znie chvál.</dc:title>
</cp:coreProperties>
</file>