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74C-724E-4248-9ADA-36D96E4E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489-6EC6-4394-979C-25DAB313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0CF-797F-4C88-9971-2AFE9DBD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576-2AA7-4693-BF5A-2413A299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91D-9B83-44CE-8E77-08116E7F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F33-85F8-4936-A121-C66B5AC3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B17-EB8E-4375-B5C0-9EE6999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794-B365-4896-A4B0-3BDE98D5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EB3-7946-4B71-936E-E75CD986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C16-2FDD-46F6-B92E-0E20EF8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090-5508-4135-A6BE-93465F6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CD0-2D32-4DFC-86CB-525BA48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6BAD-E557-4641-90AD-DF496CAF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3 Hrad prepevný je Bo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viac možno m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môžu nám vzi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kto, čo chc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č to neznam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h rad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ú chyst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ad prepevný je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áštita vždy ist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smieme čeliť nástrah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diabol verným chy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náš ne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 nás zničiť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úskok, zvod, kl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mieril proti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iet mu v svete rovného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 naša vždy len slabá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 ľahko premož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om nájdeme zdroj ná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prehru v triumf zmení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to môže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vie zachrán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Syn Boží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diný Boh a 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koniec z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í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hoc aj svet zla plný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hrozí nám zánik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mocne za nás boj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et spásy v in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ni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c plán zákerný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priateľ zlý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ždy ho odrazí a slovom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oraz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h, nás Pán všemohúc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la odpor už nič nez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 moco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ho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vody sveta pre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p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vda Ježiš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15:08Z</dcterms:modified>
  <cp:revision>22</cp:revision>
  <dc:subject/>
  <dc:title>Je veľký náš Pán, on slávy je Kráľ Nech do všetkých strán  spev vrúcnych znie chvál.</dc:title>
</cp:coreProperties>
</file>