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84EF-6DBC-45C1-9DA9-9AB4E332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351-A8BD-49DC-B069-91DF03D9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E56-6476-44B7-AC98-61E08CAC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3A9-8F42-420C-B90E-C96033DC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508-A31D-4459-823C-56E63822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F18-CE34-4C02-B81F-2CFAA694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04C-65A5-4796-A0C4-1B66D6E9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47F-C36F-4FD1-AF0B-5022C302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63E-95FF-43E3-AD86-700631CA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4C3-4332-4F52-A56C-636C2134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0F1-4B8A-4497-807B-9EE40613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723-3221-4E22-895C-69ACA4AB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C40C-D366-4F9A-BCF7-DB34FE3C690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7 S Pánom všetko začín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všetko začínaj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ôveruj mu ako dieť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, on nikdy nesklame ť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na jeho rady dba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všetko začín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všetko začína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všetko začínaj!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sa nežne k tebe skláň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ho ruky vždy ťa chránia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neho sa spolieha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všetko začínaj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všetko začína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všetko začínaj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ti dáva silu k boj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žehnáva prácu tvój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všetko mu chválu vzda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všetko začínaj!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s Pánom všetko začínaj!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7:23:05Z</dcterms:modified>
  <cp:revision>68</cp:revision>
  <dc:subject/>
  <dc:title>Je veľký náš Pán, on slávy je Kráľ Nech do všetkých strán  spev vrúcnych znie chvál.</dc:title>
</cp:coreProperties>
</file>