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99F2-6E78-4405-ACC8-D604CD9C9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2F9B-7F73-4EE9-9952-4676B8756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81EC-3112-4FBC-AFCB-F307B914C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E6F1-A185-4CC2-84A8-4298E311A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695C-A557-4157-8B92-21D9A80A2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2FB6-1DEA-4B9B-8252-DC549B38A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8888-0E92-4AEF-B530-CBBB2242E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AD14-A40D-4FB6-A849-82F7AA157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C51E-F34D-4FBA-8CC2-86614AB56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BDD9-C3A2-47A8-AB4C-8003971C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EE95-86B5-4B31-85E5-98569138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4EAD-11ED-49B8-BC92-4D1B2015B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F83FD-6D8A-42E5-A1EF-C0E2C1BE8B30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392 Pán buď s vami, kým sa zídem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66ff33"/>
                </a:solidFill>
                <a:latin typeface="Arial"/>
              </a:rPr>
              <a:t>Pán buď s vami, kým sa zídeme,</a:t>
            </a:r>
            <a:br>
              <a:rPr sz="4400"/>
            </a:br>
            <a:r>
              <a:rPr b="1" lang="sk-SK" sz="4400" spc="-1" strike="noStrike">
                <a:solidFill>
                  <a:srgbClr val="66ff33"/>
                </a:solidFill>
                <a:latin typeface="Arial"/>
              </a:rPr>
              <a:t>múdrosť svoju vždy vám dávaj,</a:t>
            </a:r>
            <a:br>
              <a:rPr sz="4400"/>
            </a:br>
            <a:r>
              <a:rPr b="1" lang="sk-SK" sz="4400" spc="-1" strike="noStrike">
                <a:solidFill>
                  <a:srgbClr val="66ff33"/>
                </a:solidFill>
                <a:latin typeface="Arial"/>
              </a:rPr>
              <a:t>v nádeji vás zachovávaj,</a:t>
            </a:r>
            <a:br>
              <a:rPr sz="4400"/>
            </a:br>
            <a:r>
              <a:rPr b="1" lang="sk-SK" sz="4400" spc="-1" strike="noStrike">
                <a:solidFill>
                  <a:srgbClr val="66ff33"/>
                </a:solidFill>
                <a:latin typeface="Arial"/>
              </a:rPr>
              <a:t>Pán buď s vami, kým sa zídem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Láska Božia nech je s vam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ým sa spolu zídem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iež vždy Pán vás vedie chrán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ým sa opäť spolu zíde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án buď s vami, 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ým sa zídem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osievaj vám mannu z neb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udeľuj, čo k blahu treb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án buď s vami, kým sa zídeme,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Láska Božia nech je s vam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ým sa spolu zídem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iež vždy Pán vás vedie chrán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ým sa opäť spolu zíde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án buď s vami, kým sa zídem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achovaj vás v láske svojej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ažeň všetky nepokoj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án buď s vami, kým sa zíde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Láska Božia nech je s vam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ým sa spolu zídem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iež vždy Pán vás vedie chrán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ým sa opäť spolu zíde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án buď s vami, kým sa zídem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íchrice keď budú hrozi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 vami zostaň pokoj Boží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Pán buď s vami, kým sa zíde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Láska Božia nech je s vam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ým sa spolu zídeme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iež vždy Pán vás vedie chráni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ým sa opäť spolu zídeme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Stano Slamka</cp:lastModifiedBy>
  <dcterms:modified xsi:type="dcterms:W3CDTF">2007-08-28T18:46:40Z</dcterms:modified>
  <cp:revision>94</cp:revision>
  <dc:subject/>
  <dc:title>Je veľký náš Pán, on slávy je Kráľ Nech do všetkých strán  spev vrúcnych znie chvál.</dc:title>
</cp:coreProperties>
</file>