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12D-F7D2-4943-BFCC-DD2B3CD3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4DB-C1CB-492A-A20D-683B5A2C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642-DDF3-4BA7-BB46-8AD215EE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966-D744-4996-9D1E-ECE33794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D40-0679-4200-AA7A-224FC5EB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AD3-523B-4DAA-BAD7-D5634293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49C-9550-4698-97B8-BD773B30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7AC-C1BB-45C0-8708-CCC25067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86C-8DE2-40DC-8F90-26C67F1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A58-F7A2-4125-ACF2-28CFD4D8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7D3-D4A6-4702-8619-B76E389F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4CD-C161-4F42-A4B5-11159BA1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8A62-72C4-4683-925D-EAD85F830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1 Ježiša kto má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e mnohý aj z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raz prežíva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myslí, že ťažké je ž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le láskav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 silu d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tu šťastný byť sm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ch kto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si Pána vie nad všetko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 čoho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vždy dôver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a kto má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ho nasled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 životom bezpečne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oho radosť Pán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 poznať sa 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Ježišom mizne str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ny tiesnivý m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ochotný každ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zm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mu mierni Pán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háňa úzkosť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ista hľa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pri teb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b vždy to čo ti 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ho s dôverou hľa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čo nás su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ápi poni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ie zo strastí vyslobod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hoc tŕnis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 vždy za Krist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03:29Z</dcterms:modified>
  <cp:revision>21</cp:revision>
  <dc:subject/>
  <dc:title>Je veľký náš Pán, on slávy je Kráľ Nech do všetkých strán  spev vrúcnych znie chvál.</dc:title>
</cp:coreProperties>
</file>