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FFD-E0FD-4DDB-8FED-0194E271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22D-FBE1-4875-BD7D-6589DC3E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0BB-1963-4CA4-B6C5-CCC1C894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9BC-44C1-4045-9F1F-384146FA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90F-17D6-4058-9189-8B944B32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0C4-5380-47F5-B7D4-7D1383A8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65A-AF52-43E0-9D1A-7A6EDA9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B41-8863-4E18-A06C-1C1F015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4F6-5158-414A-8EDE-628A390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F76-A579-4502-977D-64B6AAAD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116-59BE-4298-90A4-2FB27B3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E8B-4AD8-45D6-8F69-C67BBEFD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B5F-7C7D-412F-AF97-16162DCC2EB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29 Pán Ježiš ťa volá k s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ťa volá k seb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čo otáľa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rdce ti ešte klop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dy mu ho d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lho nevieš rozhodnúť s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o čakáš len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rýchlo uplynie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hodni sa pre Ježi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ťa vol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ú k nemu otvore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vere doko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päť už sa neobzer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osť všetko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premeškaj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ôžeš získať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deň svojej spásy zmešk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eš ľut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mo budeš potom pros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e nariek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koro je!  Strašné slov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stratené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jde niekde pokoj srdc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om zmámené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a deň dosiaľ trv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ešte stále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vého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poz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ou smrťou vykúpil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jeho hlas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ťa ešte s láskou pri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je spásy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40:04Z</dcterms:modified>
  <cp:revision>32</cp:revision>
  <dc:subject/>
  <dc:title>Je veľký náš Pán, on slávy je Kráľ Nech do všetkých strán  spev vrúcnych znie chvál.</dc:title>
</cp:coreProperties>
</file>