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AB9-B97E-44F4-B1BB-97E6A21A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D98-F24D-4DB6-B899-1592CAA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370-15B7-42F9-AEE8-EFFCD4BA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AE2-05BA-474D-A84A-4A7C7884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CAF-2088-488C-B116-B66C844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89C-C946-440A-AAAC-14FBA13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AE7-FA2C-4C93-A370-F05D3BD9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EAC-54A0-4096-A9FF-3557DF56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5B0-74E5-4063-B64D-D2ACB7D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4EF-A5D4-4339-B018-67CD388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357-4C73-4263-99D7-9585147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9EA-7AE4-47C4-83BB-6F6090E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B89A-72B9-4D6D-80D4-18E73F3E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8 Sám uchop moju ruk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uchop moju ruk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ma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zmätku, sveta ru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nevi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m by som šie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om večnom st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život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všetko chlad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 smrti všade vlád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nád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z teba život prúd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etl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mrákot hriechu bu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tvoja štedrá ru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znova z lásky núk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ru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u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spolieh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52:32Z</dcterms:modified>
  <cp:revision>20</cp:revision>
  <dc:subject/>
  <dc:title>Je veľký náš Pán, on slávy je Kráľ Nech do všetkých strán  spev vrúcnych znie chvál.</dc:title>
</cp:coreProperties>
</file>