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5B8-7FA9-49F7-A376-EC6AACD6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0A8-0A6E-4430-87F3-539CDC4B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F543-52E5-479C-8D11-EFB1EFEE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201-6FA7-4493-B72D-92D4D4CC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45E-8C63-46C9-A305-9287554C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E35-BD27-406C-819F-AF72500C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5AD-DFEA-43C9-A567-FE71A108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5B0-2919-4CD3-B637-EC06ADD1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0C7-B387-40A6-A8BD-DF046706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A6B-713C-48CF-B8C8-404B9106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DFC-CCE4-45F9-81E2-F260438B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C73-A90D-4E19-BE30-31CE47CB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DB5C-AC9A-4FE2-80A2-8F77AB199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5 Akú istot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ú radosť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ho dúf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dôverou naň zrak upier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ho dúf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len na neho sa spolieha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ú istotu, akú radosť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na Ježiša nádeja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pomoc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 som nikdy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na neho vždy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ho dúf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dôverou naň zrak upier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ho dúf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len na neho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žiš pokoj svoj rád mi dar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a jeho Slov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db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a raduj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 ním putuj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ňom priateľa i radcu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ho dúf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dôverou naň zrak upier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ho dúf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len na neho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ám príčin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som sa bá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štitu keď v Ježišovi m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ma on má rá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chce pri mne st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to na neho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6:21:09Z</dcterms:modified>
  <cp:revision>20</cp:revision>
  <dc:subject/>
  <dc:title>Je veľký náš Pán, on slávy je Kráľ Nech do všetkých strán  spev vrúcnych znie chvál.</dc:title>
</cp:coreProperties>
</file>