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4F0-EF5D-4C2F-9882-C200FB4B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74F-D804-450D-8C79-058BE28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252-6A97-47CE-80F9-EAD34F2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AA2-A5EB-4562-82F0-4574BE1D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53D-5C68-4BDE-A9DC-BDD18760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D90-E0F8-4B0A-BE92-25161F9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7C7-268A-4601-97D4-8C1453E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E68-CF8B-429F-9154-4BBAC6A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7DC-4E95-4F4A-B9C6-7BB60FA2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316-2BB4-428A-A435-0E047C8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366-1B2E-44FC-8E2B-1192CBF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E91-06DC-49DD-80E7-AFCC6B5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9A7-B184-4139-B5DB-906506C53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4 V Synovi k nám Boh sám sa zn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ynovi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h sá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zní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ľudí má tak veľmi 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uverí a k nemu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lásku ver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š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án slávne stvrdil svojím vzkriesen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Božia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mŕtvych kries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budí nás v deň vzkrieseni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smírom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zven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vďačný chválo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vždy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oho báť sa nemusí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hrob nezmaria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š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án slávne stvrdil svojím vzkries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20:20:28Z</dcterms:modified>
  <cp:revision>23</cp:revision>
  <dc:subject/>
  <dc:title>Je veľký náš Pán, on slávy je Kráľ Nech do všetkých strán  spev vrúcnych znie chvál.</dc:title>
</cp:coreProperties>
</file>