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741-46E0-4C3A-A73E-D009941B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41D-F81A-4480-A472-542FAB97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A9C-216A-4AB4-BDBD-AEE9CC52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1BA-74C7-4A15-937B-15483C44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645-CB34-47BC-AF8A-FCEC320E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EA6-7453-4DEE-81CF-245F7543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211-1F4A-4E18-BE45-CD2B7FBB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200-FCC4-49D4-B27F-958D6CCE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55D-675A-4EDF-BD43-79A3DC53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E91A-36F3-4527-9E5B-50B5EE0B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E47-6AD1-42BC-B91A-1764326F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42F-A394-42AD-A7B3-56628BC4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0828-6FE5-4A6F-B8EF-B217048DB91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4 Chceš Krista milovať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š Krista milo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erne ísť za ním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š jeho meno vyznáv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estať s váhaní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z lásky hotov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neho žiť i mrieť?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stálu vernosť Kristov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väčšej pocty ni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Božej vôle ci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j zreteľ upret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oznáš, že on sám ti šie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 láskou v ústre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vždycky zvíťazí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j dobrý doko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 jeho Slovu uverí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ri ňom zotrváš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8T08:25:09Z</dcterms:modified>
  <cp:revision>22</cp:revision>
  <dc:subject/>
  <dc:title>Je veľký náš Pán, on slávy je Kráľ Nech do všetkých strán  spev vrúcnych znie chvál.</dc:title>
</cp:coreProperties>
</file>