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534-1AE6-436A-B778-3A410D0B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384-090F-495A-93AF-7FBB8A45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986-819D-4714-9CE2-882173D0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8A2-2C97-4CF6-B453-E01CEA93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BD6-513E-470A-BD5B-8EBD7E98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8E9-D519-4546-8E0F-B909E16B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FF5-0F46-416D-B2E0-1D542744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EC4-A61B-45BC-9A68-46DCF42C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4F0-10A9-484B-AC46-C3C64549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FAB-EA95-4C7B-9627-FA23A94B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B55-53C4-4436-BB1F-46CCF645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94D-D365-47BA-B00B-61A7B4D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08D1-5B8C-4FC6-B5CF-BBE000665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3 Haleluja! Chváľme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Chváľme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česť mu vzdáva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d jeho majestá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kore sa skláňa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on k nám na zem pri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u neba opusti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vojou krvou drah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u spásu vydoby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Náš Pán žije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ho oblak od nás v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e, že je stále s n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nám sľub ten zanech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, kto vierou Boha vzý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v duši môže m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uch Svätý bude stá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srdci prebý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Chlieb náš z n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ou sa tu sýti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me hriešni, predsa den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u blízkosť cí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hovárať ráč sa za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sme, Pane, na ze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me raz mohli spie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všetkých spasený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0:20:42Z</dcterms:modified>
  <cp:revision>31</cp:revision>
  <dc:subject/>
  <dc:title>Je veľký náš Pán, on slávy je Kráľ Nech do všetkých strán  spev vrúcnych znie chvál.</dc:title>
</cp:coreProperties>
</file>