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918-F65C-4ED0-B821-F82C5B23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D41-87CB-484D-8067-2D7F3FCE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4BBF-0B20-4BF8-990A-997391D7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451-86B0-4975-BCD1-18803288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00A8-07C7-49FE-861D-E9DDEAB3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63A-63D9-44A7-801F-612ED806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ADA2-ECDA-4F2E-8E14-F20E4CD3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B89-A68C-41C5-AC60-57983976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6F6-C2C0-4465-B39B-6C118108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66BD-3095-4DF9-9387-1696274E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B30-D814-415B-B597-7EDDD4DC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0A91-937D-466D-A802-CEAA68FB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B148-E6A1-429C-A261-879913506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096 Láskavý náš Tešite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náš Teš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ôž zrieť nám spásy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nás stále k nemu ve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víťazstvu, nad ktoré ni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skaliami mnohých bie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vždy úspešne daj spie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K trónu slávy Božej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viesť stále,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Duch Svätý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ielo svoje konaj v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ru úzkostí zbav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ej strácať nedaj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ôľ keď tiesni našu hru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techou nám stálou buď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K trónu slávy Božej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viesť stále,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Dar, z neba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ážiť nás uč krátky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len žiari jasný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sť daj spásy pocho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spech práci našej pr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cieľu viery dospieť da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K trónu slávy Božej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viesť stále, v každý ča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5T11:00:41Z</dcterms:modified>
  <cp:revision>20</cp:revision>
  <dc:subject/>
  <dc:title>Je veľký náš Pán, on slávy je Kráľ Nech do všetkých strán  spev vrúcnych znie chvál.</dc:title>
</cp:coreProperties>
</file>