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F829-D249-4AD3-966F-03511D26D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354E-9AA3-4C74-98B8-D73C66CDF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6BFA-6887-42FC-9620-30F41B80B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8DDB-0F7B-4333-A004-5A4C75F56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79EF-9BA8-48E8-8E88-F1CA4CF2A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C069-3800-4E3A-BB3E-68D7957B6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D974-7466-403F-B5F3-1A312502A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CA03-D60B-4EE1-ADDF-D54D02728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45C2-8990-483C-BAF6-C432B163E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EE8C-8415-4B3C-923D-0E09DF670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F4CB-7224-4B20-A70A-C88384ED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38E0-2F87-4954-B047-77779EA9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C2621-A422-436D-9532-6F91C26C28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2 Na tvoje diela, Bož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sa díva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milosť tvoj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oľahnúť sa môže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árukou spás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golgotský je krí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miluješ m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brotivý Bož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miem veriť, že m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ny odpustí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, Tvorca mô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i obeť chvály nie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i všemocný a dobrý Pá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všetky dar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údrosť tvojich ciest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ád vždy ti vrúcn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válu vzd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ilosti č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o dopriavaš, sa krát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yn tvoj už príd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ko kráľov Krá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ak, ako sľúbi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oskoro sa vrát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iež vtedy víta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miem ho piesňou chvá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, Tvorca mô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i obeť chvály nie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i všemocný a dobrý Pá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všetky dar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údrosť tvojich ciest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ád vždy ti vrúcn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válu vzdám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tvoje diel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že, keď sa díva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šemocným slov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ásne stvorené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úprimný obdiv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ikdy nezakrýva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ďaku ti vzdáva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ievam nadšen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, Tvorca mô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i obeť chvály nie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i všemocný a dobrý Pá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všetky dar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údrosť tvojich ciest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ád vždy ti vrúcn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válu vzd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vitnúcou lúko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ád vždy prechádzam s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vtáčí spev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i k uchu zalieta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uchvátiť vie m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ehká, nežná krás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ktorej je múdros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voja ukrytá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m, Tvorca mô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i obeť chvály nie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i všemocný a dobrý Pá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všetky dar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údrosť tvojich ciest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ád vždy ti vrúcn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válu vzd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0-11T18:39:02Z</dcterms:modified>
  <cp:revision>16</cp:revision>
  <dc:subject/>
  <dc:title>Je veľký náš Pán, on slávy je Kráľ Nech do všetkých strán  spev vrúcnych znie chvál.</dc:title>
</cp:coreProperties>
</file>