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011D-88B2-4D21-BD32-52AA72362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12A2-0B13-472A-BE29-7CBE4DB3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B5FD-7678-45DF-B5A6-958B60F3A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C054-10BB-44FF-A2C8-8E3F288A0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8B77-FBB0-42D2-B8C5-7E56DF3B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AE4E-C62F-4876-A54B-264DB11C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3CD3-285D-4906-AE83-BDE903BF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F618-3ED4-4CF8-903F-A9A20C92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8E37-9F49-41E5-A437-12487F9B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4A40-C49C-48A0-9042-72AE80BD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1DFD-BB46-428C-A7D9-B7DD7609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A905-3DEC-432E-A4F9-DBF1A31A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1FEB-6267-44AF-8132-1522223C9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60 Pozri len, pozr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zri len, pozr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svojho Pána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ím je pre teb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golgotská drám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tvoje viny trpel Syn Bož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tvoj hriech Otec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neho vlož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zri len, pozri na jeho rany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ŕňovým venc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orunovaný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rápený, bitý na kríži zmier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rteľná úzko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rdce mu zvier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o naše vin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šiel Pán splat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by nás mohol Otcovi vrát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zásluhách svoji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bhajca prav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áruku dáva na domov sláv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oho, kto srdc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dovzdá jem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vedie k cieľu vytúženém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Otcovmu trón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oľný je prístup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aždý smie v ňom náj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áchranu istú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20:38:07Z</dcterms:modified>
  <cp:revision>31</cp:revision>
  <dc:subject/>
  <dc:title>Je veľký náš Pán, on slávy je Kráľ Nech do všetkých strán  spev vrúcnych znie chvál.</dc:title>
</cp:coreProperties>
</file>