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BDE0-8ABD-4FCC-8E18-0D0158400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BA1E-CC11-4D30-878D-4855C359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9400-7478-44B1-B7A4-6DA9FA685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2DAD-4F2A-435B-A769-7A7DC67B7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AEA4-F7AF-4952-B9C9-B44B1A89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9271-7EE7-49B3-85DA-6BD20A70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AA27-270C-4C63-85FF-C344ED57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60BA-6E7F-4562-BF64-9C87D1BC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82A1-371F-4812-A5F8-B15D84FF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BF3E-4AEB-4884-BD8A-2913D380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0819-6D2D-402C-B9AB-E44B8044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3552-ADE4-48B1-B5FA-AE2D49A6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A3AB-0D53-41AF-91C1-397CA36CF11D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26 Skôr ako Pán, náš Spasite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kôr ako Pán, náš Spasite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hriechy sveta na smrť šie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lieb pri večeri s vďakou vzal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učeníkom podáv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lieb hodu tohto znakom 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Boh svet až tak milu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Syna svojho na smrť da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y človek večný život m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Pán za kalich vďaku vzda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iť z neho učeníkom dal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znak, že v jeho krvi j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ej novej zmluvy znam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to chce raz s Pánom stolov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mrť jeho má vždy zvestova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čakať, kým sa nezjav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svojich potom oslávi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1:15:56Z</dcterms:modified>
  <cp:revision>29</cp:revision>
  <dc:subject/>
  <dc:title>Je veľký náš Pán, on slávy je Kráľ Nech do všetkých strán  spev vrúcnych znie chvál.</dc:title>
</cp:coreProperties>
</file>