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113-8CED-4F56-85FC-37D11390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216-9BE2-4E59-B90D-78485445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11E-365B-4A21-BBAD-F7FA83B1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045-F3B7-4774-BEF3-13BC9E1C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DB5-9148-4AC2-8812-57A14E86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8A1-2963-438E-8063-F733C95C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F3E-1DA6-4A5B-9F9A-58C18540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39A-B872-4916-B692-5E4889A2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71B-603C-4FCC-A247-779BC8BB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43B-7EDA-44E6-B356-DB444B5B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819-D153-4B77-A19F-1B634D56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E75-A460-4C39-A5B7-A02B1B0F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0D05-11D2-4BA0-B44E-6E9DB1EEC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9 Láskavý Pane, Bože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ako víťaz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íš všetky b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tv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 všemohú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ma niesť môj každodenný krí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oznieť vier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ameň nehasnú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chybnosť zaž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a trýzeň 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tebe cieľ 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tia prežiadu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áručí svoj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šu spokoj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lčky na Pána ča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a du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eho príde tvoja záchrana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oc aj Láska tvoju vernosť skúš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ude nádej tvoja sklama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aj na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úšky pominú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teba sní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brem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lčky na Pána ča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m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jeho vôle vždy sa odovz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sť ch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kroky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ystá ti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 blaha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3:19:04Z</dcterms:modified>
  <cp:revision>20</cp:revision>
  <dc:subject/>
  <dc:title>Je veľký náš Pán, on slávy je Kráľ Nech do všetkých strán  spev vrúcnych znie chvál.</dc:title>
</cp:coreProperties>
</file>