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EE5-EEC9-430A-A27D-411D0535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278D-D270-4348-9B75-57EB7C5E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A0E-A958-4C98-B7D2-F0F5ADA6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D65-1563-4E13-B27F-D9A22556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B60-5B2A-47F0-908E-42DA6DC7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E3E-0EBE-4178-9D13-3A7C86C2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FBA-88D7-4B8C-BC16-FD5B4B4C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5E7-931A-446E-80CC-9B6D1B30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EAD-7676-4869-8434-74BA84EA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694-7154-4105-903A-01E861DB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18F-86D8-41F9-8809-CA1BE9A5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F32-40F2-4814-BB2C-EA4D5F18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55A4-12BA-4824-9F8E-AD11342FA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1 Pane, ráč nás vi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, ráč nás vie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pleti žitia cies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túženému dospieť cieľ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, drahý Spasiteľ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nás veď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večnosti b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čase ťažko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nám stá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tebou, Pane, kráčať chc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doliami tejto z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nech vedie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ej lásk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je v srdci ž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chybnosti vzdia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ás priateľ náhle zra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ú márne ľudské rad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nám z milosti, trpezliv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, veď vždy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, kde svetl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veď žitia úskalia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ou láskou bdej nad na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z búrky i tm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veď k víťazstvu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07:41:30Z</dcterms:modified>
  <cp:revision>20</cp:revision>
  <dc:subject/>
  <dc:title>Je veľký náš Pán, on slávy je Kráľ Nech do všetkých strán  spev vrúcnych znie chvál.</dc:title>
</cp:coreProperties>
</file>