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106F-07A7-4986-8BB6-8D842814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2BF3-E192-48DA-BCE7-AEB2858D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4D7E-C4B3-4E8A-AC65-F5CFEC1D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461E-0E48-4844-8AD9-EFB6CD1F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B504-6FC1-4ECB-95D2-786F1A65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8CC8-B4C4-4B34-8BBB-CCD282FD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1A76-153C-4376-B76D-30EE6D3E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7031-3C8E-4403-A388-60E5974D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DF80-E9DD-4E45-871B-6D16707F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B6D0-6E13-4EB6-90E1-0B936F9C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DDE-5F03-4266-B831-0543D914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01B-E68D-46E6-92D1-41EC81ED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7F38-069A-4856-BC5E-A5BEDFDC40A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57 Z večera, keď všade vôk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večera, keď všade vôko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nie nám vtáčat milý hl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čítaj, koľko dobroden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ti preukázal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aleluja! Chválu vzdáv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kvet hlávkou sklonen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velebuj ho, moje srdc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ďačnej piesne ozvenou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černé, keď rastú tie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mätaj na onen 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torom radosť neskalí už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lesť ani smrti tieň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aleluja! Chválu vzdáv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kvet hlávkou sklonen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velebuj ho, moje srdc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ďačnej piesne ozvenou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černá, keď hviezda svie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mätaj na viery ci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nám večne žiariť bud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žiš, náš Pán,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aleluja! Chválu vzdáv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kvet hlávkou sklonen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velebuj ho, moje srdc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ďačnej piesne ozvenou.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9:46:31Z</dcterms:modified>
  <cp:revision>59</cp:revision>
  <dc:subject/>
  <dc:title>Je veľký náš Pán, on slávy je Kráľ Nech do všetkých strán  spev vrúcnych znie chvál.</dc:title>
</cp:coreProperties>
</file>