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4F4-8FEF-450B-843C-D42E6444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D9A-DF86-4397-8212-E527704C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3D82-0893-4260-BAF2-165E5FC4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83D-FE39-4945-AE8B-86628A01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401-49AE-43AA-BA7D-7196A485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F9E-9304-4B50-A119-840C51F1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374-E95C-4EC0-9022-17A70285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E76-E43A-4FFE-8FB5-24BCA1E6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E13-D68D-4130-A35D-28303CF1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290-4413-4719-B071-82C35191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8FDB-A4E8-4751-9822-AF6EA33A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0AB-F4CB-4CB3-9940-3F642E22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62E0-45A8-44CF-804E-115AA01EB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3 Pane môj, chcem kresťanom by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 chcem kresťanom byť pravdivým, pravdiv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 chcem kresťanom byť pravdivým, pravdivým, pravdivý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Pane môj, chcem kresťanom byť pravdiv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 sám pomôž mi by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m, láskav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 sám pomôž mi by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m, láskavým, láskavý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Pane môj sám pomôž mi by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 ja túžim vždy by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primným, úprim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 ja túžim vždy by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primným, úprimným, úprimný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Pane môj, ja túžim vždy by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prim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 chcem za tebou í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, deň čo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môj, chcem za tebou í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,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Pane môj, chcem za tebou í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11:55:25Z</dcterms:modified>
  <cp:revision>20</cp:revision>
  <dc:subject/>
  <dc:title>Je veľký náš Pán, on slávy je Kráľ Nech do všetkých strán  spev vrúcnych znie chvál.</dc:title>
</cp:coreProperties>
</file>