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A62-69BB-4950-938E-0735099D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3D1-C390-49FC-B78B-E1880B46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3AB-501F-4ABD-8945-903FCEBD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6FB-04B4-46FD-9FC8-9AC17EED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AD5-5D0F-400E-9C1B-E9BA079F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232-7765-4EDA-9672-E053A455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DC7-EB24-457D-98DD-250A477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EA1-2554-4DC7-9DDF-0B33393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540-D9CE-47DE-AF4E-62535D6B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0EF-A672-42B3-BEBC-9388AF5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B87-5A97-4653-A33B-A030E7B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834-2F68-44EC-BF79-12D4D64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A0A-707E-48A3-8F7D-9E110B6E7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3 Čuj nádherné posolst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k nemu sa utiek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ím viesť sa d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hystá ti večné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mova ra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ž vráti sa čoskor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prav sa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ústrety z vďačn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mu 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dnes jeho hla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nádherné posolstv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om čo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 Synovi zoslal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ykú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kríži sa sklonil k n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ý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hriešnikov k sebe z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 všetkých st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dnes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 vzdialený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svojvoľne ž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 ti na návra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áva dosť s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až hriechu a bremä ví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eba chce sň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láskou ťa obj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pokoj ti da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s nami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emu ísť neváha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chváľ, aj ty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svoje mu da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 dôverou vykroč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ým ešte je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na teba čak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uj dnes jeho hl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2:56Z</dcterms:modified>
  <cp:revision>17</cp:revision>
  <dc:subject/>
  <dc:title>Je veľký náš Pán, on slávy je Kráľ Nech do všetkých strán  spev vrúcnych znie chvál.</dc:title>
</cp:coreProperties>
</file>