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52F-72AB-42B0-BBD0-7585ED60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4DF-34A9-42E3-9C83-BF26F262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C8A-D693-4EE1-A079-A56B7C51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271-D291-4348-8BF3-3D2C916A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E32-093A-4BE3-844A-A24DEF58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2DB-9B86-4A06-876C-401FC492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ACA-6C70-4153-A5AA-CFD4442D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D6D-77CA-4907-9BD4-888E14BC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30D-2D6C-4A2D-8F81-60CB26DA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951-75D5-4A76-B7CA-729C9A4C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A8E-538C-4F2A-B6E1-95BCBA7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E7A-2C00-4463-A98A-655655B8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D1EE-40D1-453F-9181-B98E929B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2 Len v mene Ježi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zdro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mene Ježiš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veta záchrana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mene viera má ští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zvodmi sat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jedinom me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a previn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nám odpustené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še 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t v nikom inom spase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spásnom mene tom, čo Otec zvolil pre Sy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tal sa dieťať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jedinom me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a previn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nám odpustené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še je spas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ľa zvesti Písma stane 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deň Pánom určený: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k menu Ježiš prizná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bude spas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jedinom me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a previn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nám odpustené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še je spase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31:13Z</dcterms:modified>
  <cp:revision>20</cp:revision>
  <dc:subject/>
  <dc:title>Je veľký náš Pán, on slávy je Kráľ Nech do všetkých strán  spev vrúcnych znie chvál.</dc:title>
</cp:coreProperties>
</file>