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D71-FB77-4D57-878C-7E3C05F7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380-D98B-4A5C-93A9-4E07ECC7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6AE-45D3-4207-8069-58DC0B63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293-ADA1-41E7-8008-8FF8BD80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194-CE89-4681-8FE7-8C32B90D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FCC-D1CD-4B26-8ACC-69DBF82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58D-FC85-4D11-A90C-B86D2C2B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B96-6F76-47DE-B9BC-67B43F35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B3C-CF61-4FC4-998F-14F6F117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216-6CF6-46CB-B7B0-626F6663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029-6060-4C83-B1EC-EADB904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46A-FB8F-4DF4-B07E-50016CC7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CB9E-1814-4BDC-AC02-F91C6162895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1 B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 nami, Duchu Svätý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uď s nami, Duchu Svätý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drahý Teš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y tvojou láskou spä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me stihli večný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ám svetlom pravdy jas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iaď nášho žitia be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konci púte čas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aj uzr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pásy bre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49:53Z</dcterms:modified>
  <cp:revision>22</cp:revision>
  <dc:subject/>
  <dc:title>Je veľký náš Pán, on slávy je Kráľ Nech do všetkých strán  spev vrúcnych znie chvál.</dc:title>
</cp:coreProperties>
</file>