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51F-FF67-42E6-974C-E67931FA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F66-1772-41C9-8EB5-7326C945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C75-D8E5-411C-A4C5-6E69956A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8DE-BCCE-403E-A205-B7F76CE7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A61-18E8-4F6B-970F-B648E90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230-B932-462E-B769-D021094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5C8-F8EA-439E-A8A2-EF740A9E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AB1-E457-4B34-B33F-BCC0680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CC3-4188-484F-81D0-56F0A721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7BD-02BA-4C69-9705-92427F4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4DD-3371-4D89-AF2C-1050D15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1F8-3CFB-45FC-B198-881E30C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25D-3F9A-4556-A05A-6B5914460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3 Istota vzác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ebeskej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e sa skvie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chcem ve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ať a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stota vzácna: Ježiš j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a, blaha bezpečný zdr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dič som spásy, vykú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odený z Ducha, očis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ie som sv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Ježišov s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je mojím Spasiteľ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esám zrak svoj pozdvihuj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koro príde, to dobre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mu vzdáv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aždý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ťom Bož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ať že sa sm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klame nikdy, 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u môž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rdca radosť vlieva mi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m ho vier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chádzať k n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14T18:51:05Z</dcterms:modified>
  <cp:revision>21</cp:revision>
  <dc:subject/>
  <dc:title>Je veľký náš Pán, on slávy je Kráľ Nech do všetkých strán  spev vrúcnych znie chvál.</dc:title>
</cp:coreProperties>
</file>