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E962-8659-49B2-B9AB-5998A4DB1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E2D4-02DB-413A-BB5A-C19B7CF1E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943B-7E5C-435A-8A36-6A27DAE24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D7D4-9CB4-4736-A17C-66C531B6C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84C6-ACB9-48BA-8012-20D211024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31C8-7FC4-4AAF-8E86-FF27A8E6D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B9E8-88A7-4F55-9318-04358DDA7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78AB-6382-4895-A986-8CFB13FD9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77A6-4619-4D5D-8D94-41883E810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0E7E-6F41-46BC-BCC4-EC75D5A4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D147-AC31-4A07-BC8E-3B2677EB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8FAD-662A-4FED-A4A3-E9D057C4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D3360-5D42-4F83-BCA9-DD6F73F75B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99 Mám srdce plné radost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Mám srdce plné radost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na deň sa teším Pánov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že smiem sa z Božej milost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dnes sýtiť nebies mann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eň plný požehnania,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:||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eď opäť sa k ná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tvoriteľ skláňa k s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dnes, v d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ň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plný po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ehnania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eň sobotný nám zvestu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že v tomto dare z raj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Boh svoju lásku zjavu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čo Tvorcu s Tvorstvom spáj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eň plný požehnania,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:||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eď opäť sa k ná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tvoriteľ skláňa k s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dnes, v d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ň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plný po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ehnania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eď po práci nás Boží hla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ve k odpočinku znova,</a:t>
            </a:r>
            <a:br>
              <a:rPr sz="48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P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án v dome svojom v svätý čas</a:t>
            </a:r>
            <a:br>
              <a:rPr sz="47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re nás má pokrm Slov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eň plný požehnania,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:||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eď opäť sa k ná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tvoriteľ skláňa k s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dnes, v d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ň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plný po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ehnania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 tom tvojom Slove, Pane ná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je živej vody prameň;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ty, ktorý srdcia naše znáš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ím smäd po tebe za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e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ň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.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eň plný požehnania,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:||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eď opäť sa k ná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Stvoriteľ skláňa k s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dnes, v d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ň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plný po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ehnania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9:30:20Z</dcterms:modified>
  <cp:revision>22</cp:revision>
  <dc:subject/>
  <dc:title>Je veľký náš Pán, on slávy je Kráľ Nech do všetkých strán  spev vrúcnych znie chvál.</dc:title>
</cp:coreProperties>
</file>