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89D5-E1D6-43CB-85EC-927FA459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EF04-DD8A-449F-8F13-0797707C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D6B2-E430-48EC-8533-EDBE23C8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FD6B-4961-4971-86BF-56482213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D3E2-EAE8-4147-BCC1-8551E20D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C83A-355E-4A78-A37F-52A172BD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7CD3-675B-44E4-9956-D3C5A44F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734B-7447-4002-84BB-858E6132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769A-27CC-4678-B96F-99F5F98E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0348-5DF8-4DCB-B597-0BBD7924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85C2-3A47-4112-9D55-E2B742BE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BBA1-5D22-4F83-9D4C-F27D41D4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F34F-AA09-45B0-BABD-A7F585E5B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54 Láska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á,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st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ed tvojím trón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iež môžem st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voje meno v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slavov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Láska večná, čist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Ježišu mô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moja nádej ist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tále pri mne stoj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 z hriechu pú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ceš ma vytrhnú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íťaziť dáš v boj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o mnou, prosím, b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Ó, drahý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 cieľu ma ve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 kde budem več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môc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teba zr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Láska, večná, čist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Ježišu mô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útecha vždy ist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stále pri mne stoj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iaľ, trápe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uč ma ticho ni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áč ma cestou spás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ilostivo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zemi som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útnik a ho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o ot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ny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miem raz voj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Láska, večná, čist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Ježišu mô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pomoc verná, ist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stále pri mne stoj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v pravý č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ídeš na zem z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áč ma vziať do svoj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íše večných kr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4:56:13Z</dcterms:modified>
  <cp:revision>21</cp:revision>
  <dc:subject/>
  <dc:title>Je veľký náš Pán, on slávy je Kráľ Nech do všetkých strán  spev vrúcnych znie chvál.</dc:title>
</cp:coreProperties>
</file>