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0CE-9E53-4F55-892A-0F0EF7FD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29E-CF73-4F88-A84A-5D9DF0F1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7FB-E2B9-4BD8-9E67-B16E088D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DE5-C4AB-46D7-A7DC-F0537E76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76E-0213-473C-890E-95A45774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A42-F380-4BF9-879C-946F8AD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D12-A961-4DBB-9875-6144FFA4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994-D505-4EA8-B01E-7066C2AB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34A-6558-4554-85A9-685827D2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E15-E225-430B-9515-1C453EF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BA5-5A3B-4858-A8E4-925B31CF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C3C-F4D6-4BC1-B253-B4B763E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EDA4-7520-4417-9FF0-745B440AC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0 Ja v Kristu život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 Kristu život 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tálej sily zdr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ch, úzkosť, star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z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evný hrad je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obrý Pastier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ovce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sýti ich, nad nimi bd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o ne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ťažký čierny mra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visí nad hlav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upieram svoj viery zra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k nebu s dôver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to šťastný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ojím verným ochranc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nie som nikdy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54:35Z</dcterms:modified>
  <cp:revision>21</cp:revision>
  <dc:subject/>
  <dc:title>Je veľký náš Pán, on slávy je Kráľ Nech do všetkých strán  spev vrúcnych znie chvál.</dc:title>
</cp:coreProperties>
</file>