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BF4-17DB-46AF-BAD2-2A185A35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C2C-AAA9-4036-8C4B-9238070A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DC4-841D-406F-BB8D-02659EAC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819-BA8A-48A6-AD14-62E234B4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250-E39C-4D8C-83DB-EFB16E3F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941-8AFD-44F3-9FED-FB6466DF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212-C3CE-46E5-B4CD-627AF97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A2D-D7A4-4698-9E9E-3D4CFF5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C57-6905-47E5-8EC0-A4CBF17B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648-FC43-4674-A0FF-08161492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E17-B0A7-400F-BE44-674AC18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1ED-BC6C-4035-85FE-D5A04DB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F128-4213-4AD8-A8D3-19D36016C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5 Tam, kde v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 m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v Bož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ie vždy vďaky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ľud Boží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kupuje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iaci tam tvor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evný bratský kru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ia láskou hor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je Boží D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láska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va silu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údrosť nekon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via v nás s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i kde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ú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ť, pokoj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b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e ná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všetky túžb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letia k nebe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dosť z vernej služb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estu kráti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riek bojom, str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pred vždy i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novej več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 Pánom dôjde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07:51Z</dcterms:modified>
  <cp:revision>22</cp:revision>
  <dc:subject/>
  <dc:title>Je veľký náš Pán, on slávy je Kráľ Nech do všetkých strán  spev vrúcnych znie chvál.</dc:title>
</cp:coreProperties>
</file>