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EE1-998D-419B-9FF7-73248A1B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E8B-B905-4AB5-B894-674A0B6E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74D-A8E8-4726-8A90-6D710E03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D48-4D76-455D-AF27-0D4F4B11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332-8BD1-4632-A481-A2CA6952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E7E-C4AC-4AC0-93CC-A0B95A6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DFC-AFAB-4594-A3BB-A88D73C4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E8B-C7A8-41F1-9BE4-8F87017B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168-34AD-4A64-8EB4-155FAB6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EB5-3ACD-45E1-A649-A11CF70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235-8866-4FB0-9CE3-9BD46CD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4FE-1848-468B-9C51-E87CB6F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3603-1D9E-4B7A-AA0D-DC829651D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2 Radostná pies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, kto chce, so mn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ť si sm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náde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ikov j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pozemským pútnikom skláňa sa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ho radostne nasled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á pieseň vždy svetom nech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m Otcom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iteľ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vesti tej nádej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ech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Syn Boží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ísme nám zjavil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ti pl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em že zostúp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k n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eských zástupo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cty sa vz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aránkom Boží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k nám 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vým tó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pieseň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ožeň tieň, bolesť a ž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Buď Bohu sláva za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tak mil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ovcu zblúdi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eta tmá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iel ma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m už st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svojom ovčinci privíta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ch, čo s láskou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chcú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7:49:21Z</dcterms:modified>
  <cp:revision>20</cp:revision>
  <dc:subject/>
  <dc:title>Je veľký náš Pán, on slávy je Kráľ Nech do všetkých strán  spev vrúcnych znie chvál.</dc:title>
</cp:coreProperties>
</file>