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D768-6DFF-45EF-864C-BF741591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637C-1966-443D-91D7-E21E9247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40D1-A99E-4123-B37C-11A2545E2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E268-F46D-40A2-9B67-793B36A24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A8E0-8979-4859-BD4C-BC69DC45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328F-5BE1-49BD-A54D-CABB6773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A98B-E068-47C0-9E01-09476436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D443-3DC1-4FDB-9145-8348E51D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997D-49D9-4144-A122-F0DB2549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AC0E-29E4-4D46-82D8-A8C7FD13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7112-1A5A-4926-A12F-00EEA4AE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7BA4-C0B4-40F3-B4F1-E6D73AF0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7733-8194-4D7E-9784-9D82FD9FB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56 Hviezdy sa skryli za mrak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viezdy sa skryli za mrak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svieti ani jedi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pasiteľ náš, sám len s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ťažký zápas začí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 čelo krvou zrosen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ú strašnú noc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k nebdie s ní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priatelia aj blízko s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o všetci spia tam zomdl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útok zloby vrchol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pomoc Otec prichádz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oc tmavú anjel ožiar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žiš silu nachádz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aránok Boží nevin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znáša bremä našich vín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nás tu zvádza krutý bo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a nás trpí Boží Syn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33:19Z</dcterms:modified>
  <cp:revision>32</cp:revision>
  <dc:subject/>
  <dc:title>Je veľký náš Pán, on slávy je Kráľ Nech do všetkých strán  spev vrúcnych znie chvál.</dc:title>
</cp:coreProperties>
</file>