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911-8699-4B94-9F4E-E5CC2795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114-F811-47CD-A5D3-61B31D66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08E-59BD-4A2C-8D79-AA045663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6CD-2E05-410A-87CB-09EBA5C6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49A-6B81-44AF-AB65-74899AD4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F41-C97E-4AD1-996F-B90C95CE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0C9-7F64-46D6-B4DF-C2E783B4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F4B-7597-41C3-8317-559801AE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049-93A4-486D-AA45-22ECCA54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93C-31EF-40EA-91CF-335AEE47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92A-299C-48EF-A2CF-C7A9FD63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0AE-3B82-4950-A821-C8ACDCBF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12D0-D0C8-4154-A645-A900449F392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3 Na kríži trpel som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trpel som a tam aj dokon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si sa dieťaťom už navždy Božím 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smrti som ťa zachrán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na to pamätá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a krvou zaplat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veľkú cenu má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teba som sa vz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slávy nebesk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a seba som vz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ôľ, strasti pozemsk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vete som bol cudzinc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na smrť ranen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nezostal si vyhnanc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áv večných zbave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Otca v nebesia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hriech ma odlúč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mysli nekles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som ťa vyk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pokoj, radosť chcem ti d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út hriechu pozbav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 tvojom srdci prebý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tebou večne ž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0:55:41Z</dcterms:modified>
  <cp:revision>26</cp:revision>
  <dc:subject/>
  <dc:title>Je veľký náš Pán, on slávy je Kráľ Nech do všetkých strán  spev vrúcnych znie chvál.</dc:title>
</cp:coreProperties>
</file>