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1B9-D053-4527-9478-5C346C54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A1D-E014-4916-976B-276F7C9D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717-1DB1-4F05-9AE1-5B8E8D1D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BD3-047A-44A5-AA0F-297C5F68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299-BF70-421C-B7C6-50695757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C36-B18B-4E5D-83C2-F5F32474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BCC-BAC5-4EBE-AC70-BD75CB86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66B-FEEF-48E2-9CEA-6869E337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21B-D79D-4241-9737-80D8EE63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A6E-0448-49A1-9315-19879954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6BE-458F-4459-A73D-9A0FA347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E6A-2B62-4DAB-B10F-95D3E2C2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9AAF-3457-473E-BF96-F147A86A6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295 Ten Pánov d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Ten Pánov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deň svätý sobot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krás nadzmeský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čas radostn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sám Stvoriteľ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v ňom žehná nás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a v duši rozlieva sa radosť,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  <a:ea typeface="Arial"/>
              </a:rPr>
              <a:t>jas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obot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mätný, vzácny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ňom ticho z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ten Boží hl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čo dáva nádej, viery pl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 ňom chlebom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ýti nás Pán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pokoj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rináša spásy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a ktorú patrí Bohu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ten vždy znova zjav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že večnou láskou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án mil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Z brán rajských kr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na ceste k ve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deň Boží je dňom r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Keď prídeš v sláv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Pan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 k 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rád znova za všetk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válu ti vz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9:02:20Z</dcterms:modified>
  <cp:revision>22</cp:revision>
  <dc:subject/>
  <dc:title>Je veľký náš Pán, on slávy je Kráľ Nech do všetkých strán  spev vrúcnych znie chvál.</dc:title>
</cp:coreProperties>
</file>