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56A-C0CF-4D92-A103-E209B8D7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BB5-38A1-4FE6-B269-A6479CAC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BAE-A355-4336-86BF-FFCECAD1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BD1-3F90-402A-860C-4BF0DEA7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22C-A7F6-4127-893F-7B8FE268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463-C689-4174-81CF-BAED2B3C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F0A-AF3E-404D-9042-9BF33426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CD2-C185-454B-B98E-1AA0C5D9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BF8-4355-4E92-947C-248BB415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2FD-6A30-4342-B17A-092FA36C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A14-E492-4275-9064-C0EE9D30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8B3-7FC9-48BF-B57F-FD4A2CC8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8C38-3E15-43D5-850C-980F229D7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0 Haleluja! Kráľovi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Kráľovi čes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e srdcia vzdávajú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e na jeho sláv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vú pieseň spievaj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sám za nás znášal muk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 Golgote trpel, mr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hriešnik z jeho ru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ijal život, spásu zr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Kristus pri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ohol hriech, smrti noc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íťazne keď z hrobu vyšie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javil svetu Božiu mo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ranené jeho dlan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večný dar spaseni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mu patrí vďakyvzdan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d celého stvore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Náš Pán ži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my máme večne ži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ďakou nech nám srdce bi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prišiel vykúpi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ia milosť spásonosn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ká našu ozven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vie láskou šíriť rado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úžiť verne blížnemu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38:05Z</dcterms:modified>
  <cp:revision>28</cp:revision>
  <dc:subject/>
  <dc:title>Je veľký náš Pán, on slávy je Kráľ Nech do všetkých strán  spev vrúcnych znie chvál.</dc:title>
</cp:coreProperties>
</file>