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BD1-4C63-4917-8C95-1E27B0DC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F60-8A63-48DF-AD6E-87BA0373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FE5-2C01-41C8-99CF-EC3F7DD5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CE9-2C50-4E92-B016-C74A7480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C73-2D7C-4516-992B-BB2FB792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19F-84C0-49B3-8414-10BD32AC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7D2-1B57-46F7-962E-A4AA246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309-0CAF-4852-BB85-71C883F6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ACA-984F-413F-B708-7C049C68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580-609C-4229-8B5E-686445DA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7C6-171A-44BB-95D6-6C7FEB83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3E9-288F-47E9-B065-77F0306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4320-D396-48AB-857F-03E333B2C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7 Sláva tebe nekoneč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úci,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ám ma stále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om vo večn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u tvár smel stále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hriechu zo mňa sň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 tebe nekoneč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rahý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o, že si z lásky ku m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skom kríži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u lásku prenesmier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okážem vystihnú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ou chcem stále kráč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áš viere zahy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svojou si ma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hriechu zo mňa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úžiť, Pane, túži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tebe zasvä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zvesť o tom šír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chceš hriešnych zachrán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život d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2:11Z</dcterms:modified>
  <cp:revision>32</cp:revision>
  <dc:subject/>
  <dc:title>Je veľký náš Pán, on slávy je Kráľ Nech do všetkých strán  spev vrúcnych znie chvál.</dc:title>
</cp:coreProperties>
</file>