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AEE-366F-4B4E-8C27-8282B630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9A4-9AD0-459F-90B2-D6AEFB68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FDA-6182-489D-91AB-52B47BCD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171-9708-4330-A1E9-3EF400C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912-49CF-4B2E-8FDC-415F3F5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C58-ED33-4D3C-8866-8D05DA85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626-65D3-46E6-A830-7592353F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123-5B41-45C1-863E-D5B8D2F1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D77-55B4-4767-B247-3C967D9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E9D-1A53-45E8-AD5E-638D442A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69A-CD67-4CD4-9FE0-E64A67C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131-EBB2-437C-8BB2-9A97EC4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838E-B2A8-4449-8ACA-BFA12FF2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5 Poď k Spasiteľ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ď k Spasiteľ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 k nemu svoj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každý deň n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ďačne ho chv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ádej sa 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iesť chcel by ťa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íťazstvo dá 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na rany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ie, čo ťa tráp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počuj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radosť ti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 životu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már závoj sa s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úzkostí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lnka lúč zla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rozjasní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je tvoj blíž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 trápení, tmá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 mučivej tríz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ň dolieha strac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uku ho vez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 prosbe sa sklo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vďačnej zas piesn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nový dá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skončenej pú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 privíta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 už nezarmú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et nespáli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j nebeskej vla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iery je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zbaviť nás stra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ykup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33:14Z</dcterms:modified>
  <cp:revision>21</cp:revision>
  <dc:subject/>
  <dc:title>Je veľký náš Pán, on slávy je Kráľ Nech do všetkých strán  spev vrúcnych znie chvál.</dc:title>
</cp:coreProperties>
</file>