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99A8-B9D4-4008-B867-B76E98E6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14AE-DE32-430D-968B-3E347334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853F-AA67-4183-9742-92FE737D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96A1-A3B9-4D53-B233-6C32B469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11A2-C9BA-48DD-BA79-4E850CC8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BABD-C0AA-4691-8B8C-B78509F9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6D79-2582-4F02-ADCE-0E77EF4B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26E5-0752-4B46-8292-A925487C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BB78-8949-4CF2-A4D0-CA8D1202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3EE5-EBD9-45B6-AFA4-8E0B4F03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A5F3-E998-4D3C-B0A7-BA3252E7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A953-13B8-4F8C-8A52-D4893FDA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A128-4E67-44A8-9EB0-18CB84770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26 Ó, poďte všetci ku m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Ó, poďte všetci ku m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preťažení st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 všetkých končín ze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u spásu nájde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k lahodne znie uchu zv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ľkej ochot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odpustenie hriech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z Božej dobro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poďte, všetci hriešn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dosiaľ blúdit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 Pána v každej tiesn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jsť pokoj môže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Prostredníka – Kris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et v svete náde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k Bohu žiadna ces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neho neved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poďte, skleslí v boj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pomoc prijmit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slovom Pán si stoj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cieľa dôjde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 mocou smrti Kristu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ríži zvíťazi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k životu nám prístup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ez hrob svoj pripravil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7T19:01:42Z</dcterms:modified>
  <cp:revision>20</cp:revision>
  <dc:subject/>
  <dc:title>Je veľký náš Pán, on slávy je Kráľ Nech do všetkých strán  spev vrúcnych znie chvál.</dc:title>
</cp:coreProperties>
</file>