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FEA-1C26-48B5-94ED-A85EA0D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7C2-EF7E-4FEE-8994-2338281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45A-5009-4C43-941E-C0C9DC08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6F4-7C28-47EE-86CE-BA525B86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081-9BBD-4E3C-9A2D-6AC2CF1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EEB-8947-4804-823B-843EAA8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9DC-57ED-46CC-8930-D44551B2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A2E-5991-463C-AACC-1BFA4D1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2E9-57CD-4BBF-BF15-5C91F18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411-BD59-4267-889B-EBC2FCA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9EF-32FD-488A-9281-1F3269B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0E8-BB84-4C76-8DEB-819364F9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271-94F1-4471-8F55-3E6675568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1 Pod krížom môjho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žom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síl je skutoč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ôni Skaly odvek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úkryt bezpeč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búrok príval utích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otriem s čela zn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útrapách a náma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pasiteľa svojho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hľadie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ilosť jeho nezmer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 vrúcne ďak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trpel na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iechy zo mňa sň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el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o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tupnou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6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život dar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láske môj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záruku vždy m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on mi v tiesni pomôž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u, hriechu odol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túžby sveta, sláva m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márny prelud, kl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s Pánom raz vo večn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č krajšie nepoz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40:04Z</dcterms:modified>
  <cp:revision>20</cp:revision>
  <dc:subject/>
  <dc:title>Je veľký náš Pán, on slávy je Kráľ Nech do všetkých strán  spev vrúcnych znie chvál.</dc:title>
</cp:coreProperties>
</file>