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6F5-7313-412F-BED6-6CEE28E5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49B-4801-4F5E-8E35-D54ACEE9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8283-4826-4C8D-9BFF-7899D762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210-B875-482C-ABB0-2E5AD89A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6C8-A4D2-4F38-9F74-26F7F623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406-05EC-4BDE-968E-79F2CEFC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23A-D65D-4B8D-B0DD-39F1E156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AF0-AE4F-4F37-955B-E89EA0F7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01C5-61A7-4950-8E05-BC88AF89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BDF-ECE6-4A0E-9E7A-E59177FD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467-7CF7-4E1E-BC05-0C2CF347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39E-F2FF-4627-A35D-72E02239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3683-0E7B-4AE3-AAC4-BD3A8F1C2C7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15 Na teba, drahý Otče n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teba, drahý Otče 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rak upierame svo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kajúcnikov prijíma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m hriechy naše odpúšťa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/:vieš stíšiť nepokoj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š liek na rany, bole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naše blaho dbáš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vzývame ťa v úzk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s vytrhuješ z ťažkost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/: ty s nami súcit máš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 teby slabí, biedni s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 zmocniť, Pane n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tvoju tvár vždy hľadá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za tebou len kráča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/: tvoj počujeme hlas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s zvlažuj rosou mil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ŕdc nám vďačnosť vle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ducha znášanliv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 pravej obetav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/: a lásky úprimnej.:/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9:17:07Z</dcterms:modified>
  <cp:revision>18</cp:revision>
  <dc:subject/>
  <dc:title>Je veľký náš Pán, on slávy je Kráľ Nech do všetkých strán  spev vrúcnych znie chvál.</dc:title>
</cp:coreProperties>
</file>