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D6FD-EE39-4E9F-B935-53F68D8B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A746-32CF-4761-9FAA-0CE2098D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F661-AB9B-4B43-9275-7C4A7AF4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EB45-F6B6-4D5F-84C9-8A1A4696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B6D5-B880-40E1-A5B1-BB43C921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129D-9837-4053-B4B2-017BC6B0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0205-8A90-49C2-910D-DC200D15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FBC4-32CC-4FD5-8D26-10C66984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1763-62EC-40E8-805F-45B00351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3B98-6842-4902-AB64-5CE2A894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9B72-0D85-4E4E-999A-90DA48E2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A21A-788F-41F4-BC67-8083DCF5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7CCD-557E-4D4D-B0D7-55D5A6EE6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48 N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, Pane, okrem teb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ie už, Pane, okrem teb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cem v svete m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cem len tvojím učeník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slušným sa st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tebou len, s tebou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itím ísť chcem deň čo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tebou len vstúpiť chc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raz na novú z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V mojej biede okrem teb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nik ma necháp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ys´ ma láskou objal než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do srdca mier vli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tebou len, s tebou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itím ísť chcem deň čo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tebou len vstúpiť chc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raz na novú z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ím je všetka sveta sl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smiem teba m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iac nad poklad tvojej lás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môžem si pri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tebou len, s tebou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itím ísť chcem deň čo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tebou len vstúpiť chc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raz na novú z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eto tebe dávam, Pane,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asný život sv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vrelou túžbou očakáv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lávny príchod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tebou len, s tebou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itím ísť chcem deň čo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tebou len vstúpiť chc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raz na novú ze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8T04:35:39Z</dcterms:modified>
  <cp:revision>22</cp:revision>
  <dc:subject/>
  <dc:title>Je veľký náš Pán, on slávy je Kráľ Nech do všetkých strán  spev vrúcnych znie chvál.</dc:title>
</cp:coreProperties>
</file>