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393-BC98-494A-90DA-694C4B1D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00A-D1BB-4B67-A199-87376B9E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20B-3DB5-42E9-B44E-D6818A6E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D65-C5E4-4900-B0A0-22EB2A37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ABA-5102-4712-8672-FDC9AC5A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862-D88B-4EB8-8820-D444CBCA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831-CF97-4450-AAD2-5B9FA38C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C98-036E-42CD-A33A-4B68C2C6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F50-EC34-4106-B94B-541CDBBF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EAE-A11E-4A38-9675-352BF78E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4B21-459B-475D-B74B-E1AE4275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3F6-A498-42B0-9568-0EF059D2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55E3-F49F-4651-880E-ECC9C98FE8C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09 Veď ma, svätý Hospod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ma, svätý Hospodi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úšťou sveta k výši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 som slabý, ty si moc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teba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annou Slova, mannou Slo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lebom z neba sýť ma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lebom z neba sýť ma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ištáľovej vody prameň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tvor, prosím Pane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 na ceste do Kanán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hnivý stĺp svieť mi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cný Vodca, mocný Vodc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boku mi stále sto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boku mi stále st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Izrael cez Jord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mám brodom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úšok prej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u pomoc očakáv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spodine, ráč ma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z tam v cieli, raz tam v cie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ám ti vrúcnu vďaku, č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ám ti vrúcnu vďaku, čes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4:06:38Z</dcterms:modified>
  <cp:revision>13</cp:revision>
  <dc:subject/>
  <dc:title>Je veľký náš Pán, on slávy je Kráľ Nech do všetkých strán  spev vrúcnych znie chvál.</dc:title>
</cp:coreProperties>
</file>