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590-DED1-4DC7-B29D-BB5A067E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5CC-0A4E-4507-AB4F-0B58FE27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58B-A1D2-4836-B075-B9B49712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06A-1F7B-4E72-B859-A2B7BC03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995-4C67-4C04-9209-52C90B5C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EE5-0E14-4BC3-9AE4-DC247836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D20-0966-4104-A01F-A95991E3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FA8-0AB2-4A6F-9A8C-B65EC7C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85C-9015-4FA0-A2BA-6E01B41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F41-7AEF-4AA0-9B08-1E978D49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53A-C623-407D-BEFA-6055743C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F43-6F29-4ADC-93F7-8383DD5A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123D-17F3-4625-8441-7ABCD5A5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6 Byť stále blízko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stále blízko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ane, túžb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ísť po tvojom bo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byť nikdy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smiem ťa lepšie poz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o mať ť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ť v tebe síl zdroj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podľa tvojich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každú starosť vlo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do tvojich rúk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miluješ ma ver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cítim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a nasled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voje meno c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preto Duchom s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hojne obdar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pomôž pripraviť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onen vzácn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zem prídeš v slá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drahý Pane,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tvoj ťa bude ví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ja tam túžim stá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voju lásku chvál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chcem ti piesňou vzd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2:42:06Z</dcterms:modified>
  <cp:revision>21</cp:revision>
  <dc:subject/>
  <dc:title>Je veľký náš Pán, on slávy je Kráľ Nech do všetkých strán  spev vrúcnych znie chvál.</dc:title>
</cp:coreProperties>
</file>