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EE8-5E89-42E9-9FAC-B79CC1E2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F02-6CBA-45B7-B411-075FF2C2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CC5-4620-40F0-9619-CB4C50AD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FD0-099E-4858-A535-3B122264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695-C56E-4308-BF95-99845108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FB0-ED19-4CFF-98DC-1858331A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C36-71E6-48F5-A1D7-A970E255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DB2-98FD-447F-989C-DA00AD8D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09E-5AAD-4CF4-97D6-1D7A5D6C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EF5-5C14-4212-B9BD-A6AF5F77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9BC-D14E-461D-97CB-87EBE2B8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CDF-F674-49EE-B932-0D2DB4C3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8ACC-11FB-4C56-BFE2-EBA937B2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0 Môj Pán ma naši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láskou svojou hľa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ž riecť som stihol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yť t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ávno už ma čak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nes jeho blízkosť cítiť smiem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jeho ruky chrá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tále bude pri mne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m jeho 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chotne ma prij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mňa dal aj život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svoju za mňa vy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mojím záchranc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ním sa vďačne skláň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á ma rád, to poznal so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hcem s ním byť bez prestania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ôj Pán ma našiel, Priateľ môj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pomoc jeho st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darovať mu živo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iť na jeho chvál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lásky pre mňa priprav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čom ja nemám zda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, aby som s ním večne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 jeho bez presta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06:50:44Z</dcterms:modified>
  <cp:revision>20</cp:revision>
  <dc:subject/>
  <dc:title>Je veľký náš Pán, on slávy je Kráľ Nech do všetkých strán  spev vrúcnych znie chvál.</dc:title>
</cp:coreProperties>
</file>