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481-B8F5-4013-98FE-0696D26C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9F9-87C1-446E-9CDF-84E2C524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AB2-A971-4655-84F6-953E4A72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383-7DA9-40CE-B917-5B0747AD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3C9-6066-4BDF-83D9-976F62C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628-099E-470E-8150-A70E7E1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DB9-33A0-4807-99CD-0E0C3D7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E18-CFF8-45CA-A896-528D8D3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042-1F4D-4103-9BFD-EB515DE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27C-024E-4759-9ECA-6E436168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143-9503-4ABC-B019-D1EDBB5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231-7543-4802-9E41-F216415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293C-2CE6-4E78-ABA3-81B48C87B57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4 Na kríži miesto mň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ríži miesto mň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mrel môj Pá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hriechov ma obmyl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v jeho 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áčať chcem vždy za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svojím spase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jemu zasvät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, č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Krista na sve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ím by som bol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On ma z hriechu pú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vytrh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môj Boh a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blaho, pokoj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ňho sa spolieh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 stíšiť bô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o drahšie 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ateľstvo s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mu sa so všetk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zdôver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mojím radc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mojich strastiach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bre mi rozum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ím zvíťaz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i podobný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l by som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ichosťou, pokor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ozdob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preňho prac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 ho mi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žnym ho zvest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neho ž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02:16Z</dcterms:modified>
  <cp:revision>27</cp:revision>
  <dc:subject/>
  <dc:title>Je veľký náš Pán, on slávy je Kráľ Nech do všetkých strán  spev vrúcnych znie chvál.</dc:title>
</cp:coreProperties>
</file>