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6FA-1019-45C2-A6B5-7EFB35EC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CCB-33FD-4621-8F73-B91620E3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CFC-E921-4499-9790-42B301A4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15A-36F0-47BE-9416-C345FFDB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3A0-8F4A-4FA7-B06C-301882F1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FC1-0E55-47C0-B599-90C585CC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42B-9150-4D81-9FD7-02008619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C5C-7D98-4DDD-8806-369C43FE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10B-FBB0-46C1-AA29-8CFDD1F5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CA9-07D3-40E6-A84A-875C70A5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CFB-501F-4AD1-8787-40617E6E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442-1C22-41A4-9A1B-C1729B76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62F7-96C2-41DD-BD9F-3C227D97F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9 Tá láska vzácna, úžas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o mu slávu vzdáv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ním sa s úc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áňajme;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z našich úst 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a z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ečný život, spase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láska vzácna, úžas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nad ňu väčšiu nepozn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sám sa st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človek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spásu več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e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znášal hlad i biedu z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krstom s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klad d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pokušením zvíťaz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diný bez hriechu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, vďaku vzda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za nás mrieť bol hotov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kríž, na ktor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el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pre hriech patr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m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 Božej moc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mŕtvychvst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voju cirkev pamätal;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Ducha zosl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u m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erným sľúbil na po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12:00Z</dcterms:modified>
  <cp:revision>10</cp:revision>
  <dc:subject/>
  <dc:title>Je veľký náš Pán, on slávy je Kráľ Nech do všetkých strán  spev vrúcnych znie chvál.</dc:title>
</cp:coreProperties>
</file>