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70E-200D-4526-98D6-2F1CADE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AD4-B5CE-4923-98A3-C5F4A094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7FB-073B-46AB-B999-CB9A7A1A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F28-7C3A-44CC-BFB2-9AD79F3C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24B-B221-4F4C-AD9D-7DCACD2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894-0F0B-406E-B707-F327243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B30-B3F9-4CF6-8BA4-8902AE6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B2F-CA45-4F82-83CA-C4DC7F4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6FE-6D1D-4327-821D-A48EEE6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08A-85D1-4FB4-8B92-6E38EE3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D0C-74E5-4F67-A950-299263B7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09C-2CF9-46ED-979E-46260F7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4CD-13CF-4855-8082-D2A10452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2 Pane môj, kým som nepoz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 zvíťaz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cieľu viery dospej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az tvár tvoju uvid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sa z toho ra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myslím stále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v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iať si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kým som nepozn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tvojej lásky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som túžbu pestov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márnej svetsk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ím ťa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eň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pravú múd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bez bázne kona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ojim blížnym uško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erným bol som dieťať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tebou som sa nerad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pusť mi, Otče, blúd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daj zvodu riecť vždy: 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álo lásky som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om len vlast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tvoje, čo som b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ť vďačný byť som neve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viac ťa mil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a všetko ti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a som málo vyko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 sa, Pane, chváliť č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žkostiam som sa vyhýb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ám sa nezm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tvojom diele 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u na to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6:59:11Z</dcterms:modified>
  <cp:revision>20</cp:revision>
  <dc:subject/>
  <dc:title>Je veľký náš Pán, on slávy je Kráľ Nech do všetkých strán  spev vrúcnych znie chvál.</dc:title>
</cp:coreProperties>
</file>