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488D-07D9-4AD9-AFEE-447236CA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A50-CF78-4DF7-B3F2-8B521E4A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BC98-D94B-46F8-A8EC-62E9916F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0A5-C72B-4DED-A44A-DEF63C96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C558-470F-48F8-8A30-84E12247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BDCC-52F3-4C78-A9DC-5E47EF62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411E-3C90-400E-A6AF-C60C2FB2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B92-4E86-4133-AA17-7FA2176F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13E-9FF5-4E31-B5FB-408D9562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C2C-64D5-420B-A1B6-23DDA944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AA00-C464-471E-8B9B-D4946B2E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94A6-68F6-4F58-871C-4D736C71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F8F7-E3EA-4B67-8904-8F6233C1E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Arial"/>
              </a:rPr>
              <a:t>301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 Ke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ď svit slnka stráca j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-306000"/>
            <a:ext cx="112680" cy="12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81080" y="549000"/>
            <a:ext cx="950616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Keď svit slnka stráca jas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večerný sa blíži čas,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duch sa k Bohu povzniesť smie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nad pozemské trápenie 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v deň sobotný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13320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Vznešený a svätý Stvoriteľu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nebesá nám zvestujú tvoju slávu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hlásajú moc preveľkú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Tvorca náš, čo stvoril svet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neprestáva strážne bdieť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práci mieru určil sám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odpočinok praje nám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v deň sobotn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Vznešený a svätý Stvoriteľu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nebesá nám zvestujú tvoju slávu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hlásajú moc preveľkú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7360" y="-5300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K zvesti Slova pravdy ná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Víta Božej lásky hl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Slovo spásy radost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Smieme počuť z milost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V deň sobotn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Vznešený a svätý Stvoriteľu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nebesá nám zvestujú tvoju slávu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hlásajú moc preveľkú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Hriechu noc pomin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s ňou aj všetko súžen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zanikne raz smrti tie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svitne  slávy večný de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deň sobotn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Vznešený a svätý Stvoriteľu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nebesá nám zvestujú tvoju slávu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hlásajú moc preveľk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_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6:56:09Z</dcterms:created>
  <dc:creator>Stano Slamka</dc:creator>
  <dc:description/>
  <dc:language>en-US</dc:language>
  <cp:lastModifiedBy>Stano Slamka</cp:lastModifiedBy>
  <dcterms:modified xsi:type="dcterms:W3CDTF">2006-11-23T16:57:09Z</dcterms:modified>
  <cp:revision>1</cp:revision>
  <dc:subject/>
  <dc:title>301  Keď svit slnka stráca jas</dc:title>
</cp:coreProperties>
</file>