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4C5-A5B7-49BC-858B-A0226FDA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4317-BB2C-4FCE-A6D3-409414A2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CB0D-A163-4E6A-8188-0E7C0C92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471-961A-43C9-B5ED-B1D14EF0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595E-6B2F-439E-97BA-57F4FD7B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3C8-029C-4186-A7A7-602C51BA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174-0A01-4468-A2D7-8CF2D651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FCD9-E134-460E-8CE8-8CE4273E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ABFE-7903-4F38-B18B-0C2F9327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3EC-328A-48F0-95BA-D6D4CA43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0A1-9A42-4920-B858-A20FAB6B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83F8-7E9C-4D46-9B0F-F781B95B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EAA4-6D3A-418C-A330-7E30B157B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51 Hviezdou, čo v tme svie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viezdou, čo v tme svie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oc vie rozjasn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iskrou, ktorá nie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o mne túžbu ži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lebom, čo hlad tíš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y si mi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cieľ nad všetko vyšš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môj a môj Pán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teba bol prázd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siaľ život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užoval ho már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a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l som iba plev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trom zmietan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dnes sa teším, že s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ím dieťaťom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zdrojom blah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bo v tebe m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eď krok môj váh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smerníš ho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utrpení, v stra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mi nádej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nad pozemské sla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ou jedinou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tebou teda pôjd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m sa tebou v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cieľu iste dôjd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abyrintu ci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, kde žiadna ties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ť neskal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tam ťa moja pies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čne pozdraví.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8:35:44Z</dcterms:modified>
  <cp:revision>20</cp:revision>
  <dc:subject/>
  <dc:title>Je veľký náš Pán, on slávy je Kráľ Nech do všetkých strán  spev vrúcnych znie chvál.</dc:title>
</cp:coreProperties>
</file>