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393-D313-4658-B422-6273BA28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37D-2474-4F5A-9114-23854F9C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607-DD68-4FAD-AB7C-B9E5D60C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4A6-4365-4814-A629-AAA55E84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A32-DDAB-41BB-9A24-0E37EF50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F3D-2B89-478E-8A3E-C8ED637F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B90-FCE1-4DEF-B028-6E837295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A83-30FD-4D08-9442-4B3F2FA1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C67-1882-45D5-8EC2-AB6EF4D7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9C7-D438-44C3-AECD-FB29F751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F28-E5C5-4CC2-8128-413F22AC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F69-8B9B-4246-8C7E-ED978210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0516-19AB-415C-9048-FC945C4C4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6 Mne nehodné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dal milo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ne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ehodnému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Pán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dal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ilosť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36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hriechy mi všetky odpustil,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zaplatil za ne vlastnou krvou,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aby som s ním raz večne žil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asnem nad toľkou milosť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viniem sa k ne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vďačnosťou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Nič dobré som si nezaslúžil,</a:t>
            </a:r>
            <a:br>
              <a:rPr sz="4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odplatou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za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hriech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smrť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j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viem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3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kvôli mne zomrel sám Syn Boží,</a:t>
            </a:r>
            <a:br>
              <a:rPr sz="4600"/>
            </a:br>
            <a:r>
              <a:rPr b="1" lang="en-US" sz="4600" spc="-1" strike="noStrike">
                <a:solidFill>
                  <a:srgbClr val="66ff33"/>
                </a:solidFill>
                <a:latin typeface="Arial"/>
              </a:rPr>
              <a:t>vďačný byť jemu za to chcem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v mojom srdc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zni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Pán vydobyl mi spasenie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Božou lásk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sa chvál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o nej všetkým rozpráv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lovek tu nad ňu v žití cel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ôže cennejšie nič m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ôkol šír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nu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Pánovi vzdá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u, česť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07:46:20Z</dcterms:modified>
  <cp:revision>21</cp:revision>
  <dc:subject/>
  <dc:title>Je veľký náš Pán, on slávy je Kráľ Nech do všetkých strán  spev vrúcnych znie chvál.</dc:title>
</cp:coreProperties>
</file>