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F31-CDD2-4F82-8186-6EC81D76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07C-814D-4E5D-BAA4-32A50B4B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41C-713B-4438-AC70-8892C613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A11-4CFA-407B-AB35-271CF702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882-4B8A-4C67-8874-C930A7BC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41D-D72E-4E8E-93EC-C222FAFF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288-1F2A-421F-B545-BC49DA6B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718-B34E-4727-A4FF-A489718A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CFA-A911-4769-BDE4-8924357B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652-7CEE-43FD-90FD-1526DA1B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A32-98BD-4DF0-8B88-44272928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1BA-940C-4D2F-9251-FE09F0E9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2C60-DE32-4FD2-9306-13F95CD82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8 Pán Ježiš je môj živ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je môj živo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i mrieť chcem len s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neho svet je prázd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slávne zvíťaz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ach smrti nedesí u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 hrobu neľak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ňa Pán mrel na kríž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láska odvek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koro pominú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ľ, úzkosť, súž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zkriesením mi d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slávy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hoc sa sila strá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ych už krátky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ducha svojho je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navždy odo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rdca tlkot stích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hasne svetla lúč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spánku zobudí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Božej lásky kľúč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ôle svojho P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v hrobe spočinú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a sľub jeho chcem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teraz spoľah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dnes tvoj čakám prícho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viera výhľad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plníš moju nád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Láska víťazn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3:41:31Z</dcterms:modified>
  <cp:revision>21</cp:revision>
  <dc:subject/>
  <dc:title>Je veľký náš Pán, on slávy je Kráľ Nech do všetkých strán  spev vrúcnych znie chvál.</dc:title>
</cp:coreProperties>
</file>