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EA9-25C0-4690-8B83-8E69163C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EC0-55E9-4607-B661-77608069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755-3DEF-4494-8520-F4DC758E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513-B56A-41BB-96AE-14928469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D11-36DC-4BBF-ACF4-DF1E7BBD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32B-B56B-4240-87B8-DFF428DA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B6F-DCE9-4C7F-9C80-B2FA1383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037-A46A-4A4C-8EDE-F2882D9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508-EE20-434E-9889-585C695F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629-990A-4308-91F6-69F05CC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FB5-5E2F-459B-A72D-9F56C1E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776-251E-4341-941A-57FF44A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8EE-2A7F-4137-9DAE-784C7A3B6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2 Ot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v nebi, deti tvoj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tče v nebi, deti t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kláňajú sa pr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 teb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vály, vďaky, prosby s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ysielajú s pokorou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d nami tvoja tvár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uj hojnú nebies vla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ucha svojho mocný prú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hnaj každú dobrú sna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lebom z neba sýť svoj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d nami tvoja tvár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zácne zrno svojho Sl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ráč do sŕdc zasie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cirkev Ježiš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ohla rá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prekvi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revádzaj nás milosť tv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d nami tvoja tvár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06:24Z</dcterms:modified>
  <cp:revision>23</cp:revision>
  <dc:subject/>
  <dc:title>Je veľký náš Pán, on slávy je Kráľ Nech do všetkých strán  spev vrúcnych znie chvál.</dc:title>
</cp:coreProperties>
</file>