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1B-664E-4746-A3AF-59C1C500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D81-38F5-4249-8F15-0146810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935-5FBB-4406-91CC-1727F4FF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23D-88C2-479F-A5BC-876BE3CF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02B-67BD-44B3-87C9-FAA2B23B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412-AE2C-4947-BF33-723166A2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10B-90D4-403D-9341-4F862EF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38B-B27A-426F-8A68-5663AD5C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533-F20F-4FC9-A587-CCDD743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A57-E08F-49A3-8FC9-D0EB970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B40-1054-4B87-ABE9-094E653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8E7-7C31-4963-84C8-2427E16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CA6A-2C5D-4410-9C3A-D46AADA3136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8 Pre každého z nás mies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každého z nás miest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v srdci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prišiel všetkých spas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aj nás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môžeme my det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vykonať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ím potešiť ho smiem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o mu dar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chceme Pána chvá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ývať z vďačn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d neho sa uči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útlej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každodenne kráč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 viac ho zn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dary sú, čo jemu smi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dieťa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udeme sa uč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erne praco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živote sa snaž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 Pánu Bohu vz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m naplníme príkaz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pasiteľ dal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ť ako on si pra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Priateľ a náš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48:50Z</dcterms:modified>
  <cp:revision>52</cp:revision>
  <dc:subject/>
  <dc:title>Je veľký náš Pán, on slávy je Kráľ Nech do všetkých strán  spev vrúcnych znie chvál.</dc:title>
</cp:coreProperties>
</file>