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C4EC-84F3-4360-AF20-E9468A32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E554-2EB3-4760-8951-3FDE6CAF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973D-F32E-44BF-A4E2-799480764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65BE-8A0A-455E-85B0-F3748460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6B1E-805D-49B2-AFA1-14D9BD71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DD71-4C89-4B9C-893C-BB4C1525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5C1A-BE36-404E-BBA5-BD4328BF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9430-DC1B-494A-9305-8BD8D180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E639-E978-4278-91AD-E5D42438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724C-F281-4DBB-95D3-5722A20F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864A-4401-4451-8C65-C57CFFC7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BE92-0830-40AA-9E62-87183A7A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E82A-1021-41A4-AD20-983F17A2D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64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Times New Roman"/>
              </a:rPr>
              <a:t>Ty, Pane, zosta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ň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Times New Roman"/>
              </a:rPr>
              <a:t>s nami len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y, Pane, zostaň s nami l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sa už stmieva, hasne deň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v tiesn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priek n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tm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jas tvojej tváre svieti nám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iež Slovo tvoje v tento č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šík bratskej lás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omkne ná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pridá viery, nových sí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by zbor náš na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tvoju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l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ám Duchom svoj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osväť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priprav na ten slávny č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  <a:ea typeface="Arial"/>
              </a:rPr>
              <a:t> 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ätosti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a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ám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kvieť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,</a:t>
            </a:r>
            <a:br>
              <a:rPr sz="44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k tvárou v tvár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chceme zr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6:05:07Z</dcterms:modified>
  <cp:revision>22</cp:revision>
  <dc:subject/>
  <dc:title>Je veľký náš Pán, on slávy je Kráľ Nech do všetkých strán  spev vrúcnych znie chvál.</dc:title>
</cp:coreProperties>
</file>