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57C2-ED19-45A8-9A84-619738801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8265-0072-4B4F-8295-817C9E490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F857-757E-47F3-9FCF-0412AB885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8C41-9DBB-4D37-BEF6-23963564F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C574-5022-4A64-B0E6-B192A7EE8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14AD-8DB0-48E1-81CE-FD786F5B5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9106-9393-4FF1-A3E5-A7B6CFF1A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74B6-5549-4739-8947-A4722231B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85D4-34C1-45FF-96A7-05C58ED1A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D897-D67B-407E-B18F-E2C0F1A9C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77F7-0C17-4025-A0F5-E79092D0E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AE93-83A9-4A96-A304-535E0D4A7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9CCD5-378D-4229-817E-A8636BA338B0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22 Tak veľmi Boh svet milov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ak veľmi Boh svet miloval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vet hriešny, stratený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že na smrť svojho Syna dal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to dar ten docení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á Božia láska nesmiern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droj mojej istoty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án Ježiš za mňa život dal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a kríži Golgot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o viere vďačne vyznávam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n je môj Boh a Pán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voj život rád mu odovzdá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eď spásu v ňom len m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á Božia láska nesmiern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droj mojej istoty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án Ježiš za mňa život dal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a kríži Golgot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 Ježišovom víťazstve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chcem spievať deň čo deň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príde v sláve, radostn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ho s láskou vítať chc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á Božia láska nesmiern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droj mojej istoty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án Ježiš za mňa život dal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a kríži Golgoty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7T10:34:15Z</dcterms:modified>
  <cp:revision>25</cp:revision>
  <dc:subject/>
  <dc:title>Je veľký náš Pán, on slávy je Kráľ Nech do všetkých strán  spev vrúcnych znie chvál.</dc:title>
</cp:coreProperties>
</file>