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485-4354-4931-A158-F7F38827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3B7-D24A-4924-8299-A2DEFD07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847-262A-48DA-B665-306B77C8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FDB-2E9B-44BC-9E02-A2BD15E5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992-AA74-428C-9F31-130EE2B1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4F7-E4B2-4697-A922-27B617C9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53A-EFDE-4397-8AF1-EEFFCDB8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BDB-D310-4EFF-81C1-D6837179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DE1-B5B3-4D56-A765-1A91143A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71F-A5AD-44FB-970A-66F863E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D40-9FA1-4908-B38D-0D81255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303-AE3C-493F-8FA8-E0E6AA47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785D-146B-494A-AC78-76DB8054F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5 Hoc hriešny s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hriešny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ť smiem tvoj krí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iere, že mi odpustí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a všetkých vín ma pozbaví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vätý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hriešny som, ty, presvätý, mi z lásky ideš v ústret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 veľkej svojej dobrot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prijmeš,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hriechom sveta znav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úrnym prúdom tiesn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i spása pra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z teba,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iedny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 dúfať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tvoju milosť veri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e svetlo sveta zr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lávny Boží Baráno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hriešny som, ty pri mne stoj, stíš duše mojej nepok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som navždy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vätý Boží Baránok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2:08:06Z</dcterms:modified>
  <cp:revision>20</cp:revision>
  <dc:subject/>
  <dc:title>Je veľký náš Pán, on slávy je Kráľ Nech do všetkých strán  spev vrúcnych znie chvál.</dc:title>
</cp:coreProperties>
</file>