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3EC-B8FC-4C9E-A814-9EDC99E5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F2A-6609-4520-B988-0CC20A66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4CC-3D2E-4A55-A47B-E6DCB37F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FC6-6740-4BC4-AACF-4004297C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A86-6D0B-45A2-A3E7-A93545B7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392-5BE7-4BF7-BE87-47597FD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6FB-B310-4380-9A9C-52F7F4D5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166-111F-4C0F-B6E7-409AA28A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66D-8548-435B-AB19-7A901034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8CC-AC0E-4C7A-9104-50DEF47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091-E7C3-4504-8F4F-BAE96BB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F1F-3FEE-4B0B-B5C5-CFA05513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A93-276E-4CBA-9C6E-D6026FE536F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3 Ty, spása sveta odvek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Spása sveta odve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svätý Boží Sy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š zbaviť srdce člove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út hriechu, jarma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pásna krv ho obmy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tiekla z tvojich 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obraz v ňom sa  zaskv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ložil doň Boh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tebe, Láska z Golg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odpusteni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tvojom svätom objat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 spásy po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rdce rosou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denne zvlaže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ieseň vďačnej rad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znie vždy nadšen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03:41Z</dcterms:modified>
  <cp:revision>16</cp:revision>
  <dc:subject/>
  <dc:title>Je veľký náš Pán, on slávy je Kráľ Nech do všetkých strán  spev vrúcnych znie chvál.</dc:title>
</cp:coreProperties>
</file>