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5A8-8295-412C-8C5C-87F33C54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6D4-11FC-465F-8E12-AF29D79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EEE-AB65-4EFC-87F2-0CB354A2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9E9-86D1-40B0-A185-BEF6E866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0EB-CAEB-4FEA-A070-598F62A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FBA-9DC3-415E-B29B-8E0B6093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9FF-42D0-46B2-9DB2-C7FFC9F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A77-EC93-40D5-A4E9-A8BCD15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B94-26C0-4E43-9545-F707A616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7EB-5046-4B82-8AD1-ABF4314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2F0-52F3-440C-88C2-2ADCEB5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97E-87B7-4512-A48A-6F4DB64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2486-488A-4CB0-AA80-C28FEF118B3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7 Všade tam, kde smútok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voj blížny poč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už príde Kristus,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sme všetci hotov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mu slávu piesňou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spasiť všetkých n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ade tam, kde smútok vlád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lásku rozdáv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cť strápeným a biedny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žiadnej chvíli nevá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žno pár slov láskavý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stačí a blížny t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e Božiu spásnu 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uši stíchne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spasiť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ležitosť nepremeš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 všade v pravý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slú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vždy bez presta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kol šír len radosť,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vete je plno bi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lestí a trápenia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lesajúcich pozdvih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a cestu spas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ade šír pokoj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ížnym slúž deň čo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uj Krista kým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ce spasiť všetkých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vny, čo tvoj Pán ti zver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odenne rozmnožu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akrátko už sa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ú zvesť oznam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40:54Z</dcterms:modified>
  <cp:revision>21</cp:revision>
  <dc:subject/>
  <dc:title>Je veľký náš Pán, on slávy je Kráľ Nech do všetkých strán  spev vrúcnych znie chvál.</dc:title>
</cp:coreProperties>
</file>