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0FAB-3F10-46C6-B4B5-1A2D44EC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5751-C95A-4E65-81AC-4E3F3B2A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AEC6-4A4C-4B21-9628-6DDA7EC1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D41D-D4E1-48CB-94EF-B6010F68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D2AD-961D-4525-8781-23DF4139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090F-122C-4EB1-B2E6-D77E1A5E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6C5F-C145-4921-B90B-5D253973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66D6-1813-4618-BD13-5ACEBE70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3B75-2E39-4FCA-A10D-F058B1E7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81CE-1A56-4F45-B566-04EE7C4D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2A72-478F-41DD-9736-C9A3AD05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E3D8-C3A6-4A3B-9817-F89EB014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0BA2-B625-4496-9FDD-89E9AAA5C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77 Tá krásna nád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rdci blaží ná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á krásna nád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rdci blaží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k nám sa vráti drahý P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uvidíme slávy jeho j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ako sľúbil nám on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e, že už dozrel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amení znie jasný h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učte všade piesne chváľ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Kristus, Kráľ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á krásna nád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rdci blaží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k nám sa vráti drahý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á krásna nád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jednocuje nás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skoro príde drahý Pá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veta večný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hynúcich kr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jsť smieme s n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lávy b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ým je ešte na to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e vydať jasný hlas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ľovské znie pozvanie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pravené všetko j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á krásna nád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jednocuje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k nám sa vrá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, Krá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6:39:31Z</dcterms:created>
  <dc:creator>MD</dc:creator>
  <dc:description/>
  <dc:language>en-US</dc:language>
  <cp:lastModifiedBy>MD</cp:lastModifiedBy>
  <dcterms:modified xsi:type="dcterms:W3CDTF">2000-12-12T18:57:48Z</dcterms:modified>
  <cp:revision>8</cp:revision>
  <dc:subject/>
  <dc:title>Bez nadpisu</dc:title>
</cp:coreProperties>
</file>