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787-8373-4A4E-9CEE-4A83D89C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DC7-7CE9-41A6-936B-5FA36AB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946-6D82-49CD-BC2E-35A6E599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7E6-B8DE-492E-8528-C538E159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F54-C9D8-4875-8E09-CD07067F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CAD-7498-4034-8E85-98C0C585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F58-8B9B-430B-A157-CEDEA56B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E72-57B5-471E-AC32-16BE686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E2E-B1FF-4587-9C9F-A7310F7B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E2C-5C26-41D7-B635-EA3E278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D96-1379-411E-900A-C051269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0E1-7B73-4C73-BDE4-938FFB4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0710-09DB-48C6-96BB-5D52ACC7D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8 Síl slabej vi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íl slabej viere, Pane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íž každodenne znáš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nahe našej pomáh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ou verne kráč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ďačnú službu rozni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rivý lásky príkl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tvojej svätej obe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áva spásy výhľ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 údmi, Hlavou ty s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je naša spása.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Len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ile</a:t>
            </a: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torú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š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ať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ám</a:t>
            </a:r>
            <a:r>
              <a:rPr b="1" lang="en-US" sz="42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2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e žiť tu dá 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Pane, všetkej moci zdro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álej lásky prameň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chráň v svete každý klenot svoj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račná zloby zaž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2T19:38:14Z</dcterms:modified>
  <cp:revision>20</cp:revision>
  <dc:subject/>
  <dc:title>Je veľký náš Pán, on slávy je Kráľ Nech do všetkých strán  spev vrúcnych znie chvál.</dc:title>
</cp:coreProperties>
</file>