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4D2-F3CD-445C-8B8A-0EA3FED1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AA2-E1CC-47B0-B1BD-51EDCC17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421-BB87-45E4-9CB2-AA89CBF0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3D0-B852-43B8-AFD5-639F6ED4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D19-23EE-498E-B2B9-2A9DD4E6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E6B-3AC9-4341-895B-C8C3C11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1F9-A983-4678-AB35-A2FBCFE8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47C-2B0E-493A-B800-3DE47DF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4EF-A32C-4C61-B5CA-5E27DC1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BAA-5886-4F4F-9CB7-3D74A9A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E99-CB52-405A-86F7-B6DF55D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742-6798-4D10-A084-10187CE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8C77-4E91-41D1-BCB3-26CCCAFECAE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73 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a nájde žiaduci cesty ci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rť a hrob raz navždy u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tí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zem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Jedi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ý za nás niesol krí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vin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 z našich ús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e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zem sa vráti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, viera nájde žiadúci cest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o svoj ľud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v sláve zja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án a Kr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s lás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miernou milov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er a rad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vládne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 neba vráti s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Timo</cp:lastModifiedBy>
  <dcterms:modified xsi:type="dcterms:W3CDTF">2012-08-27T10:51:17Z</dcterms:modified>
  <cp:revision>5</cp:revision>
  <dc:subject/>
  <dc:title>Bez nadpisu</dc:title>
</cp:coreProperties>
</file>