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76A-D76A-454F-841C-30FFBEE3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21D-5202-4677-84D4-71FB6D5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897-EC99-4A6F-B416-CEE2AE7A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DC5-63F8-41C9-A00E-0DAFC31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945-4E83-4E6F-94E1-F638049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987-A61A-457A-9212-37DD785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2B5-6363-4C81-A234-4BE05D5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E7F-0CF1-4A9A-8C4F-531C861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F5-73B2-41D9-8042-BA89ED81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711-A18D-4267-AAEA-C1E804D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552-B6A9-4B4F-AB16-E4C9C21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D01-79A2-4ADC-BC54-F3ECDA5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AC4B-6506-4C03-AEF9-18BA4C26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3 Vykup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ôj jedi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kupiteľ môj 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i mi spásu vydob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ňa si zomrel nevin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som s tebou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Slovo tvoje, pravd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é si nadovšetko ce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viere mojej dávaš zb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v pokušeniach 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ivota chlieb len v tebe mám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ty mannou z neba sám si,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viem,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učivý smäd už nepoz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o živej vody piť keď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žijem s tebou zmier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sa pokoj rozh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žem byť stále rados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jímať hojnosť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 tvoju po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, v sveta púšti, nie som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áš ma rád, to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tný so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20:06:12Z</dcterms:modified>
  <cp:revision>22</cp:revision>
  <dc:subject/>
  <dc:title>Je veľký náš Pán, on slávy je Kráľ Nech do všetkých strán  spev vrúcnych znie chvál.</dc:title>
</cp:coreProperties>
</file>