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642-3447-4F61-B668-840DFD01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01D-EDA2-4476-9598-BFF9E85B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172-AC01-4E8C-AA3D-2F6F29A6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438-3E4F-4827-864B-8E0CB0E0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BE3-0366-401F-A0C1-88F0315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1E7-BA64-462C-B95F-24CC002F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68B-42A5-40B7-BECD-D5698DB8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939-A68E-4054-982F-64E5213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AC1-19F9-4786-AF25-D277F2CE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CD3-39C3-44EE-86B4-D7AD109B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830-5D2B-4F60-9DF5-16607D9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6FE-DC6C-4851-AF14-F27C79E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288B-C0CF-4A63-A521-A3912515F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3 Ty si moja rad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ňa od tvojej lásky u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i bolesť, hoc ma muč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eodlúč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íš sa, srdce m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 svetlo tvo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ý tvoj hr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a v každom krí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k tebe blí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môže ti rá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i nedá zblúdiť v tmá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keď postihne ťa žal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a rado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i moja rad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ho srdca žiad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Ježiš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v svete z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le v teba d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moc najbliž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i pri mne, pokoj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 teba len, inde nie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avé utíš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ochranou tvo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ľakám sa boj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štít svoj m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 búrka div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ma pred zlým skrýv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chraňuješ s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a satan zničiť chc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to, Pane, nedopust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ma neopu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cem sveta sl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i v nebies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poklad mô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ská česť a sl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u často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ba nepok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6:00:03Z</dcterms:modified>
  <cp:revision>21</cp:revision>
  <dc:subject/>
  <dc:title>Je veľký náš Pán, on slávy je Kráľ Nech do všetkých strán  spev vrúcnych znie chvál.</dc:title>
</cp:coreProperties>
</file>