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4F7-D455-49A0-87A2-163C6DEB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5A1-7A91-4748-838B-EBF76FBB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72A-52A3-483A-A306-ADD030F5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2C0-50C6-49A4-BBF6-35C1A183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A92-E08E-42E7-A5A9-6932BC65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571-940F-4C5D-8174-D82676E7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C08-DF85-4E59-BC36-0F2C9768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576-106C-4285-8959-CAB50275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B77-3225-46A5-BD98-4E2E2079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093-2EB4-4870-B517-7EE521B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63A-FAA4-4238-8BB4-2061815D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48F-988B-4BD7-996A-95C7537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6829-C281-490A-95A9-4EB2BAC4502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0 K výšinám, k výši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ýšinám, k výši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ám cestu uká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voj život za nás d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výšinám, vedie Pán ľud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ážny hlas znie tu z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ú časné star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ti večnej radosti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ážny hlas znie tu zas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je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iaľke tam žiari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ý prístav, cesty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vedie Spas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iaľke tam žiari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21:46Z</dcterms:modified>
  <cp:revision>20</cp:revision>
  <dc:subject/>
  <dc:title>Je veľký náš Pán, on slávy je Kráľ Nech do všetkých strán  spev vrúcnych znie chvál.</dc:title>
</cp:coreProperties>
</file>