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E38-AC52-42E9-9B97-EFE6ED03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33B-FB0D-40C2-B40D-0E1FAFDD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7F4-D40E-43C2-BB81-979612DF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ACE-1BE3-4C3A-AEBA-04BB5D50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14E-0E2D-4ED3-B144-26ED5E6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265-5A96-42A6-9C62-FCD9E5C2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E04-EF3C-4685-B5D4-8D8B49A8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E4B-F004-45BC-A4B5-2FD774F8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FF6-DCE8-4588-A111-420206C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01D-B375-4071-A376-CB0830F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B35-F9C0-434E-BFB6-07F722C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CE8-196B-4C13-8D3E-49116E2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5CC-83FD-4261-B14B-332D6593249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5 Kto sa ti, Kriste, vyrovn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sa ti, Kriste, vyrovn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múdrosť tvojej podobn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lovom, skutkom učí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hriešnych voláš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k spáse treba poznať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šetko ty si zjavil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lávy neba si sa vz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 nás človekom sa st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nás si život polož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spásu nám si vy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moc nás láskou obnov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iviesť domov k Otcov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šetkom nám si príklad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v službe iným verne stá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mnohý svedok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 lásky tebe slúžiť chc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nášal utrpenie bô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kríž si niesť mu pomoh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ja chcem tebou dať sa vi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enu tvojmu vzdávať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očisť, prosím, pýchy zba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ojom srdci chrám si sprav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 milosti raz uzrieť smi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slávny domov, krásnu z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11:10Z</dcterms:modified>
  <cp:revision>28</cp:revision>
  <dc:subject/>
  <dc:title>Je veľký náš Pán, on slávy je Kráľ Nech do všetkých strán  spev vrúcnych znie chvál.</dc:title>
</cp:coreProperties>
</file>