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613-0F1C-4F3E-8C91-F7ED39DA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F1BC-8393-4C57-A890-BD16C205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7545-4A7D-48EB-8BCA-A99BC6F2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FC7-07D1-4B79-ADC6-AD53B836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EBE-5E2F-4B08-BFB1-8E0F08B0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972-A6C1-4751-951E-B8496FBC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B59-D285-42AC-9BB7-6F34EC40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220-5FB5-4F20-AD80-49AA7A79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6D1-79F2-47EA-A814-89815513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8F3-CD6E-4AF4-BC08-1E32C8B7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D98-10A7-4DC3-A2D3-C81A0C07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3F9-2F2F-46EE-939A-E9794D1A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7009-60E3-456A-A206-C98DA11A7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7 Príď, Duchu Svät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Duchu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je srdce zm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prav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ou mocne zahor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uč ma slúžiť blížny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av sebect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daj viac pok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hosťom moj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e blízko mň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o mnou bdieť ráč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oji posilňu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trpezliv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čase súž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ôver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voju pomoc upevňu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úzkostí ma môže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aviť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ochýb chmúrny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oreň vytrhnú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a teba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prosbou obraci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počuješ m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sa spoľah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hojné dávaš dary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tvojím sľubom pev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iť chc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podľa mie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ej štedr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vocie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nášať vždy smie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5T11:12:14Z</dcterms:modified>
  <cp:revision>20</cp:revision>
  <dc:subject/>
  <dc:title>Je veľký náš Pán, on slávy je Kráľ Nech do všetkých strán  spev vrúcnych znie chvál.</dc:title>
</cp:coreProperties>
</file>