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E32-8127-4354-B0D6-FF2EE008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FED-5ABF-43D0-A527-14D38C8F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960-B681-49CB-B7CA-5EBD7381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D7A-6826-4807-AFAF-1AB3BE99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3C4-7299-4B98-8820-32626485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3FE-B04C-4A2C-9E07-6288183B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108-D4C2-4265-81E5-1295E518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816-668F-4046-A859-BA4D4451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886-36EA-4095-95C5-FF219282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557-C4AB-4876-8356-B89F21F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E9D-B806-4263-8F43-2E7B1A76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7FC-CAED-43AE-9AD6-CFB3539A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B290-5BDD-4799-8B1F-7C870F58A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4 Chváliť chcem Pá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iesňou vzdať mu česť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e v každej dob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ľud svoj ráči vies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tom chválospev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nachádz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iem, že len v Boh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álu pomoc má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chranca je mô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 sveta spás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dal život svoj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jeho krí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rak viery upiera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a pieseň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ád mu zaspievam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íši bolesť, žiaľ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 nemám dôvod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aby som sa bá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niem sa k nem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ierou oddanou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viem, že len o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je mojou ochranou. :||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iť chcem Pána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úrky zahnať vi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 radosť mení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arosť, trápeni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n to, čo sľúb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ikdy nezmení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||: raz večnou slávou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erných odmení. :||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15:24Z</dcterms:modified>
  <cp:revision>28</cp:revision>
  <dc:subject/>
  <dc:title>Je veľký náš Pán, on slávy je Kráľ Nech do všetkých strán  spev vrúcnych znie chvál.</dc:title>
</cp:coreProperties>
</file>