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1AC-63AD-43FF-96D9-A2B5EFD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F85-9A4E-42CE-94C3-29FA4ABF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199-D817-41A6-81CE-26B32B68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ECC-B861-4E36-9384-FAA5CE3F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900-8E68-4E5B-B680-B97BEE7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EA3-3F64-4E55-83F4-877096F9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CCF-509F-4AB2-94C2-DA5523C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4A0-1892-48EE-BFA8-A451B850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3D9-7F73-48C8-8706-EBD25406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6B4-2781-4FBE-9FDC-DFF1E15A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169-45D6-4185-A9B9-C588092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CD4-A97E-4084-80E1-5E1B632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574E-C74F-4095-9753-405C20319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47 V srdci nádej, 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a v zrak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nádej, túžba v zra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mnej noci sveta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asiteľa na obla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aká viery smelej vzl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om bôli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ej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neho zrak upier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ti cestu tŕním klies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ním í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 nevá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pusť márne sveta túžb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mu veriť neprestaň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 nemu vstúp do vernej služb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zmi smelo Ducha zbra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ho láskou vyzbroj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nad sebou zvíťaz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ilou viery napln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priateľa poraz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er len Pánu Ježiš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ťa verne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ebesiach on domov no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teba už hot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jav mu všetky svoje pri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a svojho každý 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a všetky požeh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emu vrúcnu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u vzda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4:32:53Z</dcterms:modified>
  <cp:revision>22</cp:revision>
  <dc:subject/>
  <dc:title>Je veľký náš Pán, on slávy je Kráľ Nech do všetkých strán  spev vrúcnych znie chvál.</dc:title>
</cp:coreProperties>
</file>