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D4D4-13B3-4DF2-BE0D-675F720F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935C-B717-4987-8936-BDE850A8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CABA-4CCB-4EF8-9EDC-2657D35F1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C125-2438-42D5-8AF7-48D0A4FA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6B76-D3E9-406E-937E-38B4E225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9F06-FF0D-4C62-B70E-0D4D3D68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9D8A-C290-43D3-A135-2C7B2721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2F1C-EB38-4C92-ABCD-01BE03DE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07BA-9188-4D59-B221-78EBF754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04B9-F27B-4AC7-B5B3-E91A3B13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2900-90B8-4277-B567-271A709C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0F88-AF27-4155-BF60-A6DB2F37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A4A4-2252-4186-8D2F-128496B6F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16 Keď viem, že Pán Bo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 mňa rá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Pán vždy o mňa db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spím, či bd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pečne vie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stále o mňa db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o mňa s láskou db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že prísť úzkosť, hrôzy d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nemusím sa bá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premôcť vie aj hrobu ti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nemusím sa bá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Pán vždy o mňa db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spím, či bd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pečne vie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stále o mňa db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o mňa s láskou db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Pán Boh má mňa rá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nemusím sa bá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je môj úkryt, spásy hra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nemusím sa bá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Pán vždy o mňa db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spím, či bd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pečne vie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stále o mňa db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o mňa s láskou db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by mi hrozil nepria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nemusím sa bá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o mnou je môj Spas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nemusím sa bá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Pán vždy o mňa db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spím, či bd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pečne vie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stále o mňa db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o mňa s láskou db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, čo mi treba v každý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nemusím sa bá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čuje mojich prosieb hl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nemusím sa bá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8T08:39:08Z</dcterms:modified>
  <cp:revision>21</cp:revision>
  <dc:subject/>
  <dc:title>Je veľký náš Pán, on slávy je Kráľ Nech do všetkých strán  spev vrúcnych znie chvál.</dc:title>
</cp:coreProperties>
</file>