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FB0-A84E-47B9-B2E5-551651A8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777-D035-45FE-AF5C-7A9D1C0E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819-FDAF-4474-85B9-61426979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836-D507-4923-808B-FE742652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E00-8A8A-46B3-B261-529CD65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195-4907-4A61-8D04-5E34139C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335-5A57-40A6-B4B3-3BE50D6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AFC-781A-46FB-87C5-4487255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43B-AFF8-4B10-8817-A80B48C6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41C-0972-4A1E-8BEA-BB6002E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582-5A95-409C-BD00-48F1A0A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3F7-6072-4006-8118-60B4BE4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1C4-F2EB-4701-8FDF-BEE816A4566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0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chvála tebe patrí len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esť, chvála tebe patrí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a milosť novú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 ľud svoj k sebe voláš zas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by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poču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mel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tvoj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pásn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y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Buď vďaka ti, ó, Presvät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e nám vždy ideš v ústre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oc slávy raja zb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 byť smieme s tebou bla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iež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ielen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oboty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 pozdrav tvojej dobr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aj deň čo deň nech cíti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na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tebe patrím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Timo</cp:lastModifiedBy>
  <dcterms:modified xsi:type="dcterms:W3CDTF">2014-02-15T10:12:10Z</dcterms:modified>
  <cp:revision>24</cp:revision>
  <dc:subject/>
  <dc:title>Je veľký náš Pán, on slávy je Kráľ Nech do všetkých strán  spev vrúcnych znie chvál.</dc:title>
</cp:coreProperties>
</file>