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4D14-0F61-4551-A426-DC759706E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2C42-C386-4A3C-8AF9-39539E5CD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F631-C9BA-4203-842D-8BB5D4908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4B4E-96E2-448A-A886-D0F95F21D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250D-BBCE-4C45-9232-B14BC880B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7740-789E-4E45-A729-EAFFAE0A2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4AC0-A4B7-4262-9EB7-FC288A6EF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187C-5E48-4398-BB23-FCD788E13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7B35-EEFA-4467-8E75-0BB43C4B3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6C93-C85B-4D4D-A1A6-59DBA6A0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B7A2-4959-40CE-89A9-4C5E62C3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C3F7-4B59-4FDB-AA59-D0D45822B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DEDC0-EF59-496D-A016-5D4D1256BA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74 Keby som nem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rahý Pane, teb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by som nem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rahý Pane, teb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v tvoju, v ktorej dal si mi sám seba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de by som našiel hriechov odpusteni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vykúpeni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ez teba srdce nem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koj prav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ty ho môžeš zmeni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lého zbaviť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ty si moje útočište, skal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d všetko stál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Úprimne chváli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ťa večne, P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milosť, ktorá ku mn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kríža va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si ma svojou sväto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vou obmy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ásu mi doby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ám túžbu, Krist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eba nasledova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vďakyplným srdcom oslavova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obeť tvoj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ásku nekonečnú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spásu večnú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14T16:09:04Z</dcterms:modified>
  <cp:revision>20</cp:revision>
  <dc:subject/>
  <dc:title>Je veľký náš Pán, on slávy je Kráľ Nech do všetkých strán  spev vrúcnych znie chvál.</dc:title>
</cp:coreProperties>
</file>