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5E2-A713-404E-8D4C-392AF308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F7D-8D0B-4977-99B0-75A80BCC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E98-7E3F-42EE-80CC-6A56B79C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291-BBFD-4052-B85A-790353C7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84D-F092-4E98-A5DD-056D318C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73F-1ED1-46EF-809D-C57288E8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573-AF2F-4F07-B76F-8AF17CF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019-1A94-4241-BD58-C048DDC4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23E-340F-4159-81DD-87B3F760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9EE-069A-4994-90EE-2FAE2606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061-9D3B-4814-A2EF-6DC48CA4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F58-100B-4DFA-A7DC-563BFF2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7583-0487-458B-A791-74A32AF18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9 Svetom sa rozlie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á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orne sled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znamení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príde už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ejme a čakajme priprav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, ako kázal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om sa rozlie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á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príde už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enie má mu vz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a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oci vráti sa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rodné úkaz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plný zmi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lamne zvestujú ná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i sa rých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nádher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láve príd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i sa čas, Pán príde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znamení jasn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úria sa náro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eje sa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ríde náš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ždy sa rozply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smrti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láve zjaví s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9:50:25Z</dcterms:modified>
  <cp:revision>7</cp:revision>
  <dc:subject/>
  <dc:title>Je veľký náš Pán, on slávy je Kráľ Nech do všetkých strán  spev vrúcnych znie chvál.</dc:title>
</cp:coreProperties>
</file>