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CCF-ACD7-43E5-8A33-5A0A8F40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8F9-9371-4BF5-AA7B-6B0512A3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846-D781-4F58-9648-2A97A50E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97F-8D9D-4DC6-B4FA-72301DC3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7C2-1B63-414B-A421-B32F4320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42E-0DF2-4EEC-9414-194C51B9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954-5F86-4F28-978C-7884FEA1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123-9658-4457-BC88-C1163E3B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9CB-A493-49AF-A755-042369A7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105-590F-4E3D-BA02-1B64E96E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013-151F-40C0-B00F-7E3DFED7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C5A-64F0-4D39-A0A0-12238DCD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D5E7-CEC4-4695-B7FE-E769C9344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39 Vst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e, bratia, sestr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elo bratia sest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lízko je už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rných bude s lásk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ít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pas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staňme, bratia, sest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olá Boží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pred ísť neváh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ristus vedi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ňom je naša nád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íťazstvo i 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adnym klamným sľubom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c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dajme sa z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elo bratia sest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lízko je už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rných bude s lásk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ít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pas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staňme, bratia, sestry, láskyplný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skoro sa v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dmenu dá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aždom čase ties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nám pomôcť 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cier viery a meč Ducha zbraňou našou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elo bratia sest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lízko je už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rných bude s lásk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ít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pas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staňme bratia, sestry, v Božej sile vpred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ristovi je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sa dozvie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láve svojej prí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o Kráľ a 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dostná znieť bude pies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 všetkých sveta strán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3:57:26Z</dcterms:modified>
  <cp:revision>22</cp:revision>
  <dc:subject/>
  <dc:title>Je veľký náš Pán, on slávy je Kráľ Nech do všetkých strán  spev vrúcnych znie chvál.</dc:title>
</cp:coreProperties>
</file>