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15F2-7E5A-48F8-A8AC-DF5177A72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BEA9-B577-41AE-B878-91ABA68D5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127C-AA57-435C-A7C5-FC496C97D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3B83-BBC1-4BD6-B175-7D511E82F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FA53-0B9F-4B4D-8A7B-67FE1F780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EDDA-38BB-431C-BF98-2F9A04D4C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0FBE-C466-42A0-BAB8-85F7D1EF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A4D0-37E5-476A-97F1-7B015074C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D6B9-A14F-4435-BEB9-2B245C15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39E6-7127-4213-8771-334F0F30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7EF1-4552-4015-A250-7D1DDDA5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22ED-E6E6-4CC7-9267-9466E08D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9FB8B-72A9-4218-A329-856F2052EABF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07 Sobotný deň sa lúči z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obotný deň sa lúči zas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ktorom nás Pánov lásky hlas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 živých vôd viedol prameňo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vojich slov chlebom sýtil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ňom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omu, čo nám dal tento dar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inesme obeť na oltár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siedmich dňoch týždňa nového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váľme ho, žime pre neh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n vzácny sľub nám zanechal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e pre nás príde ako Kráľ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sobotný deň navždy s ním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udeme sláviť s nadšením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3T13:54:43Z</dcterms:modified>
  <cp:revision>11</cp:revision>
  <dc:subject/>
  <dc:title>Je veľký náš Pán, on slávy je Kráľ Nech do všetkých strán  spev vrúcnych znie chvál.</dc:title>
</cp:coreProperties>
</file>