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06B6-EC70-4AF5-9560-55695E38A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9246-9C22-48EF-BBCC-977672ED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2BDD-0C9E-4F67-A4CE-1FB345D43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581E-723E-4E7A-B9D3-3CCBE51AB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C394-A9D7-4BB2-BCD4-40D5CE97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D824-0733-4EAB-97CF-D8974122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EFD1-6A92-4603-8EE6-D0E5EC77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4240-65F9-4194-ADAB-49816885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D496-D672-4506-BF6D-FB6E0D97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C3BE-A3A2-48F0-BFA2-DB5A11BD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093F-F79C-46CE-B262-5B1B8997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E6A2-139E-44EF-A2DA-7F1B7909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E582-A7BF-4961-A636-BCD3733B8622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72 Šťastie je tam, kde býva Pá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Šťastie je tam, kde býva Pán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de Boží vládne duch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am každý vie, že nie je s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iluje druha dru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Šťastný do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v ktorom piesní tón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duše vlieva j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 obeťou chvál pred Boží trón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znáša sa prosieb hl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Šťastný do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v ktorom zazvoní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vinný detský smiech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de láska vie nájsť na ran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ždy utišujúci lie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sám nás, Pane, posilu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koja dopraj č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odinný kruh náš posväcu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ži aj vládni v nás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08:12:25Z</dcterms:modified>
  <cp:revision>73</cp:revision>
  <dc:subject/>
  <dc:title>Je veľký náš Pán, on slávy je Kráľ Nech do všetkých strán  spev vrúcnych znie chvál.</dc:title>
</cp:coreProperties>
</file>