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C93-B719-49DF-99E3-E5CC315B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886-B7D6-43E5-AAE9-E570DEFE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736-B1B2-4532-BD96-46671916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C6B-1673-4FC0-AF8C-E3A856AD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6FC-623F-4002-A2B7-1FB02901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CA7-FA8A-47D5-AFA1-11F5EF63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299-D306-472B-AC27-FEDD2875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D04-4E3E-451D-A4F4-B208E155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F14-1FA0-43F1-BE91-550BBA38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593-E186-43BC-9D60-7B8C86BC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8F2-B1A0-4547-90D4-B0FEED3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8D6-EA4A-41AC-BF80-279BE27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C46C-CE5D-49F7-862C-6BDD74487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5 Pán Ježiš je mi drah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mi drah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o vzácnejš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jeho verná láska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oklad najväčš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nechcem ďalej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lúdiť svetom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 živote mi všetk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sť môžu skúšky ťažk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nie som bezrad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oti všetkým nástrah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j zviedol víťaz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preto s ním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jeho rady dbá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 živote mi všetk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bremä žitia ťa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radosť veľk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 všetkým sa mu zveruj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naň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 čas, dary, schop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lužieb jemu dá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je v živote mi všetk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ilovať ma učí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príklad svoj nám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neba slávy vz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k sebe volá hriešnik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veta strán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je v živote mi všetk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drahý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2:09:57Z</dcterms:modified>
  <cp:revision>22</cp:revision>
  <dc:subject/>
  <dc:title>Je veľký náš Pán, on slávy je Kráľ Nech do všetkých strán  spev vrúcnych znie chvál.</dc:title>
</cp:coreProperties>
</file>