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DFA-D3C3-4652-82F9-26D474A8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271-CBBF-4859-8290-64B419E4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AA4-D0F3-4197-965E-897DB88C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E10-07FB-47AB-8AE8-12F3C591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DC1-32C2-4BA2-884D-A6150DDC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CEE-1217-4064-85F4-31488940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B18-DA3B-45AF-A20A-24F7E119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217-9CB6-48C9-B170-AFB598E7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56A-DF8C-4F03-8F28-AE47ACC8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D4C-FCCC-4BB9-AF92-5586A90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77C-B5D8-47DC-8332-BEA03FF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9B1-B49D-4A46-AD65-123E56A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8BA-AF6F-4CF6-A96A-3ECF99663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76 Úsvit sa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aro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vit sa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zla sa k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niec bude tm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láve Ot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a sa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na zem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môže každ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poznať mnoh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znam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krátkom ča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y sa napl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vznešený Kráľ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seba hriech náš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íde, aby nový r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vihnite hla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ám tak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tešuj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preň kto s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ynah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plní sa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39:31Z</dcterms:created>
  <dc:creator>MD</dc:creator>
  <dc:description/>
  <dc:language>en-US</dc:language>
  <cp:lastModifiedBy>MD</cp:lastModifiedBy>
  <dcterms:modified xsi:type="dcterms:W3CDTF">2000-12-12T18:47:57Z</dcterms:modified>
  <cp:revision>7</cp:revision>
  <dc:subject/>
  <dc:title>Bez nadpisu</dc:title>
</cp:coreProperties>
</file>