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F0E-840C-4D7A-89A5-4694E540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68D-6B2A-4D0D-A150-B29E33D2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55D-C0FF-4F20-BD3A-D32CFE14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93F-6F24-458A-A273-EC199635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AF7-8F35-4AAD-AF0F-A441E4AA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7A8-2796-4720-B301-02BFD9DF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BF3-EB43-4E6C-817A-374D5FD5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6714-C4D2-4302-89E6-D24E585B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A9A-DD67-4D6A-ACDB-E7E482CB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A20-AF5A-4A7F-91A2-C6493015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469-074A-4F5E-BE17-B6E5F465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595-FE4B-4442-AD3D-27E75E6E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6BF6-7F55-4806-98E4-F8E0B932B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6 Zrak viery upier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ak viery upier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, kde ty, slávy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dokon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hanbu vín si zmy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lh môj zaplat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úk trestu pozbav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 život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so mnou, Pane,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spásy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vojím by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ma vyhľad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eba za mňa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 som raz právo m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več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cestou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esni ma mrák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rmúti žia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zy mi zotier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íl slabej viere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ieť večný domov pr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án a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mi aj smrti mrak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navždy zastrieť zra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dúfať sm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i môj Stvor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mocný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Tešit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viac mať chcem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09:33:30Z</dcterms:modified>
  <cp:revision>20</cp:revision>
  <dc:subject/>
  <dc:title>Je veľký náš Pán, on slávy je Kráľ Nech do všetkých strán  spev vrúcnych znie chvál.</dc:title>
</cp:coreProperties>
</file>