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62E-E600-471C-A0D5-1FCB6F81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67F-0B11-42B2-A92A-C0D7A0F8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780-DD7D-4BFA-93A4-A7090EE6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AA0-EFAB-4678-863F-60C4AF1A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C68-8DD0-45AE-8B31-80AAA12E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B0C-B7FC-4CCB-9F40-47B71D23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647-C2BD-468D-93A6-6B61CC00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97D-2F21-4BFD-86C1-BD9D6E01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C24-C2EA-4650-B269-EE0E66D8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22E-8CD9-4BB0-8DB3-54128857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E22-CE87-4205-8167-BF15226F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633-F7DC-46C3-A835-D54A792F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7A0A-DDCD-4844-B216-160F9AE03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0 Ja viem, že Spasi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ži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že Spasiteľ môj ži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bývať budem večne ra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príde smr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hrob ma skry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uzriem slávu rajsk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ých búrkach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potešuje istot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íde, sľub svoj nez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ou verných od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život Ježišovi 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 mňa krvou zaplati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neho pomoc očak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á mi k víťazstvu dosť s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ých búrkach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potešuje istot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íde, sľub svoj nez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ou verných odm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iem, Pán Ježiš príde za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znamenia to hlás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tých sa zjaví v plnej krás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naňho verne čak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šetkých búrkach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potešuje istota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íde, sľub svoj nez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ávou verných odmen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09:45:20Z</dcterms:modified>
  <cp:revision>20</cp:revision>
  <dc:subject/>
  <dc:title>Je veľký náš Pán, on slávy je Kráľ Nech do všetkých strán  spev vrúcnych znie chvál.</dc:title>
</cp:coreProperties>
</file>