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81B-B4C8-410F-AF84-C6248755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F8D-8F13-4A6C-89F9-0D5C308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8D5-6B03-432D-9A79-86B04623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627-6690-4E1B-90E3-9D4FF67E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E50-2043-4CFA-9583-08A9F7AC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E7E-3308-45A2-8F57-D97AAAEF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892-595E-4308-B7F2-7A43E3B8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5C6-92CD-4126-BD59-D242CDDA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C16-493B-4D55-8BC9-257DEAB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C17-EDDD-4B67-A2EB-15E10428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767-590A-40FC-85C0-87E9F40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B90-1A91-4DF6-91DB-79A1B81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61A9-44DD-483C-A21E-AFDF9AF3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1 Krásnu vl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ystá nám Spasiteľ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ásnu vlasť pre svoj ľud chyst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mov pre spasených z milost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iaľu tam nebude, ani 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mútku, sĺz, smrt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ch úzkostí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ystá nám Spasiteľ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hriešnom a slzavom úd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rozí smrť žalostný zánik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ľub tvoj však, Pa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náš, dovol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ásy breh z d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k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útn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dhernú, krásnu vla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ystá nám Spasiteľ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ade nech znie tá zvesť radostná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ich si príde vzi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ávy Pá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končí sa naša púť bolest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íbytok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úbe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ari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5:48:01Z</dcterms:modified>
  <cp:revision>22</cp:revision>
  <dc:subject/>
  <dc:title>Je veľký náš Pán, on slávy je Kráľ Nech do všetkých strán  spev vrúcnych znie chvál.</dc:title>
</cp:coreProperties>
</file>