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D2E-7B38-4B8D-904C-5445289D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A4A-A189-4996-AFD4-53CD907B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52F-58CA-470C-B08A-C5C7952C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105-6C97-412C-B90C-15B98B41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87B-0125-4317-9E8C-C537FF1B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E18-5B59-4CC2-9CCB-F1E5D351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381-D8DF-410C-9CE8-51432A35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CFD-F4C3-4170-9AD5-475C83B5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2B2-5959-47DD-81C8-3B78ED67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F39-1678-4241-A515-3CAF44A3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48B-4A5D-49F8-90D8-3AD28E6D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3F9-78A3-4BF1-A1ED-7D35253D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8CA9-C3F6-45A8-9816-8F4178B74FD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4 Zas pominul sa noci tie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 pominul sa noci tie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z milosti mi svitol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 velebím ťa, Bože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život, silu, pokoj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ňom každým nové žehna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teba duša dost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zmývaš hanbu mojich ví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ktoré trpel Boží Sy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v mysli mojej zrána hneď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sť o tej tvojej láske znie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ary Ducha zúroč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voju moc sa spolieh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dnes ma svojím Duchom veď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nezvedie ma hriešny svet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m v boji viery zotr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íťazne ho dokona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7:01:26Z</dcterms:modified>
  <cp:revision>66</cp:revision>
  <dc:subject/>
  <dc:title>Je veľký náš Pán, on slávy je Kráľ Nech do všetkých strán  spev vrúcnych znie chvál.</dc:title>
</cp:coreProperties>
</file>