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C9A-A044-4E37-BBD3-AB8E4DF0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AD5-B34D-4664-BC9F-BA220D3B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A1F-521A-47B0-91A3-2A043461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B34-5690-4CF4-89C2-4E5861B5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A4E-19B9-4154-B28E-FC282B51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69F-E8A9-4208-999B-C3FFAC70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298-8AC2-4C4E-ABAB-6E507325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048-7C3C-42BF-9C88-9421E74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6B6-04BB-4E85-B8E2-0800B80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2DD-C371-4F2B-92CE-6C7075CD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75D-A4C4-4F1F-9654-6C136CA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B58-BB02-44E8-A896-3B6C518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3E85-F58D-4F59-AC80-B78732944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7 Hoc zármutok trápi 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spásy štít, môj spásy ští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istota stála, ty spásy si ští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zármutok trápi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viera bô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na dušu stiesnenú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eň doľaho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 úbohý, biedn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ím chcem b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záchrancu v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ôj spásy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spásy štít, môj spásy ští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istota stála, ty spásy si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 závetrí vľúdn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v prívale vô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trápení nájsť nev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porný b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plava hrôz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chce pohlt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záchrancu v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ôj spásy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spásy štít, môj spásy ští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istota stála, ty spásy si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úzkostiach nevidí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y sme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tmách pochýb stráca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rdca mi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úfalstva smútok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vládzem skr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ám záchrancu v teb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môj spásy ští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10:26:20Z</dcterms:modified>
  <cp:revision>21</cp:revision>
  <dc:subject/>
  <dc:title>Je veľký náš Pán, on slávy je Kráľ Nech do všetkých strán  spev vrúcnych znie chvál.</dc:title>
</cp:coreProperties>
</file>