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1C7-625E-4657-A078-2E0B37C2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DB7-E184-4121-A4F6-4820A0BD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9CD-B902-4AFB-85A2-CA31CA30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218-4559-4851-A211-FD382865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F6D-AFC3-415F-A866-144C0F88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4C6-CC74-436D-8AC3-75D213A4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B9E-01AF-4A8E-AB99-B1AF543B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212-F671-4149-A278-6BF04C42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B51-07BA-4841-89CE-42AC15B1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D54-D11C-446F-8B14-406BEA88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FDE-101A-45BD-AA48-ABAD53D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993-FF21-4E5B-A073-49DC170D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D64-7A73-4AC9-9B87-C8C2E088B1E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4 Pane náš, ty bdieš nad na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 náš, ty bdieš nad n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žehnávaš hojne ná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chraňuj aj naše de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buď s nimi v každý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stou žitia veď ich stál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náš vrúcny prosby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me, že si s láskou deť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u náruč otvár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osbu máme, aby si ná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ru a múdrosť d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še deti vychová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česť tvoju, slávy Krá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23:50Z</dcterms:modified>
  <cp:revision>75</cp:revision>
  <dc:subject/>
  <dc:title>Je veľký náš Pán, on slávy je Kráľ Nech do všetkých strán  spev vrúcnych znie chvál.</dc:title>
</cp:coreProperties>
</file>