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146-FDF4-490E-B957-FB35982C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7FF-D206-4A93-BBAC-F51F389B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F11-FD1A-45D7-9003-474423CA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2AC-B114-4B2D-B612-D5C19BA0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AF1-BA44-4852-8C8E-307FD4AE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C76-AC0E-4640-AFE0-3E53A43F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917-4492-4E33-85DC-C2AF09C6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320-60C9-40E5-AC3F-CA51AD3D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93A-6249-400B-B187-8F565213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0ED-23D4-4AF7-BA48-2E83A49A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C4A-7E9A-47F9-A34F-36AA7879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791-74D8-4931-A331-EFBEF289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F8A6-6429-45DB-A8DB-5712F918F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1 Mňa odzbroj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odzbroj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vojím väzňo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iba vtedy, keď som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svätý život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náruč tvoju m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svoje väz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ej lásku tvoju okúš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m vrúcne že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rdca môjho vstúp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láskou spútaj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porou mi pevnou b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nikdy nekl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tvoje bremä ni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ať jarmo tvoje rád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ále žiť na tvoju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 hájiť Majestá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eba poslúch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, drahý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ráč mi na to silu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tále pri mne st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svojej vôli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moju podriad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ty aj istú prehru vi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výhru obrát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20:46:41Z</dcterms:modified>
  <cp:revision>20</cp:revision>
  <dc:subject/>
  <dc:title>Je veľký náš Pán, on slávy je Kráľ Nech do všetkých strán  spev vrúcnych znie chvál.</dc:title>
</cp:coreProperties>
</file>