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DBD-20A0-414F-ACC2-31440A23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15A-0498-4736-92AC-B32CC85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890-C1C0-4AFD-9AF9-673B3C0F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16E-19A6-43BB-817B-D28C167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DF9-15B6-45DE-A966-0EB956CD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4D6-7DAB-41D7-9D55-53CA669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E7F-112C-4113-B429-968426A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8AF-8894-44B8-B4B1-45859ECE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D45-B0F6-4067-9E99-EE6D4457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154-B337-493C-BD73-A4BA838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02B-B372-4911-89DE-0AFD4C6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0D5-67C1-489C-974C-DCBFFE4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4D4-5481-41ED-B956-D8A391F9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1 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svet raz pomi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ž sa svet raz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je verný, nezh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ich chceš si, Pane,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ú vlasť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dar spásy oc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red trónom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čistom rúchu svät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ažená zrieť budem môc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u slávu, veleb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ar spásy ocen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ed tebou budem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árou v tvár ťa pozná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ňou chvály česť ti vz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ôj,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P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am všetko pochop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ar spásy ocení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5:37Z</dcterms:modified>
  <cp:revision>22</cp:revision>
  <dc:subject/>
  <dc:title>Je veľký náš Pán, on slávy je Kráľ Nech do všetkých strán  spev vrúcnych znie chvál.</dc:title>
</cp:coreProperties>
</file>