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F4A5-3735-4DE1-81BB-527780CF6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EEC8-C206-45A3-B5CE-A786E3D2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D919-5BBC-4489-805D-10F5610FB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1ED3-71F0-4931-8D0F-EEE8EF142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C740-AC25-46B6-B095-04620868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28A6-95F7-4E0F-81CF-BFC24FD9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F63F-6608-4707-9ED4-1A455F5B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EA6E-C010-41A1-A6FD-B2DC32D0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5F69-C388-40E6-A195-7626B3C0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4869-C7AA-4124-91FD-227416E7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56B3-EBB6-47FC-8A5C-1E37C612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90AC-52E0-4A06-A345-9F2F3B43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112C-5EF8-438F-B4CB-242838726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58 Aká to krás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ká to láska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torá pripravil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íbytky slávy pre ná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nebesiac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o žiadna myse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ľudská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vysni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de bô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u nie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 nevládne 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trach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en kráčaj napre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Božej sile stál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istote vier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hľaď vždy na svoj cieľ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vyplní náš Pán sľuby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dokonale,</a:t>
            </a:r>
            <a:br>
              <a:rPr sz="47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láskavý Priat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erný Spasit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ká to krás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o skončenom boj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bavený útrap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ojsť do slávy brá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pustiť hriešnu z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náš Pán spoj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í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zné šíky verných z všetkých strán!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dôjdeme raz z mil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o cieľ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otrieme z čel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ot a cesty pra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pozdravíme svojho Spasiteľ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slavnou pie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ky na perá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ká to sl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ám keď nebies Vládc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raz postaví si po pravici ná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povie: Poďt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dome môjho Otc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rá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vstvo slávy 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káva v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ie oči svitom lás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žiariť bud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o pre svet v žiali slzy ronili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uzrieme stopy tých r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o nás súd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 trestu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ej smrti zbavil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5:31:13Z</dcterms:modified>
  <cp:revision>22</cp:revision>
  <dc:subject/>
  <dc:title>Je veľký náš Pán, on slávy je Kráľ Nech do všetkých strán  spev vrúcnych znie chvál.</dc:title>
</cp:coreProperties>
</file>