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D9D-9088-4DE2-A9AE-35879D51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FDB-C165-4353-AB1D-85CFB2ED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2BC-D29E-470A-88AC-338341E2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3AB-EFDD-4CC4-8BC2-3856AEF3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8C0-5F30-4155-A6F4-082DB35E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7DA-6743-4BC8-8EC3-5E563950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FDA-4750-4D13-A61B-4C27468A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36F-6871-4F21-AE1B-83C53E7E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7FD-113C-4E92-B9C4-AE0CC16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8CE-103F-49A4-885E-E42B69F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7DD-F71A-4708-97D8-5FAF008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50D-B2A7-4ECF-9CD1-56B41E49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6D74-9AFC-41AD-8DE1-54B2F1750FC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1 Keď za obzor sa stráca d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 teba v hmlách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stráca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zmysel života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si Pane, poklad mô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iery istot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ty sám si Pane, poklad mô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iery istot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a obzor sa strác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vládu preber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príroda sa vôkol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k spánku uber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nášho domu, Pane vstúp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hosťom vítaným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každej noci nám vždy sv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chráň pred všetkým zlý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každej noci nám vždy sv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chráň pred všetkým zl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zvoľna deň sa strác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má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znova ďakuje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 každou túžbou, bolesť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ebe zveriť sm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každým šípom ohniv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chráni tvoja dla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s každou túžbou, bolesť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ebe zveriť sm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každým šípom ohnivý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ňa chráni tvoja dlaň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Pane, preto prosím, 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ôľa tvoja sta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Pane, preto prosím, vžd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vôľa tvoja sta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už sa kráti žitia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iac ma môže hri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ž v lásky tvojom náruč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ť tíško spočí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16:21Z</dcterms:modified>
  <cp:revision>55</cp:revision>
  <dc:subject/>
  <dc:title>Je veľký náš Pán, on slávy je Kráľ Nech do všetkých strán  spev vrúcnych znie chvál.</dc:title>
</cp:coreProperties>
</file>