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3732-3BB3-4F0A-AD89-E16709B3F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00D7-B877-4F03-8522-13DA8C0B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A8B3-282C-4A66-A6EC-DD1141EC3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6FE1-9714-4797-B986-41AA70B2F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FFB0-4E3A-4E7E-8F64-84607308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07D7-B929-498E-9E61-70491D50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79E3-71CB-4FD9-848B-B555EE50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12F4-4F44-45C3-8F24-C24D8E2E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C17F-A3BE-4131-BE5F-3F570D11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3E2C-3CCD-4A2C-8758-C90DAA95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E503-F309-4066-B81E-648F952E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EB3C-8041-499F-9C2E-DE1DE4B6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365B-B790-4F4A-9595-F86CB4D69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48 Ty, jasné Svetlo, svieť mi noci tm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, jasné Svetlo, svieť mi noci tmou a krok môj ve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s tebou pôjdem cestou bezpečnou až k cieľu vpred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dosiaľ skrýva tma breh otčin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ne stačí vidieť na krok jedin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e vždy som rád šiel, Pane, za tebou a dal sa vi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ábil ma svet a klamnou vidinou dal som za zv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n osteň miatol rozu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ôľu, ci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ým neuzrel s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ho svetla sv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 tvoja láska krok môj požehná a vedie vpred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ceste číha priepasť bezodná, úskalie bie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deje lúč však žiari v ústret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mojím svetlom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len ty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8T13:02:28Z</dcterms:modified>
  <cp:revision>20</cp:revision>
  <dc:subject/>
  <dc:title>Je veľký náš Pán, on slávy je Kráľ Nech do všetkých strán  spev vrúcnych znie chvál.</dc:title>
</cp:coreProperties>
</file>