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32E-0124-42DC-B80A-3A383D7E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33E-27D5-4095-A3C6-91AA511A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24D-8EBD-4E0A-93DE-267CC624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5EC-0535-4759-81D8-2DAAA4DC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037-882E-4576-94DF-BEAD047A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881-AA3B-4A3B-89E6-DEC1CE4F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6E3-EA7C-4AD1-8461-04498037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09D-DF54-4971-A0CE-1D7ADA1B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63B-1170-4C43-A8E9-8AC75B3D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260-2E98-48EF-8A0B-21FF6891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B59-FD6C-40CF-A243-BFDBEFE7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ED9-1398-4D0D-A785-0B5CE385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3D3D-456F-45A0-8102-AF37FA9F2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0 Zo srdca hĺbky, 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srdca hĺbky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spievam chvály žal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tvoje požehn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denne prijím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Ó, Bože, Kráľu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s piesňou plnou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vzniesť až nad obla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ld zložiť pred trón tvo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Pane, si ma z lás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ždy verne sprevád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žitia kríž môj ťažk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niesť mi pomáh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m, že môj čuješ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š zbaviť hriechu, vi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, Bože trojjedi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š duši mier a j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v tebe, Pane, pram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droj života vždy zrie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lásky tvojej plam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a očistí, to vi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k víťazstvu ma vpre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srdce verné, smel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tebe patrí celé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môjho žitia stred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45:50Z</dcterms:modified>
  <cp:revision>14</cp:revision>
  <dc:subject/>
  <dc:title>Je veľký náš Pán, on slávy je Kráľ Nech do všetkých strán  spev vrúcnych znie chvál.</dc:title>
</cp:coreProperties>
</file>