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88E3-AF3E-494C-A4E4-D2519C43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02B-142B-4AE2-AE0D-18A045F6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B06-B714-4CEC-B5E9-B514DF5B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9569-2A3A-49C1-A48B-E0ABA1C6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CC9D-C011-4854-8B18-ADE88746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C6AC-DE1F-454E-B245-B6D75425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56AC-E005-4BB9-9BF7-C9DC73F0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D8F2-EC90-4201-9DE5-53B3E08C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C857-4BBC-4A95-B530-CB673568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117E-B33C-46AF-A16D-A81532D6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1AA6-BE2F-4D3B-A76D-116B8030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E780-4185-4A17-AF15-CDC9BB70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4A2E-1BA4-452F-9559-D7938ACEA88C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14 Chcem teba, Pane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teba, Pane mô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ac milo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rúcnejšej lásky dar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ráč mi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duše studenej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šenie, radosť vle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ám ju rozohrej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j lásky via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 hriešnych radostiach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úžieval s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nes už len tvojím by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dieťať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ôž mi víťaz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tvoju chválu ž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čne ťa velebiť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j lásky via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prídu starosti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rápenie, žia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sa vždy spokoj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tým, čo si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vieru pevnú m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tebe sa utiek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 som mnou, Pane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j lásky viac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3T19:09:41Z</dcterms:modified>
  <cp:revision>17</cp:revision>
  <dc:subject/>
  <dc:title>Je veľký náš Pán, on slávy je Kráľ Nech do všetkých strán  spev vrúcnych znie chvál.</dc:title>
</cp:coreProperties>
</file>