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30C0-99FC-4E3B-82F2-6A1FD7D1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FD96-240C-4D69-823A-283ED659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A76-397E-42AA-A2BD-B6DC5F4C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B2F-59CB-4276-A80E-2D566B2D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102C-5668-48D3-A4B2-5BC4B632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927-C937-4045-AD5D-DC0FD474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CC7-707C-423A-8527-74373F2B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986-8715-439D-9EDE-6F1495DD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4BF-1FAE-4B35-8802-D46A4028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9EA-FA83-460A-8712-7F5D02D9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6D7-8674-41B6-831B-1CDCE0E9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A13-1E31-4709-BFCE-8913C9C6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AFB3-0E9C-4315-9778-FC20D91B3EC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06 Deň ku koncu sa chýl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ku koncu sa chý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nočná tíš vo chví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krajom rozhost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Pane, prijmi chvál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za lásku, priazeň stál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hojnosť tvojej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deň odpočinku tvojh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 chlebom Slova svojh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hojne sýtil ná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stále Duch tvoj nie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nás túžbu ľuďom sviet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ravdy tvojej šíriť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iaď naše kroky, plán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rž stálu stráž nad nam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 práci úspech daj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nám svit tvojej tvár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na cestu svieti stál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cieľa šťastne dôjsť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m praj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6-11-23T17:33:12Z</dcterms:modified>
  <cp:revision>11</cp:revision>
  <dc:subject/>
  <dc:title>Je veľký náš Pán, on slávy je Kráľ Nech do všetkých strán  spev vrúcnych znie chvál.</dc:title>
</cp:coreProperties>
</file>