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7D05-9E57-4A4A-93E0-599194446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660E-96B5-4C5A-B0CA-AD6E1671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A13F-B026-415C-A283-86F7892B8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6917-B5A2-467B-AD9E-64A714CB9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5866-6C14-4C82-A5EE-CA081884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CE8F-F354-449B-93A9-AC49C368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9A18-5CD7-4BA1-AC0C-A592210C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0F3F-E3CE-45B4-9F3B-9609802D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7B80-CCFC-4CA9-8CA8-402755C5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6829-77D1-4C2B-9D58-95A667D9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6ADC-1977-46A3-BB12-15161245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294A-09B3-406D-8C31-16FF2351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F98A-59C8-4398-88C5-B2BCF82D3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40 Svoje stádo vedieš, Pan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Svoje stádo vedieš, Pan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k pastvám sviežim, zelený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Slovo tvoje nepresta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posilou byť zomdleným.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vce svoje z tejto ze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ocným chrániš ramen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úšťou sveta vedieš ver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 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ej spásy pram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m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oho, Pane, ak nie teb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lávi našej vďaky žal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eď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i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s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išiel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 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b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a nás trpel, umieral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Radostne znie naša pies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keď nás vedie Spasite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zaženie strach, smútok, ties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e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ej slávy kynie cie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ane, drahé Slovo tvoj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vetlom je a pokrm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sile tvojej všetky boj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avŕšime víťazstvom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Už sa blíži čas ten blah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sa skončí naša pú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m u Otca, v dome sláv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budeme môc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p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nú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8T04:03:00Z</dcterms:modified>
  <cp:revision>22</cp:revision>
  <dc:subject/>
  <dc:title>Je veľký náš Pán, on slávy je Kráľ Nech do všetkých strán  spev vrúcnych znie chvál.</dc:title>
</cp:coreProperties>
</file>