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E53-E398-4D5A-94DC-89D9D0D8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0AC-624C-47E2-9BC4-900A3526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51D-4C42-446E-89A8-9F569EF6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5E98-3E0D-4CAC-961D-DABA3827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23D-B95D-43D3-8B1C-A99969B1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BAD-FBFF-4E80-A272-ACF5B649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409-AD14-498C-B2C5-E63520D1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F1E-8D04-4DED-A348-A1B3D640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F39-F7E1-4CE3-9B8E-50AD8B3F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FA3-4B84-4B2D-9952-D707B6CB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5E4-3038-46F2-B702-26590455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CFB-BA50-4D4D-AD33-ECE991BA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C6A0-086A-439F-83B2-20A4EF878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2 Ty jediný všemoc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Boh si n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y jediný všemoc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Boh si ná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o svetlom a sláv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a priodieva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Stvoriteľ sveto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život si d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dať v pokore chceme 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bete chvá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i prediv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múdrosti nedostiž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vševládny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láske vždy spravodlivý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 základ v nej len má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večný tvoj trón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hriešnik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kríža znie milosti tó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ž dosiaľ tu prevlád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mrti moc zl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vor každý len krát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s života má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y klíčime, kvitnem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ak steblá tráv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ty sám sa nemeníš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smíru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nes v odvahe vier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a chceme sa vzni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anjeli v úct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i vzdávajú č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iež smieme raz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snosťou nespúta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 teba sa postaviť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menení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12:26Z</dcterms:modified>
  <cp:revision>26</cp:revision>
  <dc:subject/>
  <dc:title>Je veľký náš Pán, on slávy je Kráľ Nech do všetkých strán  spev vrúcnych znie chvál.</dc:title>
</cp:coreProperties>
</file>