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09F9-EF3B-49CE-9B8C-AC3A7E7D5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AE5B-4948-4D22-B2F3-ACA74DBC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4CE7-AE17-4501-8141-F7DBA5B27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BA4D-406E-4F4D-B797-42979DF91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A061-2296-412A-8540-2793F3E6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A54F-8DEE-416C-8DB7-81133A5D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D48C-3C1C-480A-B044-419CE94C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DB46-1150-4F00-B2F9-D8913068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4405-666A-412A-A719-1D2C8082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78E8-E068-4557-BD0D-05ABC27C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E6A7-14D9-4E52-B528-1B925323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D25A-4F81-4DC6-B19E-0B9A37B8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42E7-AF93-42C1-BC2C-68A2EF127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41 Chcem vždy Pán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slavova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z sa všetko pomi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ia láska nikdy ni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vždy Pána oslavo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mu spievať piesne chvá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mu Bohu vďaku vzdá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mi v Kristu všetko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veľká milosť je t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ma všade sprevádz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ňho pomoc nachádzam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nikom inom spásy niet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z sa všetko pomi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ia láska nikdy 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ko orlica si skrý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d krídlami mláďat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ia ruka milostiv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o mnou je rozpät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ma stráži svojím ok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ruku ma vedie vpre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ez prekážky, príval bie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lu dáva mojim krok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z sa všetko pomi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ia láska nikdy 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ušetril svojho Sy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l ho na smrť kvôli m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hladená je moja vi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je moje spas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, že nikdy nedocen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lásku nesmiernu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lasť mi chystá nádhernú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svete sa všetko m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0:08:39Z</dcterms:modified>
  <cp:revision>29</cp:revision>
  <dc:subject/>
  <dc:title>Je veľký náš Pán, on slávy je Kráľ Nech do všetkých strán  spev vrúcnych znie chvál.</dc:title>
</cp:coreProperties>
</file>