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CDB-A2A8-453E-9EF9-3F40F16E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9E7-8879-4328-8C15-6349AF0A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EB0-AEBE-4BE4-AF6F-93636EF1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FFF-FCDC-4396-9B54-6426F29F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F57-DEFF-4728-8DFC-72260AF7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4CC-B4B2-4AD7-97E1-5EEDAFC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AF2-6705-448B-ABAF-B5280C8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3B8-E3CE-4E6C-A46B-CF01854F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40E-D575-4EBD-8E8A-426A8F73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0B7-B6D6-48F8-82EB-560084A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D3C-97E5-44CB-BA18-613CB383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B0E-6F0A-4017-AC17-F4401E6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E153-5F37-48D1-9F5C-0E21D150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6 K tebe, Pane, utieka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tebe, Pane, utieka sa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dlitbou tvoj ľu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láske svojej vypočuj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ilostivý b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íde v prav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oho by sme mali v sve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oho na nebi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tebe letia prosby naš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hlas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velebí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íde v prav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erou zrak náš k tebe hľ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trónu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žehnanie očakáva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 tvojej štedr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poč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rúcnych prosieb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od teba pomoc i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íde v prav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06:30Z</dcterms:modified>
  <cp:revision>22</cp:revision>
  <dc:subject/>
  <dc:title>Je veľký náš Pán, on slávy je Kráľ Nech do všetkých strán  spev vrúcnych znie chvál.</dc:title>
</cp:coreProperties>
</file>