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017-85A9-4C94-91DD-86F82B5E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AAD-D0F1-42CF-B84D-57B27868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8EE-7133-44F9-B94B-B8501634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C17-8E3E-4C46-A963-F11EC73B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FBB-0E70-49F3-B51E-5D3D0D33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8AC-FF4D-41AF-A1F4-97E41516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015-8102-4AB9-AF9A-5D46D571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91B-D2F8-44BA-9C4E-ED6CD7CC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F00-A4D6-4A4D-89E9-9C989947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B8E-E99F-4E2B-A6B3-1EA249A0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87E-2BE6-474A-9741-83489EF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ACD-2545-4B63-8BE8-C773585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689-DBED-427D-9798-B6044BAB9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8 Z vesmírnej sláv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iel j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esmírnej slávy svetiel j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ri nám v ústre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pozdrav lásky Tvorcu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jeho dobr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chvatný priestor nad zem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Božiu zvest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tvorstvom svojou veleb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vetov kraľ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dolia, stráne, horstiev p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všetko zjavuje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ž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vorca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priek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riechu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ás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tento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voju lásku vyspie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abý je hlas i c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obeť chvály požehn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chce ťa veleb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02:35Z</dcterms:modified>
  <cp:revision>29</cp:revision>
  <dc:subject/>
  <dc:title>Je veľký náš Pán, on slávy je Kráľ Nech do všetkých strán  spev vrúcnych znie chvál.</dc:title>
</cp:coreProperties>
</file>