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F9A-8F5D-4B4F-B6CB-EAEEF77B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6A-C796-4648-A691-125BA683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586-9BD0-4624-8630-78F185E6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6F4-B279-4E1B-B401-FC69D83D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2AF-35C4-47A9-8C91-495E5BC9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B10-4FB5-43BD-8F46-52E726A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71E-DB53-431D-BC39-97A25AB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197-6C3F-42B9-81F6-16FD0CE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98D-1A00-47B1-AC89-7D430B1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363-FC15-425F-9CD7-34578F8F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CB1-89A0-4CC7-850A-0E39EDC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B21-AB28-4D3B-89DB-F411983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820-CADD-4C31-BC91-2D938DDBDBB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8 Ráč naše deti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naše deti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ó, Pane, vi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ť ich deň čo de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bdie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v mnohom deti n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vzor si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láskou si žehnal i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ruky br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cestou spasen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kráčaj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o, že rád ich máš pamät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vzácne dedičstvo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cirkev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Duch tvo ochrán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zachov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ich požehn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nimi stráž vždy m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im túžbu daj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bou ís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28:59Z</dcterms:modified>
  <cp:revision>69</cp:revision>
  <dc:subject/>
  <dc:title>Je veľký náš Pán, on slávy je Kráľ Nech do všetkých strán  spev vrúcnych znie chvál.</dc:title>
</cp:coreProperties>
</file>