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3E7-6A81-43FA-883B-C26292AF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674-3698-49D8-8AF5-A9704F27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4DF-BD65-4F32-BF6D-33A031F5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2D0-9CCC-4B3F-BFA3-3716259B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B18-0177-45AD-9740-A8CC9DCB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D51-2313-4BA4-A909-0A96144E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DB4-51F8-4120-88AB-D0D1CDCD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B07-2B6F-42A5-A8EE-21D24020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542-90E1-449C-A101-68EB0AD2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8E4-E97B-4776-AB08-B9DDF284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EA3-886E-43DE-9D71-BC069AAE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5EF-DACF-407C-A7D7-57B9AC1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C6C0-8906-457C-AE55-99DC9C71ACB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7 Chváľme Boha piesňa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hváľme Boha piesň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elebme ho žalmami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Nech vždy vďačnej piesne tón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vznáša sa pred Boží trón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Slávme Boha za milosť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za ten vzácny neba skvost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v Synovi svojom dal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aleluj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keď sa spásou sveta stal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Celý vesmír vďaku vzd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a o láske rozprávaj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čo sa svetu zjavil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hriechu, vín ho zbavila.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 Haleluja!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Timo</cp:lastModifiedBy>
  <dcterms:modified xsi:type="dcterms:W3CDTF">2012-08-27T10:50:49Z</dcterms:modified>
  <cp:revision>12</cp:revision>
  <dc:subject/>
  <dc:title>Je veľký náš Pán, on slávy je Kráľ Nech do všetkých strán  spev vrúcnych znie chvál.</dc:title>
</cp:coreProperties>
</file>