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783-57FC-4F6C-87BB-31487F2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80D-B71F-474D-8621-AF1A477F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CFC-557B-4511-B182-6273EBE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2DC-9602-4755-B41A-F9EBEC71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792-ABD2-4C02-8853-5241FB2C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ED4-47AA-459F-B336-F424C6A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E1A-3FA7-4492-BF70-BFAA678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D4D-5585-4EA1-81BF-F8F3165A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4DE-47DF-4342-A97E-E6E8BBE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638-DC5E-40D7-92EC-8603BA0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15B-ABF9-4B01-951A-EC0561A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5C2-9122-4D07-ACF4-7E45485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72C5-5B64-46BE-ADEF-A9A4AAD0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4 Myslievam na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ne náš, nemeš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trvať silu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chod tvoj v nádeji čak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i nás vykú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hriechu oči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 s dôverou vzhliad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lievam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ba keď zazni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í sa všemocný slávy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zemi blaže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stupy spasen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ť ho budú 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esta Krist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byť vždy hotov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vítať Ženícha slávn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u sám pozdrav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ju obda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orunou život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ie nás túžby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úbený nov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kd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hriechu, bole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eľných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znávať budeme spás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9:16:31Z</dcterms:modified>
  <cp:revision>21</cp:revision>
  <dc:subject/>
  <dc:title>Je veľký náš Pán, on slávy je Kráľ Nech do všetkých strán  spev vrúcnych znie chvál.</dc:title>
</cp:coreProperties>
</file>