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B799-A98B-4337-9E6A-05574CCE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1231-104C-4840-8670-2BE60CA0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3443-87A5-4B05-81DC-8EED9C48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646-ECE5-4088-9A9F-3C8CAD73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285-DE62-49E6-B5BB-A5AD359C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83A8-D380-4D0C-AA33-C7593D10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2CB-8E5A-42EF-8D10-208717CD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F65-A02F-4315-A654-6C67EEAB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AFD-EEEA-415C-9C2C-D0419BAB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686E-E2FA-49BB-BFE9-0CE35D0A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AB8D-E4E1-4B78-A435-7AA1B435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AB4-C27B-4793-B394-265A36EA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16E4-DA52-4381-88FE-8FC12DC62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73 Oslavujme Spasiteľ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slavujme Spasiteľ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vet prišiel kvôli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je naša nádej smel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y Božej slávny pl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íži mrel Boží Sy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obeť za hriech sve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retí deň z hrobu vst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náš, slávy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na zemi skončil diel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jal časť na výs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ra naša môže smel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ľadieť k trónu 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znej vrúcnej vďaky spev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leť v kraje nadoblačn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zvenou nech všade znie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 – naše spaseni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celom svete nech je zn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Pán Ježiš zvíťaz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a svojho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ob i smrť on poraz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deme raz večne s 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i vziať nás príde v sláv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a preto nesie v dia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ša pieseň vďaky, chváľ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08:07:52Z</dcterms:modified>
  <cp:revision>20</cp:revision>
  <dc:subject/>
  <dc:title>Je veľký náš Pán, on slávy je Kráľ Nech do všetkých strán  spev vrúcnych znie chvál.</dc:title>
</cp:coreProperties>
</file>