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B49-B54C-49E4-8BEE-702225FC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AA9-1596-41C0-98AA-62BA47E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3E1-B364-488A-8EE4-7C4A18DA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4E2-D6EB-414A-8D51-FA348226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064-05EF-4325-BA1E-3FA667AB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A71-6A4E-45CE-B411-9E54E4F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C94-A7A2-4E23-8878-EB12E43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8D6-851A-4E9A-A78D-2CB0A7D6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A64-F902-461B-8FC6-D15A7D62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EB1-427F-4522-93AA-1DD294F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80B-771E-4D9C-AB60-570E3E1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B2F-8798-4080-98B5-B2BD2677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2B87-1C35-475D-B266-1877A742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7 Kto v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ie, čo meno Jež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hriešnych znamená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ám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sa skláň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láska nesmier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naše hriechy, v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 na kríž prib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vôli nám tak trp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yn Boží,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raz mnohý poču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 spásu dať chce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k nechce tomu ver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o tme blúdi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prijať Krista vá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to ho odmi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odchádza vždy ďal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zdroja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ty choď verne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jeho rady db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om čase k neb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obrac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n má poko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sa rad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Kristu nádej sklad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oha mil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1:52:43Z</dcterms:modified>
  <cp:revision>20</cp:revision>
  <dc:subject/>
  <dc:title>Je veľký náš Pán, on slávy je Kráľ Nech do všetkých strán  spev vrúcnych znie chvál.</dc:title>
</cp:coreProperties>
</file>