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E69-3E03-4307-933C-A5841DC8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0B3-6A9C-4BAD-8CB7-A02C79BF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0F3-7F81-4D4B-A893-493792E3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50D-E989-4FA7-96CB-A58F5867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1CB-BC93-49B0-B407-C9936F4F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0AF-A265-4FBA-AD1C-8D137C1A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237-A48E-4E8E-898A-9F5D3C9B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06E-9F82-4EC2-8975-B646EF6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B32-CF4D-4FA7-8E1A-0AD359B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BA1-6ED8-4293-89DE-A072CFE6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D6E-B1A0-49CA-A39A-7015B05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B37-097D-45C2-86CB-D469E56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3AE0-1D2F-4C03-822C-C0E1429A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2 Keď tvoj žitia kríž je ťaž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tvoj žitia kríž je ťaž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ľaď vierou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zeraj na prekáž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oď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eje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j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boku ti Ježiš stoj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íl keď sa ti nedost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novú náde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etia hviezdy Božích sľub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hľaď vierou vpred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istov kríž je tvojou chlúb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  <a:ea typeface="Arial"/>
              </a:rPr>
              <a:t>choď vierou vpred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2:22:42Z</dcterms:modified>
  <cp:revision>21</cp:revision>
  <dc:subject/>
  <dc:title>Je veľký náš Pán, on slávy je Kráľ Nech do všetkých strán  spev vrúcnych znie chvál.</dc:title>
</cp:coreProperties>
</file>