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67A-B1E2-4421-AF67-5B3933D7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283-F90E-40FB-988A-4F81BDE7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042-8C1A-48FD-95E8-3433CA50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B3A-AEDE-4179-B736-7BF3031C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21F-03E6-4BBC-881B-6FDF481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1E4-9BB4-441B-9070-61F6B3D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F38-C328-4C81-B61B-670391B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A51-D749-4151-AFF2-07FFF79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727-3343-4F22-8AF8-94E265FE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01C-C1D5-4027-A249-F5700FA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341-3C25-4C6D-9AA5-C293CD46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C28-3581-4899-B898-A3F45E2D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377A-337A-408A-A0CA-6D9632264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5 Pán Ježiš, Priateľ mô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 Ježiš, Priateľ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ej krásy, blaha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ám nebeský Otec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ňom nám d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ho vždycky chc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miluje ma, vie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on je srdca môjho Krá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íroda krásna j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eď jej Tvorca daru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skvostný ša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kvetov nádher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to krásu vníma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en vždy sa tešiť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tých Božích divov úžasný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je slnka j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táčat spev keď blaží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aj hviezdnat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oci sv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slnko jasnejš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d hviezdy stálejš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Kristus môže byť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y je jarný sve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ásna mladosť, ktorej kv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spálil, nezničil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hriechu mrá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Čas mladosť odva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ôvab sa pomin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žiš je zdro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čných krás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6:51Z</dcterms:modified>
  <cp:revision>31</cp:revision>
  <dc:subject/>
  <dc:title>Je veľký náš Pán, on slávy je Kráľ Nech do všetkých strán  spev vrúcnych znie chvál.</dc:title>
</cp:coreProperties>
</file>