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7103-F9E3-4265-BBF9-D06E1CA5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11A4-3EB0-44AB-8F54-AD16CBCE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608A-7186-4334-AF1B-98ABD8E53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B79E-6E46-45FE-82A9-B274E95A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A6DB-A589-42BB-813B-FB99C9FF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4EAE-CAEB-4916-962D-F529A5CD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65FB-3EDF-4E26-94E1-9A8164DB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8CF9-B0BC-4452-9757-6CDCADA0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D7C0-CEEC-4A06-B08E-47BDEB51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2837-0A49-465A-B2C5-E3C81C99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C6F0-E608-4DE9-8629-8167E44C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FCF9-53CF-42BB-8CCA-989C75ED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A035-9016-447F-A785-06B1BAE29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42 Božia milosť nezmerná j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ia milosť nezmerná 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ko šíra mora dia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golgotský kríž dokaz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Boh svetu daroval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ruč Otca víta sy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rý zradil rodný d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vinu už nespomí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íši kajúcnika st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ia milosť prevyšu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ozlet predstáv človek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zármutku ho poteš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kdy sa ho nezriek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by kvapkou v mori bol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ša ľútosť úprim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ia láska stále vol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tec s nami súcit má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0:22:29Z</dcterms:modified>
  <cp:revision>32</cp:revision>
  <dc:subject/>
  <dc:title>Je veľký náš Pán, on slávy je Kráľ Nech do všetkých strán  spev vrúcnych znie chvál.</dc:title>
</cp:coreProperties>
</file>