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658-FA2D-44A9-B52F-1EABB74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F89-5BD9-4529-9783-A3EEF78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03A-17FD-49B5-92C6-491F0477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AA3-73FF-4816-8EE5-970B6189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99D-5AB2-400C-8A6D-0005650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812-247D-4A9A-AC0F-D128B451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804-3FEF-441A-9D34-979C071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0C8-FFD5-4CA9-932B-D812717D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B27-7D86-4D41-B997-851CC33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38E-5ECB-43FD-976A-1A0B9D9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1B1-3E5A-4B60-A05D-351A968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DF5-C073-45BA-B6CA-9BD10221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2481-09C2-4881-A69D-6FBCBBDB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1 Z otroctva hrie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 otroctva hriechu, z poroby zlej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svoj pokoj sám mi do srdca vlej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s nádejou k tebe zr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U teba úkryt môžem vždy nájsť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v náručí tvojom mier je a slasť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s tebou mi kynie nebeská vlasť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de žiť raz večne chc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 údolia tieňov, márností, strát</a:t>
            </a:r>
            <a:br>
              <a:rPr sz="44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teb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teb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chcem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žiadnych sa skúšok nemusím báť,</a:t>
            </a:r>
            <a:br>
              <a:rPr sz="42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veď tebe veriť sm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Môžu prísť búrky, Záchranca mô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pri tebe nájdem prístav vždy svoj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len ty si mojej istoty zdroj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 tebe sa privin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V trápení, smútku, pod ťarchou vín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ísť k tebe chcem;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vráť srdcu radosť, bremeno sním,</a:t>
            </a:r>
            <a:br>
              <a:rPr sz="4300"/>
            </a:br>
            <a:r>
              <a:rPr b="1" lang="en-US" sz="4300" spc="-1" strike="noStrike">
                <a:solidFill>
                  <a:srgbClr val="66ff33"/>
                </a:solidFill>
                <a:latin typeface="Arial"/>
              </a:rPr>
              <a:t>že miluješ ma, viem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a všetky žiale útechu máš,</a:t>
            </a:r>
            <a:br>
              <a:rPr sz="4400"/>
            </a:br>
            <a:r>
              <a:rPr b="1" lang="sk-SK" sz="4300" spc="-1" strike="noStrike">
                <a:solidFill>
                  <a:srgbClr val="66ff33"/>
                </a:solidFill>
                <a:latin typeface="Arial"/>
              </a:rPr>
              <a:t>láskavým slovom strach zažehnáš</a:t>
            </a:r>
            <a:br>
              <a:rPr sz="43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a v boji viery víťazstvo dáš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k tebe len ísť vždy smi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eď vôkol vládne pýcha a kla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ísť k tebe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tebe sa, Pane, rád odovzdá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iež hlas tvoj počuj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o sveta strastí, úzkostí, chmár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k tebe len ísť chcem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rieť tvoju tvár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Spasiteľ môj si, Boh môj a Kráľ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vrúcne ťa milujem.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6:45:48Z</dcterms:modified>
  <cp:revision>20</cp:revision>
  <dc:subject/>
  <dc:title>Je veľký náš Pán, on slávy je Kráľ Nech do všetkých strán  spev vrúcnych znie chvál.</dc:title>
</cp:coreProperties>
</file>