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A7D-DBD6-4D97-9DF2-3E8DC448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270-1378-42E1-9FD4-6D71917E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A2D-71BB-4AA2-ABEF-A9094312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E47-1965-4BBE-B2EF-4C84E577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005-6F6F-4476-9757-9272EDA0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C0F-F5C1-462F-B102-01C6B02F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286-BDB5-4153-810F-2EEA5E3C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5F9-E6B5-4B82-A5EB-4B16111E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E7DC-3ACA-4D31-A16A-55500BBF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54F-D5E2-4045-81D9-C511E335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2F2-EC5D-470B-A7F9-49963C8D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370-62D3-4337-A74E-AE8A1F02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7F9E-5686-47F5-BC1C-46BCCA443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7 Nemeškaj, Pán vol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eškaj, Pán vol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sebe všetkých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uje ťa vrúc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čuj jeho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ateľstvo ti chý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ítiš, že si sám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Ťa uisťuj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eťa, rád ťa mám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die nad tebou ver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,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va silu k prác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ný tiež 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reky a smútok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žeň spredo dvier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na teba mysl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boj sa, len 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ácu v svätom diel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pre teba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užbu lásky blížny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požeh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ť o jeho lásk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de roznáš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bude vždy s teb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na to pamät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i domov chy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esta je v ňom d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žeš tam žiť več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len ako h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voj pokoj dá 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ahý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ho prijmeš vier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nájde ci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8:49:27Z</dcterms:modified>
  <cp:revision>20</cp:revision>
  <dc:subject/>
  <dc:title>Je veľký náš Pán, on slávy je Kráľ Nech do všetkých strán  spev vrúcnych znie chvál.</dc:title>
</cp:coreProperties>
</file>