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2F51E-87DE-4DDE-A4CD-BC09D027D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D8EE1-5C9C-485F-B0D4-40209B3D4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9F730-874F-4BA9-BE4F-021319038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1A0FE-F4B2-4AA1-A165-0FE00983B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BBDEC-BA57-433B-89BC-3F0BAE058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1698A-1C44-43BF-AA45-AB10EDBC3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60D44-D013-4DE6-B038-F67E7D4E6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87658-924D-43AA-9997-996B53DF3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9FE90-1507-4936-8E19-8BBE3808B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EB7DF-8FFA-43E4-B74E-B1F865212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46BDD-444F-4268-9D1A-697A4F81B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57FDE-63E9-4FEF-88B1-8DE18E2D7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17D46-CF1E-4C8C-8A9C-27A950D894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279 Vzácnym chlebom 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ž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ivota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Vzácnym chlebom života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sýť vždy hladné duše, Pan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nech v nás láska, dobrota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mocou tvojho Ducha plani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V tebe prameň spásy mám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na teba sa spoliehame.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Sami schopnosť nemáme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dobre myslieť, vravieť, robiť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kým ti ruku nedám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aby si nás mohol vodiť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kým nám myseľ neosvieti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Tešite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ľ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 náš, Duch tvoj Svätý.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Odblesk slávy Otcovej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Spása sveta od večnosti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daj, nech srdcia hotové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vítajú ťa v úprimnosti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a nech Slovo, čo dnes zazni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prinesie nám po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ž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ehnanie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Miro Danihel</cp:lastModifiedBy>
  <dcterms:modified xsi:type="dcterms:W3CDTF">2001-07-07T17:45:26Z</dcterms:modified>
  <cp:revision>22</cp:revision>
  <dc:subject/>
  <dc:title>Je veľký náš Pán, on slávy je Kráľ Nech do všetkých strán  spev vrúcnych znie chvál.</dc:title>
</cp:coreProperties>
</file>