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299-D619-497E-B9EC-3FA3188C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3C8-1CED-4CD7-AA67-BAFE74BE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C28-D744-4788-A26F-7F42EAA8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A9E-F102-4EA6-9767-D34FFD9A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954-D0A6-41B5-B5B6-747EE750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C90-A795-46EB-9C66-599F65BA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FB2-F840-42B9-A474-BA4B0C57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386-BF2B-4D73-8903-6E0575D5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5D1-C054-40DE-9C92-71381D8F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248-F476-469B-9739-152714AB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D87-DB31-46EA-8975-DB730AAD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DAA-4E6F-45E9-9415-C20EA02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6A38-9407-490B-869D-0A4D95C48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8 V Kristovi kto našiel spás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kto našiel spás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ískal Božej lásky da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ustálych zvratoch čas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aj smrti hľadieť v tv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kto cieľ svoj na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aj v kríži k nemu sm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a krv mu dáva nád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pustenie, duše mi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kto poznal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sa smie v ňom rad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aj v tiesni bez reptan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u lásku zvest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á radosť po úna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čakáva pútni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zaskvie v Božej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ý obraz človek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10:42Z</dcterms:modified>
  <cp:revision>20</cp:revision>
  <dc:subject/>
  <dc:title>Je veľký náš Pán, on slávy je Kráľ Nech do všetkých strán  spev vrúcnych znie chvál.</dc:title>
</cp:coreProperties>
</file>