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935-CE9D-4822-8EF0-44A36511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A74-16A8-466D-8D31-278DCA44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6EF-5F92-482F-BA25-12891BCB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586-6572-43EE-96F1-2C1A6D0F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3A2-E4A1-443B-9BAD-89B63582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2EF-2DBD-4761-BD6F-31368127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E5F-A4B6-4324-BD5F-DB1AE8E0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1E0-8D6B-40E6-9351-DCA38A28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7D8-29F1-472E-9444-9862CDF5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991-3383-4CF5-B127-3E1CBCAA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732-0F3B-41EF-A6B7-A0DC4946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C93-E6FB-4BAF-96B5-F0E62B17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4C0C-126C-473A-8E46-BBF3C493F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9 Vie Pán, čo pre mň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é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šetko múdro riad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a s láskou poved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dbám na jeho ra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, mocný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z hrobu b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život môj raz zhas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východisko spás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sklamal on nikd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 Slovo jeho pravda j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hojí všetky kriv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on je môj, už nepok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 srdca nenaru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každú búrku stíš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ie o mojom žial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ieru moju podopr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rak mi slza ska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 bôľ môj dá balzam svo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kol sa čo chce de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 jeho láska hre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Pán, čo pre mňa dobré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nevzpieram sa tomu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Otec lepšie rozum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kedy dať a kom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ž čierny mrak mô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trie zra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ť, hrob ma nepredes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lávne raz ma vzkries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5:25:27Z</dcterms:modified>
  <cp:revision>21</cp:revision>
  <dc:subject/>
  <dc:title>Je veľký náš Pán, on slávy je Kráľ Nech do všetkých strán  spev vrúcnych znie chvál.</dc:title>
</cp:coreProperties>
</file>