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65AC-B99A-48E3-A297-18F64689A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F8D1-2A45-4556-8380-C2BE8500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B9A7-6E51-4BE9-9BF4-AD042B8D3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6766-F082-4CF1-BA57-BCB507F22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C6B9-80A0-4008-8B14-773B866D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1012-7C56-45F6-A057-B2EE504C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9E30-3836-4CCE-8841-3345EDEF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1C6D-2326-448A-8434-ABC64908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9735-25DC-4607-8A0E-3E5E2A9C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8D30-9E76-4E0B-B8EC-42708E8F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3424-1505-4F5A-9BC5-E197A4E8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80C6-BC18-479A-B5E4-15E66BF4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3EEC-D0E9-4F2E-A0C4-B461A4C97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14 Dôveruj mi v každý č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ôveruj mi v každý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k znie lásky Božej hlas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ti cestu zastrie mrak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nebu obráť viery zra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ne, ty ma vedieš, v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teba sa spoľahn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labosti ma posilu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ím slovom: Dôveruj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a obzor halí tm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tebe hľadím s dôver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lu k boju, víťazstv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od teba získav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ne, ty ma vedieš, v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teba sa spoľahn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labosti ma posilu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ím slovom: Dôveruj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ma, Pane láskav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 Duch mocne oslov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úžbe mojej dodá vzle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tvojej sile kráčam vp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ne, ty ma vedieš, v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teba sa spoľahn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labosti ma posilu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ím slovom: Dôveruj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6T10:22:16Z</dcterms:modified>
  <cp:revision>20</cp:revision>
  <dc:subject/>
  <dc:title>Je veľký náš Pán, on slávy je Kráľ Nech do všetkých strán  spev vrúcnych znie chvál.</dc:title>
</cp:coreProperties>
</file>