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A28-4990-4042-89A4-8CFE0447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6F0-10CB-4BD9-83D7-D279D604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794-B433-4A35-83FB-0374A999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932-E7B8-41AE-A189-79D8C60A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5D8-7354-48DB-ABC8-D4FF2187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BD2-BDD4-4CC8-9A92-551BC935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1DE-337F-41E8-9E70-0AFA3FC4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DD9-6849-4163-960E-D5E40F36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874-1FC3-4D52-AC2D-701EEC1D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F07-8C59-4604-B7BD-CEB094F8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6AE-D522-48DF-85A7-CA80D157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679-D502-4A48-B0FC-9C0ED84E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D344-4563-4845-AB46-23A6D3924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8 Kto Božej vôli poddáva 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v neho dúfa, k nemu ľ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naveky sa nepohn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Božej vôli poddáva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ždy je s Pánom spojený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pod ťarchou kríža nevzdáva sa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tráca vieru v súžen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v Bohu svoju nádej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skala stojí prepevn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Boha márna starosť naš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osných nocí únav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bezodná je bôľu čaš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lu nám viera do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, ktorý v Kristu spasil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odmerať aj skúšok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eopustí svoje de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las prosieb naši počuj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tmách nám svie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nás chráni, mil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iere učí pevne stá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ilu dáva vytrvať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ož všetko trápe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d kríž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ovi rád sa odovzd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útechy vždy nájd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 ň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ho vždy sa spolieh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10:34:16Z</dcterms:modified>
  <cp:revision>21</cp:revision>
  <dc:subject/>
  <dc:title>Je veľký náš Pán, on slávy je Kráľ Nech do všetkých strán  spev vrúcnych znie chvál.</dc:title>
</cp:coreProperties>
</file>