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DAD-94CF-42EC-96C4-C664D160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F20-6ED9-4A3A-8B7A-C5766244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FDE-EBB7-454D-956C-F56B6057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934-D19D-4603-B1F1-E829F7E7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8C0-CFAC-48E4-B8CF-B220851F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20D-9105-4CBF-9F9C-EC67A08C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6DD-FBD1-4845-99B5-94EED93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0ED-7ECE-4D81-BDEE-63E6DF2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D0D-F748-4B19-B721-A8B63788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9EF-F1E9-43F5-A08E-06A26E59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5BC-A955-4740-897B-2EDBD10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CAF-D8A7-430A-8E21-7D0799FA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0605-A977-4998-973C-DFF0D4594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6 Anjeli raz z výšin 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raz z výšin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tú niesť sa náhl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ský údel sám na s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al Syn Boží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z neba žiaria strá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om kraj sa napln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Pán Boh sľuby da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mu ľudu vypln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viedla hviezda ja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Písmo skúm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lnila sa nádej spás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k jasliam skláňa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meon i Anna žas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lnil sa im žiti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a Boha za zvesť krásnu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rodil s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Bohu na výsost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ľuďom na zem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5:21Z</dcterms:modified>
  <cp:revision>32</cp:revision>
  <dc:subject/>
  <dc:title>Je veľký náš Pán, on slávy je Kráľ Nech do všetkých strán  spev vrúcnych znie chvál.</dc:title>
</cp:coreProperties>
</file>