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FC6-369E-4E97-BA4A-37DCCC22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455-8692-4968-9FF6-12BF7D9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6AD-7D27-44CD-9182-A6A08636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1F2-9140-450D-A69D-95F8E492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09F-A263-43D1-90B1-51E36725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371-D70B-4E7F-ACEB-CDF88101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2B9-26DB-46E1-B59E-C88A7921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B85-9B9D-434D-9E62-F3766D7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470-AD33-48B8-896E-C1BFA691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4EF-3F99-4A66-9732-B0735EC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4C3-32AC-433C-ADB7-0E098E4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821-143E-488D-8785-118CA8F4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826-9613-4A7A-A27A-712DE746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6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ný opä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avíta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á verným odme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lásk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večné príbytky im pripra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teraz má rad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rdci človek t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torý v bázni zach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vätý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í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ý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svät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 nezabudn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opä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vítal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lásky ho člove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l Pán Boh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v šiestich dňoch svoje dielo dokonč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iedmy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l, na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posvätil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ý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svät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 nezabud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radostne uvít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všedných záľub sa ochotne vz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hojným pok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darí ť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uchom svojím chce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tále sprevádz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chovaj sobotný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ätý mô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to vždy pamät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i dom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atočne, pocti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acuj šesť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svät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 nezabud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06:41Z</dcterms:modified>
  <cp:revision>22</cp:revision>
  <dc:subject/>
  <dc:title>Je veľký náš Pán, on slávy je Kráľ Nech do všetkých strán  spev vrúcnych znie chvál.</dc:title>
</cp:coreProperties>
</file>