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157-9DB1-4C55-8354-D507F25A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A9F-A76C-465F-83CF-C788F444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E5D-FE8A-49BF-9463-D5490AC6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FA2-3010-495E-8089-BD99518D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B00-0FA5-49C4-B43E-8F5BE2E7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285-94FC-425D-9B9A-D30B3FF8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3E2-47B0-4878-8A0D-DB98331A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D37-E455-456D-B99F-1D86A874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EA7-F1B4-4334-BFB1-332D4D4A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C4E-28BE-430E-A004-7954AB74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2DB-C816-4564-A3AC-CE23BB24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403-A608-4D16-A145-292F6290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CF6A-93FD-427F-AD10-4ABC1C833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0 Krok za krok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ok za krokom vedie k cieľ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svoj verný ľu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vahu a nádej smel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ho slovo vlieva v hru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žiť z Božej moc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 vždy listom Kristový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šíriť svetlo v sveta noc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me vždycky hotov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kerný hoc nepriateľ rá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ŕním stelie cestu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hňom skúšok, úskalím strá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domovu nás viesť chce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ármutok a úzkosť v duš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môže viera nezdoln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ľ, čo srdce niekdy krúš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ia milosť preko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dôverou vždy za Ježiš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trvalo kráč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ť o Božej láske ľuď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šene vždy hlásaj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ťazná je naša ces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keď vedie nás vždy vpre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, kde chystá pre nás mies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vedie nás naposled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7T15:31:01Z</dcterms:modified>
  <cp:revision>21</cp:revision>
  <dc:subject/>
  <dc:title>Je veľký náš Pán, on slávy je Kráľ Nech do všetkých strán  spev vrúcnych znie chvál.</dc:title>
</cp:coreProperties>
</file>