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216-EC01-4D0F-B2B0-9B942DF7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BDC-7375-402B-8BB7-CF13F0D2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140-46A8-4B7D-A76F-57CD0912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6B7-AF79-4EA4-8435-085D7C16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273-4D4D-4E20-B189-14735F67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048-2713-4AD1-A238-5F5BC39A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C99-F76C-4D2D-8DAD-ECF38CE0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5B2-D264-4B2F-B9AA-C81FB49F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18F-9CCB-4B5D-A01A-0779B2F9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740-1046-42DF-BCC5-C2FDD673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2B8-7F58-4A5A-A450-58D1DFB1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27A-AA75-4BC9-B141-08883EB4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0F57-49B3-4DAA-BE9A-BA0CC436B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2 Či dušu mi smútok a bôľ zaplav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o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mät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a môj drahý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vždy rá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dušu mi smútok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ôľ zaplav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radosť a mier vládne v ne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iem, v nebes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môj Pán láskav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ý dbá o mňa, dej sa čo d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o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mät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a môj drahý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vždy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bremeno hriec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ín zo mňa sň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a kríž šiel sám kvôli mn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pásy dar dáva 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íši môj ž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u vzdávať mu chcem úprim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o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mät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a môj drahý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vždy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dnes vierou zrie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ten vznešený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blízko je spasenia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skoro príde náš Vykup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lu s ním vojd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ríše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8:42:55Z</dcterms:modified>
  <cp:revision>20</cp:revision>
  <dc:subject/>
  <dc:title>Je veľký náš Pán, on slávy je Kráľ Nech do všetkých strán  spev vrúcnych znie chvál.</dc:title>
</cp:coreProperties>
</file>