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BD09-734C-42C8-9987-63D68407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3A7C-481B-4B47-B056-3B3105E7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7154-B481-469C-8662-D8C61CC7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1BBF-F3B0-467D-A576-629980886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3122-0DD7-43AE-8C04-BF639BFF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ADF9-486B-48FD-A791-1EF90FF3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7776-90E3-40EB-86F3-9E676485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2AFB-BD53-41DB-B4D9-D2D02A43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64A0-DCEF-47A7-92EC-292B5155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529B-E609-48F8-B25C-13734428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4C2D-3B20-40DC-9B53-DD4CA36D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E9D2-B0B3-4F69-82D3-1A780B65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1D8E-6532-479F-8297-1B1698296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59 Na tvoju h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d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tvár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ždy znova pocítim,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 ty ma miluješ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 tvoju hľadieť tvár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i dopraj, Pane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a dobre viem, že v tebe l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ám svojho šťastia zdr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y z lásky na kríž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i za mňa život d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a chcem byť tvojím navek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ôj Spasiteľ a Krá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veky tvoj chcem by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môj Spasit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a Krá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 tvoju hľadieť tvár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ám vrúcne žela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ráč vyplniť ho, Pane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uj moje vola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et nikdy nemôž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voj vzácny pokoj d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preto stále v tebe l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chcem svoju skrýšu m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tebe len, v tebe l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chcem svoju skrýšu m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Vo viere upiera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svoj pohľad k nebesá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Ty odtiaľ prídeš svojich vzi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ta k sebe, Pane,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a túžim s tebou by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tom meste večných kr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m tvoju lásku veleb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ždy znova, zas a za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eba tam veleb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y znova, zas a zas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et často sklame m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hriech zrak mi zakal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slnka lúče hrejivé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rak čierny zahal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Ty sám ma poteší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noc čiernu zaženieš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zas blízkosť tvoju pocíti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a tvoju lásku tie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5:38:30Z</dcterms:modified>
  <cp:revision>22</cp:revision>
  <dc:subject/>
  <dc:title>Je veľký náš Pán, on slávy je Kráľ Nech do všetkých strán  spev vrúcnych znie chvál.</dc:title>
</cp:coreProperties>
</file>