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6DB-F06C-4012-B032-59EA3EEB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EF7-462E-4E0F-B030-4694E05B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3E5-5F40-40F9-9C73-CFB3FCFA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0E3-7F32-456D-A366-8590233E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38C-130F-4135-BC7D-172E922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62C-0A32-4EA6-8750-272C19BB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436-9BE0-439F-997A-4C91927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2EF-4CF8-4B96-BE7D-2C9EEF4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216-DEF9-4DF4-B7A0-F8EBC55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623-BEBF-4C49-AFD9-E3CEC3E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A6D-D0F2-4275-B45F-3C51C976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7ED-6ABF-4344-8841-102D38D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73D8-CABB-4EE9-B1AB-6624938DEC6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3 Ježiš je ten dobrý Past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spásy vedi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ne berie na rame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večky, čo blúdia v tm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slovom verne ved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 môj a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í úzkou cestou kráč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e dáva jasný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keď svet ma priťah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vojim vábi prame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prútom zastaví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m chráni rame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bôle, starosť každ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ložiť vždy pri ňom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ú on cestu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sa spoľ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je ten dobrý Past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hlas tak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bať na jeho vola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16:05Z</dcterms:modified>
  <cp:revision>21</cp:revision>
  <dc:subject/>
  <dc:title>Je veľký náš Pán, on slávy je Kráľ Nech do všetkých strán  spev vrúcnych znie chvál.</dc:title>
</cp:coreProperties>
</file>