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37A-6415-4286-A6C5-688956CC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297-2288-4503-8A3B-2B12BA50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898-642A-48F0-B5FD-9A800AF4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B99-7508-4B38-9C9E-7FE728E1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14E-2FA8-4BB3-B7B1-1AC59A07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DF4-D8BF-43EA-9B0A-D32082BE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E1D-A919-4979-ACE2-9BC9A0A3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56D-FE8A-4213-9E3D-F1F95908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7E7-54DA-4845-B6CC-76499B8C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EC6-74F7-4550-9C78-3608B08E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009-889F-42E7-B713-B7AA8DD1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62E-4EBB-458E-8AF0-D91D9243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3BB1-7685-4F7F-ABF9-76656860D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5 Namiesto mňa Boží Sy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miesto mňa Boží Sy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skom kríži zo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sol ťarchu mojich ví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, môj Pán, Vykup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a slávy neba vzd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ne život dar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ôj hriech tak preveľk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trpel, drah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ačené nave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zvami sú tvoje dl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a krv ma spasi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estu smrti zbavi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sa ti odplat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, čo ti dať mám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svoj ti zasvät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e srdce ovládni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môj, ja tvoj chce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eky chcem s tebou ž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4:12Z</dcterms:modified>
  <cp:revision>33</cp:revision>
  <dc:subject/>
  <dc:title>Je veľký náš Pán, on slávy je Kráľ Nech do všetkých strán  spev vrúcnych znie chvál.</dc:title>
</cp:coreProperties>
</file>