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A3F-F44B-4566-ABB2-5E0C601B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204-1DC3-4D82-9E71-0B4163AB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B7C-E5FB-45F9-9F32-B071B679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5F2-244D-4952-99A1-A390BED4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58B-D653-45BE-96D4-B2DC448B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4AA-8B58-447B-BD91-0F3B2638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3B5-B5DE-4646-B60E-321CE7F9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E95-B0FE-4008-BC83-B40C2D87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EA7-9DF1-44AA-A214-C88B25BB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597-FC3B-4301-8CFB-0B16AF77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807-8555-43E0-AC94-E866D2DD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FB2-95AB-4ED5-832A-082030D6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1B9A-446F-467D-9A71-DBE865BB4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6 Otče náš na neb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če náš na neb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ýva ťa veleb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tí tvoj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ary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nám v štedr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š vždy v hoj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ený b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y Kráľ,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iteľ hriechu, v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sby čuj hla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zvodom márn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riešnych žiad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svojej múdr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chraňuj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iteľ sľúb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nás buď sláv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tvoj z výs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sa rozho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našej blí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staneš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ojici presvät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dnote odvek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a od ve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láske a svät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svojej ver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ým bd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7:27Z</dcterms:modified>
  <cp:revision>29</cp:revision>
  <dc:subject/>
  <dc:title>Je veľký náš Pán, on slávy je Kráľ Nech do všetkých strán  spev vrúcnych znie chvál.</dc:title>
</cp:coreProperties>
</file>