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B9A0-B688-40F8-9F81-6F8F0D854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C13F-0626-4508-8268-0535FDE12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B783-2D13-4814-B09A-EC4369A8B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DC19-24C4-451B-BAB5-B76A4597E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AC92-DE02-4E2D-AD3F-77CD01FCC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001D-095B-4EE5-BCC7-39CB02A03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AB6C-7B23-45D0-A7B1-1904DDD9E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83D3-7CAD-46F7-9A9F-E44E28120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8D8F-E6F4-4B80-B1A6-5F24D0A6D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B534-C957-4EC5-8576-9815E77B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89F7-2A41-4025-B3B4-AA4D2751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6EB0-A511-461D-ACF8-6B2ADAD4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E3895-9175-46EB-BA71-DCF2B71BD6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84 Nech teba, P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váli ze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teba, Pane, chváli z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i neba šíry sta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kráľovský máš diadé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i mocný Kráľ a P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kráľovský máš diadé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i mocný Kráľ a P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o vedieť mal by celý svet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záchrancom si ná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ď z lásky si nás zbavil bied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š Spasiteľ a P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ď z lásky si nás zbavil bied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š Spasiteľ a P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o všetkých končí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ajov, miest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o všetkých sveta strá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znie ti večná sláva, če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vševládny náš P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nech znie ti večná sláva, če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vševládny náš P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voj ľud sa skláňa pred Tebo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prosí: Príď už k n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íď v sláve svätých anjelov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š večný Kráľ a P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íď v sláve svätých anjelov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š večný Kráľ a Pán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1-01-05T09:10:39Z</dcterms:modified>
  <cp:revision>10</cp:revision>
  <dc:subject/>
  <dc:title>Je veľký náš Pán, on slávy je Kráľ Nech do všetkých strán  spev vrúcnych znie chvál.</dc:title>
</cp:coreProperties>
</file>