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037-04E5-44F1-8D90-BB786DF5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D30-9FC2-47C1-9333-38B9A4EF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A68-2DEC-49A4-A012-DF3EC0CD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0B4-2259-46D2-B2A8-DEF6F930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4C4-8FA5-4AD6-933E-E9942D70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8B2-07AD-4029-8005-9CDEF56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09A-2EFB-48E8-90E6-918030B3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E56-DE3A-44F8-AE7C-D870635B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6E8-FB44-4A06-A7EB-24EF4C2F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012-1222-4BC3-BC39-E9CFFA1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A48-EDDD-4024-A53E-EFA6C77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D70-8670-4914-B469-3E68E765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F9F8-EC8B-4F87-A117-CE3F15909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8 Prúd vzácnej vody živo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úd vzácnej vody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z kríža pra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trest tam Božia dobr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pre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mňa zomrel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lotrovi na kríži 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pásy ist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ám tým cestu ukáz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mrti k živo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mňa zomrel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á krv jeho nevin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moc hriech každý zmy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beť jeho zástupn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 právo večne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 k zdroju spásnej ist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na tom kríži Golgo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a mňa zomrel Pá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8:54:49Z</dcterms:modified>
  <cp:revision>20</cp:revision>
  <dc:subject/>
  <dc:title>Je veľký náš Pán, on slávy je Kráľ Nech do všetkých strán  spev vrúcnych znie chvál.</dc:title>
</cp:coreProperties>
</file>