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D88-0729-4725-965D-8B404E13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B0B-B1CE-462F-9052-382E27D9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F4E-7F7C-45AB-A699-26698B30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5C4-62BA-445E-8B9C-5D413CEB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351-F3CD-4247-8155-A3C4E0F4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92E-49C5-4F53-8B83-2A1EA519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9B3-667A-4194-9E58-63225D75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288-AD09-40A1-8053-46C605A8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CB0-5069-45D5-A51B-055DC329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882-C115-4A17-9044-15B5468D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AE2-8FE6-4D34-AB9F-3C1FD96C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1DD-7FF7-4460-BFB5-F4639CFB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9750-0DE2-4850-B110-9F3920A7C3A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1 Ako ľúby vánok z ra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ľúby vánok z raj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no Ježiš mil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sa nádej naša spáj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y zárukou nám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ú Božiu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smieme blížnym ni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náš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večný chce da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drahom mene Ježišo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nám Otec neba skvost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í svojej lásky slov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mu vďaka za milo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ú Božiu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smieme blížnym ni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náš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večný chce da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jeho mene naša sp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nás vedie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vždy verne za ním kráč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zvábi ho z cesty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ú Božiu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smieme blížnym ni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náš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večný chce dať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, vďaku jemu vzd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lovekom sa pre nás stal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ho privít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de ako kráľov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dhernú Božiu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smieme blížnym niesť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us, náš Kráľ a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večný chce dať n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9T11:04:53Z</dcterms:modified>
  <cp:revision>23</cp:revision>
  <dc:subject/>
  <dc:title>Je veľký náš Pán, on slávy je Kráľ Nech do všetkých strán  spev vrúcnych znie chvál.</dc:title>
</cp:coreProperties>
</file>