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995D-8DB2-4B43-B79B-D5E0D630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0F1B-2C5C-4BBD-8107-BB46AC58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99AE-B890-494E-BF4F-BC5685D8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5AB-F834-45F9-A7C1-198D4D97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791-A792-4BFE-A5F6-4684AC13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C56-EA71-4EC6-8665-B2FA046D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AC48-C5CF-4720-BA97-9E619C61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7E24-D0BC-499F-800D-6F47820E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269-54FE-4042-9631-AC6A64E8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BFB-5D3C-4B74-BCDF-6628D38C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DCCE-9137-4C16-ABCF-3E1CB0F7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551-A74C-48A0-88DC-E6B8085E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69B8-68EC-48F1-8670-7767AE75D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70 Na úsvite sná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blízko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íťazný ozve sa hlas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Pán Ježiš už prichádz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Haleluja! Amen.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úsvite sná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ci tma keď sa tra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nečný lúč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títy hôr v diaľke zlát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ľub svoj splní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neba vráti sa zas k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hromaždí verný svoj ľu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blízko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íťazný ozve sa hlas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Pán Ježiš už prichádz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Haleluja! Amen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náď na polud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ožno deň sa schýl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triebrosvit hviezd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plaví kraj po chvíl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o polnoc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de v sláve a moc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ástupy anjelov s 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blízko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íťazný ozve sa hlas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Pán Ježiš už prichádz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Haleluja! Amen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príde náš Pán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ýchlo čas ten sa k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ľub, ktorý dal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to už nevyvrá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nás k sebe vzi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ži vlasť novú nám d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hriech ani smrť nebu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2-12T16:08:06Z</dcterms:modified>
  <cp:revision>38</cp:revision>
  <dc:subject/>
  <dc:title>Je veľký náš Pán, on slávy je Kráľ Nech do všetkých strán  spev vrúcnych znie chvál.</dc:title>
</cp:coreProperties>
</file>