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D753-252E-478B-88CE-BFFDFC68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E858-EB32-45B7-93BF-9B310F28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088B-AE11-4FAF-BCB8-0574C827C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9DE4-3056-45CD-B515-71F1205F2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609B-D88C-4AC9-8EF0-E7825BB5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B0E8-CD08-47DE-8E59-AD295A75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D886-C3B4-49A5-B897-B5ADA13E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2485-5404-4399-90C8-4163524D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69B1-DC23-467A-A8AD-812A8A9B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3CE8-55F6-4414-88EB-2927458A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4A76-5EFA-46CD-981D-ABF1E343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C0ED-3524-4BF6-9462-10DC5013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1DBE-CF30-45E1-83B8-3B7097681F27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81 Ovečkou, že Božou s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večkou, že Božou so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o ma teší, nocou, dň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Ježiš môj Pastier 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ilo vždy hlas jeho zn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o moje blaho db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tarosť o mňa stále m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odí k pastvám zelený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vodám tichým, príjemný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na ceste ustáva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plecia ma berie sá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iluje ma, dobre vie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iba jemu patriť ch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Ježiš je Pastier mô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dal za mňa život s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ľadá ma, keď zablúdi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by som bol opäť s ní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je mojím zachránco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večkou ja jeho so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09:20:41Z</dcterms:modified>
  <cp:revision>84</cp:revision>
  <dc:subject/>
  <dc:title>Je veľký náš Pán, on slávy je Kráľ Nech do všetkých strán  spev vrúcnych znie chvál.</dc:title>
</cp:coreProperties>
</file>