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FDC-FA9B-4BE5-A099-6EDDCC3D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55E-40D2-4911-9BC3-B7F886B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704-8605-4C3D-B96C-918D85FA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4D5-2161-4082-BB6B-41668D55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093-7935-42E8-81FE-C7F010A5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242-5337-4600-8EB9-80ED059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8ED-901F-4EA0-A2B7-5BC5A51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85C-A785-409E-857A-98F5889A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026-30F2-4E3D-B985-017360C5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FFA-E15D-450F-A707-4578E66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321-65A2-41F5-BCCB-4CA4F11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834-C451-493B-8470-5C33FEB2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475-D161-4E25-A0BA-7416195DC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6 Kto s tebou, Pane, bude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úprimnosti ch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žnemu kto neušk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sa bude sm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e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zástancom je prav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a nedopúšťa zra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n sa bude sm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rado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blížnych háji pr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ému, čo jeho,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sa bude sm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večne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tebo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de večne ži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 radoch vykúpených bude stá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to v tomto žitia boj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íťazí vždy v Ducha zbroj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n sa bude smi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radov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26:48Z</dcterms:modified>
  <cp:revision>23</cp:revision>
  <dc:subject/>
  <dc:title>Je veľký náš Pán, on slávy je Kráľ Nech do všetkých strán  spev vrúcnych znie chvál.</dc:title>
</cp:coreProperties>
</file>