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419-D9DE-44B7-B956-94A21B59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63E-1CE7-4B21-9F23-1D1E1A36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CAA-4674-4168-AED5-C30F180B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321-6EAE-49BF-8471-0822F4C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85C-CED8-49B1-B99E-B5B2BF1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792-254A-42FE-848F-14493BD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34A-D578-4689-8C5C-C22EA88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EC1-C504-4C66-B077-B9D3F88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8FE-4FFF-445C-9C67-4FB94A1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D0E-6ECF-4CD2-8978-8452F1AC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40E-3B98-43C0-AEFD-31986D0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DC4-E9F8-4D1B-9A2B-38F8380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BC27-FFA8-4B10-819E-187FF5190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9 Môj Pán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žij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 výšin on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skláňa i 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avo k 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ť s ním túž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môj je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rád by domov som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o mne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ňa rád veľmi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 lásky moje hriechy on sň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lkám, odpo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sť síl mi d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n je Pán môj a 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án vráti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 krátky už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i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blízko je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ládu prevezm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9:06Z</dcterms:modified>
  <cp:revision>23</cp:revision>
  <dc:subject/>
  <dc:title>Je veľký náš Pán, on slávy je Kráľ Nech do všetkých strán  spev vrúcnych znie chvál.</dc:title>
</cp:coreProperties>
</file>