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879-D4A2-4211-906B-0BD62EE8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975-2C2B-44EF-A728-1F83A193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367-28A2-475F-B376-EC72A684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0AA-033F-4EC2-9137-6B5A8419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460-E235-4AC7-B5CE-935D7225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942-8794-460A-9CE8-8B7BB84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AA2-AC5C-4D61-B150-9BC4C8E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21D-3216-4760-81A3-F928882C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0CF-7804-4255-823B-16A6921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380-B975-4CF1-BCFF-610BEA0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94E-3FCA-4A62-84E5-E3C9897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DB1-2B23-45C4-8F16-E8EAB340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B59-D099-498D-AA8F-60CF9295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6 Poďte blízki, vzdial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te blízki, vzdial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om, vinou zn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žej zvesti zmier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la nádej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ísme je zdroj múdr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ú Pán dá v hoj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, čo chcú več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jeho vele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jto knihy blahá zv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ie k Ceste všetkých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mdloby, žiaľu, tráp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radosti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e Božie Slovo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ou hviezdou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žiare ktorej smieme zr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é nebo, rajský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12:37Z</dcterms:modified>
  <cp:revision>20</cp:revision>
  <dc:subject/>
  <dc:title>Je veľký náš Pán, on slávy je Kráľ Nech do všetkých strán  spev vrúcnych znie chvál.</dc:title>
</cp:coreProperties>
</file>