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AC1-CFC2-4A3A-A246-624B1BAD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BBA-A425-453B-AFB8-55661A29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446-9B33-494F-911E-6DF221FA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C4B-1437-473C-BE8F-2593197E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8F1-A563-449D-AF42-7BB768C2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45A-DC44-4CE4-96D9-391BE788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080-E0D1-4F6C-9812-F3348EFC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6F0-49E2-44C5-9790-299F8564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8E8-7E65-449F-A08C-E271BDD0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109-0EF4-4080-ADDB-71E79743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5DB-0A2A-4E5C-8B3A-6FCB4DA2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5DA-D8FA-46CD-BD0E-DBFD420D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926D-654C-4A4A-8924-53512E3E8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1 To nemô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mi nikto vzia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nemôže mi nikto vzi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čo neochvejne verí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mieť večný život v Krist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u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 mať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nad všetko si cení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viem, že ho raz uvid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ečne budem bývať s 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ečne budem bývať s 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to verím srdcom celý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život je len krátky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ak odmena je ist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skoro vziať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d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el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 rúk Kráľa kráľov, Kris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, ktorý za mňa zomrel raz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pri mne stále, v 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pri mne stále, v 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bezpečný mám prístav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Pane, ty ma vyveď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 sveta márniv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u úzkou cestou k výši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ď domov, do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vet tento tiež má mno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o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o potrvá len krátk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o potrvá len krátk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túžim po večn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39:08Z</dcterms:modified>
  <cp:revision>21</cp:revision>
  <dc:subject/>
  <dc:title>Je veľký náš Pán, on slávy je Kráľ Nech do všetkých strán  spev vrúcnych znie chvál.</dc:title>
</cp:coreProperties>
</file>