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17B-845E-4CC0-9516-09F853C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165-45A3-4FF3-94A0-865FEBE3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418-C8D4-4DD5-8E05-966BC2C5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C94-8747-4D9B-A641-DD77BE39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947-77AA-49AA-8572-CB019E64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AB4-92AA-477D-97C8-02A2EF1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B03-0A1F-47F5-8884-49DC40E7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BF0-C18A-41A4-9514-983815E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04B-1D48-4DCB-83A9-AA9D48F8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FBA-C2F7-4E78-A8E0-EE12E7D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859-6F0F-4F63-BC4A-314A84A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332-B53A-4532-A53A-2AFA905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96CC-F90F-4E1D-B047-0C2092DD107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0 Sám, Pane, prebuď svojich svedko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, Pane, prebuď svojich svedk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ion tvoj by verne stráži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dľa vzoru dávnych predk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mena tvojho smelo háji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tvojej spáse zvesť sa rozniesť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uverí svet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e vďaku vz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Duch tvoj lásk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blížnym n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ých srdciach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é teba vzýv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tvoja pravda mocne svi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u t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čo spásu hľad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Božej pravdy lúče spočin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m sa aj mraky hriechu rozply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nebies rosa polia zvlaž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žatva sveta dokončí sa v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tvojich žencov práca blaž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zachrániť chceš každý vzácny k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chválospev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ďačné budú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pasení tvár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u budú zrie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5:29:30Z</dcterms:modified>
  <cp:revision>44</cp:revision>
  <dc:subject/>
  <dc:title>Je veľký náš Pán, on slávy je Kráľ Nech do všetkých strán  spev vrúcnych znie chvál.</dc:title>
</cp:coreProperties>
</file>