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20AB-3D7B-4313-829A-2129A3CC9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8CB1-CB77-40D4-9A41-2529B8DED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1E38-1A90-4507-A84A-8A69F163B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AABC-63C8-46E6-B287-05F47923C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9A87-C792-4A03-90FF-C085FF1D2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6C0D-34C0-4A93-99BF-B01C57459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E56C-2631-405D-88B7-134DD0E39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31C9-C582-42B2-8405-582F3E388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5D8B-96C8-4BB4-8375-F0D953999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8E99-46E9-4FC6-A320-8A8F77146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FD56-A78B-48CE-B290-3FEF8765C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BAEA-BDFE-4CE6-A89E-3FDC7E3DC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2554E-7584-49C2-B8D5-AB7F0E1198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119 Môj Pán a Spasiteľ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ôj Pán a Spasiteľ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cem teba velebi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y na kríž kvôli mne si šie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a chcem pre teba ži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sveta temnot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ám mi, Pane, svie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vojou krvou zmy môj hriech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ňa cestou spásy veď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om úbohý, vieš s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y chceš mi všetko da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en v tvojej krvi pomoc m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ňou smiem sa čistý sta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sveta temnot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ám mi, Pane, svie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vojou krvou zmy môj hriech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ňa cestou spásy veď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a túžim, Pane mô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raz s tebou mať svoj die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en ty si môjho blaha zdro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ám v tebe žitia cieľ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sveta temnot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ám mi, Pane, svie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vojou krvou zmy môj hriech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ňa cestou spásy veď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re mňa na Golgote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i z lásky život dal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česť vzdávam tvojej dobrote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môj Záchranca a Kráľ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sveta temnot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ám mi, Pane, svie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vojou krvou zmy môj hriech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ňa cestou spásy veď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6-06T12:06:44Z</dcterms:modified>
  <cp:revision>20</cp:revision>
  <dc:subject/>
  <dc:title>Je veľký náš Pán, on slávy je Kráľ Nech do všetkých strán  spev vrúcnych znie chvál.</dc:title>
</cp:coreProperties>
</file>