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0C24-7C65-41D9-B70A-DB724099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BCE6-F114-42B7-8B48-7DC1CC36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CDE4-C32C-4A18-AD80-DA3AF04C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6909-A451-4331-8BA4-31716ED89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4EAE-B248-405A-9C1C-0531F020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84EA-0503-4B47-9904-BE55A555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E46F-BCA0-4C55-8F11-2D35B575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F6F3-116D-4F28-B8B6-A8223B1B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C430-2965-4AD1-B526-DDAC9285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74C1-9E88-44B0-8D2D-CC72E71A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F523-9187-4E64-BB70-D7C79EBF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F047-4CF1-4275-94E3-97CBE1C0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92A6-66A7-4847-AC24-E4CA29427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11 Kráľ večný, veď nás stá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áľ večný, veď nás stál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k boju sily d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nad zlom zvíťazí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rieť smieme večný r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 nebude už smútok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aľ, sveta nepok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 s nami budeš več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, blaženosti Zdr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áľ večný, veď nás stál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hriech nás nezlom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tráca svoju vlád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bdieš ty nad nam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 návrat už sa blíž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s priprav na ten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s tebou smieme vstúp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ríše večných kr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áľ večný, veď nás stál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odním bázeň, strach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ideme vpred smel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 piesňou na perá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vetlo z tvojho kríž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cestu svieti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z budeme tam v cieli,kde privítaš nás s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7T15:37:06Z</dcterms:modified>
  <cp:revision>22</cp:revision>
  <dc:subject/>
  <dc:title>Je veľký náš Pán, on slávy je Kráľ Nech do všetkých strán  spev vrúcnych znie chvál.</dc:title>
</cp:coreProperties>
</file>