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9CA-3557-4190-B313-B6E079E4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14E-7CF1-463F-A9EA-24B94D99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A39-D2A0-4114-B94C-5B285204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D7C-5082-4CCC-B8C6-D0E2187F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1CC-D17F-4575-8B71-CDA0D64F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739-D4A2-4C23-9BAA-952BCD16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FAC-49E7-4B79-BCA8-EA908561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A02-BA1A-4A14-AF49-00CDAB74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19F-7637-4B71-AC9F-34136558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6C0-C5E3-41F4-A5AF-A825CF6C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03B-EA22-4E82-B0AB-825737B2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502-7162-419A-8FBA-1275E5C3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E8BA-A7C4-4F1D-8248-58447DF9C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9 Víťazom v boji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dá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a dal sám s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mňa i t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||: by mannou z n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sýtil nás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om v boj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už odev chys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čisté rúc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vostne zdobené.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v ňom je naš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ása večne is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krvou jeho bolo zbiel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rúchu sp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nebies kr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na večné čas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vojsť dá Pán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om v boji Pán život d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ub večnej sláv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pozemských krá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smrť už nik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ude mať pr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ončí sa hriec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trap bôľny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to vždy bde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ožiu moc ver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k víťazstvu spej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Pánom vpred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íťazom v boji nič už neuško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 z Božích rúk nemôže vyrvať 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voji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stou spásy verne vod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zlobou chráni die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asoch zl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boji časn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stve vzác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v domove krás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ta ich Pán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ťazom v boj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á zo skrytej mann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, čo raz sám s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lebom stal pre n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lad duše stíši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požehna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učí nás ž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darov nebesk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0:56:00Z</dcterms:modified>
  <cp:revision>22</cp:revision>
  <dc:subject/>
  <dc:title>Je veľký náš Pán, on slávy je Kráľ Nech do všetkých strán  spev vrúcnych znie chvál.</dc:title>
</cp:coreProperties>
</file>