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DBCF-27DB-46AC-A795-7C780E01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5662-D76B-4D7D-BD09-E7F17931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E8A6-5515-460D-8482-576E43F28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AC18-37A8-4784-95C5-B9686331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BAFD-5F61-4B7B-B115-AFE3462E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A4B7-3B85-4D92-AE19-B6E12133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ED61-F391-43D5-842D-A5FD056D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619A-2CF6-4B14-A656-5E964D8A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2033-FAE7-497F-8EEB-5E19C649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877E-C7A5-46AA-B40D-C175555F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C97D-843B-4032-AF78-FFF0B727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F698-D68B-40CB-8FE4-6851606D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95A4-49BC-4505-AF67-A500A92C1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35 Stále ešte Bož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y trvá č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ále ešte Bož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y trvá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osť Otca náš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ráni dosiaľ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y veľkej priaz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áva svetu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tvoril nám svoj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ruč doko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ým len žiari svetl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avdy Božej v tmá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pohltí svet ná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epasť bezodn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Boha sa strác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mysel živo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je naša náde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y istot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mrieť s Kristom zisk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ť bez neho stra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tvoril nám prístup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trónu v nebesia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rť raz navždy stra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ládu nad na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on povedie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y brána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tkni sa nás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tvor duše zrak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om svojím odv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chybností mra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ovom pravdy povzbu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re ukáž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tvoj ľud s teb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veky žiť sme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9:59:53Z</dcterms:modified>
  <cp:revision>31</cp:revision>
  <dc:subject/>
  <dc:title>Je veľký náš Pán, on slávy je Kráľ Nech do všetkých strán  spev vrúcnych znie chvál.</dc:title>
</cp:coreProperties>
</file>