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C91-922C-47C4-8083-7A420265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281-81E9-4E06-8284-16A89CC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20A-56BD-4C58-BFF9-5C67396B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81A-C138-48BD-AC96-3B235328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C2A-6942-4F3C-BA24-22D2EBA9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47C-9D29-43FB-AD23-151A619E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C8D4-12A1-402F-84A5-515BE8D8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D0C-A9CC-46B9-AE82-C59F85C2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563-B495-4EEF-A084-A3776898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06F-658A-4BA9-A94D-DD08B96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F1C-BC0B-455B-B270-29F24EE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0A7-508F-47B7-894C-0FE68FB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6561-FF21-4C71-8E77-A4643996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250 Nádherný nebeský 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ý nebeský Sio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ie si len krásny se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ja raz so svoj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í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 Pán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veky býv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vždy viac ja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moc tam nebude žiad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ani lúč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potom Boží ľud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vždy viac ja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blízkosti Božieho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i ja miesto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zástupe spasených piesň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m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chválu vzd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mesto nádherné, svä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úbený domo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vždy viac ja túži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rieť úchvatný obraz tv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34:12Z</dcterms:modified>
  <cp:revision>22</cp:revision>
  <dc:subject/>
  <dc:title>Je veľký náš Pán, on slávy je Kráľ Nech do všetkých strán  spev vrúcnych znie chvál.</dc:title>
</cp:coreProperties>
</file>