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191-AFCB-46D8-8A96-918C46AC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30B-39C3-4DEA-91D5-5CD847FE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170-74A6-4448-8C77-A3FC9BBD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A96-9601-49C8-8DCA-10BAFF0B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9F8-7103-4CA0-838B-219F7E68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CEC-BA18-433B-B7FB-5CC7E0C4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763-D0D8-4691-974F-4BC68038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A82-31AE-44EC-B102-F1EC430E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E91D-FB14-4637-B6E8-216F4B73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01E-8960-4337-A90C-3C029157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A39-67B0-45BE-BB8B-02C4BD2C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F8F-66DF-4B39-B2C1-BDA2C125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CA16-FEA3-4C6B-9034-106FA2DB56C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0  Úchvatná lásk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iaľkou blíz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chvatná Lásk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iaľkou blíz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tebe sa krstom priznáva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uj mi sám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ávam ti, P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rúcnu chvál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v tebe spásu poznáva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uj mi sám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ťazstvo kríža smer mi d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ceste úzkej k výšin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uj mi sám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úzkostiach, tiesn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útku, žia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techy žriedlo buď  mi s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uj mi sám.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úžiaca Lásk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staň pri m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 tvojej službe vytrv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/: Ty smelú vieru doviesť ráč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cieľu a nádej bdelú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uj mi sám.:/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3T19:46:57Z</dcterms:modified>
  <cp:revision>23</cp:revision>
  <dc:subject/>
  <dc:title>Je veľký náš Pán, on slávy je Kráľ Nech do všetkých strán  spev vrúcnych znie chvál.</dc:title>
</cp:coreProperties>
</file>