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D2F-0719-4A7F-879B-95493E52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43B-5C1A-4588-807D-D382611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9D7-1BD5-47EE-BE6F-234F4AE9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FC0-717B-4EE9-9DCF-A598345A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512-F371-4CC7-859B-8E0DA12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68C-E4BD-4793-96E2-1C0D92F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9FE-D7A0-493F-97B6-0BA9205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799-E287-4591-9C98-FA3FFB7B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2A1-C4EC-4FE8-8386-831CF94B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5EB-BF9D-4AEF-B9DA-E205B96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A3B-AF35-4FAA-B750-66D65D0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13E-DB9E-40DB-9285-5713093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9C0-F910-46EF-9D03-075C03ADF59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1 Ó, svätý, Bože, Otče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svätý Bože, Otče všemohúc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voj ľud sa blíž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tebe s pokorou,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tvojej lásk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lameň nehasnúc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ája vždy v jedno týchto manželov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ruj im radosť, pokoj duše stá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ieč rany, utíš každý srdca bôľ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, aby v láske verne zotrva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by si ty v nich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ávený bo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07:07Z</dcterms:modified>
  <cp:revision>72</cp:revision>
  <dc:subject/>
  <dc:title>Je veľký náš Pán, on slávy je Kráľ Nech do všetkých strán  spev vrúcnych znie chvál.</dc:title>
</cp:coreProperties>
</file>