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30C-A09F-4594-B107-6C095EF0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CE2-E821-4205-970B-551F9F9E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7DBF-8F88-4D87-A428-6895A6D1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A845-9418-472E-AC03-BF40C962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0C36-494B-4A91-BAF0-2E52BF71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DA03-0DAA-4CD9-B808-5E7E78FB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FA17-23BA-498A-9D44-6DF28693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EECE-4A2D-4842-96BF-46F9D2C9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6D6-C643-4773-B310-E1A14302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A21C-6942-4B05-BB77-D1E9984D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0293-E329-483B-84CF-55ADDCE1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41F-7728-4DFE-8AAD-055BA665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BF2E-22D9-46E8-BEE1-80DD6A6B3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3 Spojme hlas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 piesni zvučn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ojme hlasy v piesni zvučnej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náš spev sa nesie v diaľ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nejte tóny ľubozvučné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šetko tvorstvo Pána chváľ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svojej nekonečnej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pasiteľom nám sa sta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me vďačne meno j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a všemohúce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ávy neba vzdal sa pre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otcovský dom opusti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ríž on niesol namiesto ná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lhy naše zaplat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ním sa začal slobody čas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äzňov z rabstva vymani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Slávme vďačne meno j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a všemohúce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šou vinou strašnú trýz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lásky Pán na seba vzal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omrel za nás, na tretí deň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 hrobu ako víťaz vst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ým nám, ľuďom, novú pieseň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ť spásy daroval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Slávme vďačne meno jeho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ána všemohúceho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13:49Z</dcterms:modified>
  <cp:revision>8</cp:revision>
  <dc:subject/>
  <dc:title>Je veľký náš Pán, on slávy je Kráľ Nech do všetkých strán  spev vrúcnych znie chvál.</dc:title>
</cp:coreProperties>
</file>