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931-26A3-4800-9AB0-6AC112C8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243-27C4-492D-B258-CAC97ADC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6E3-8C5E-49D0-A581-E435EC4D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EA6-036B-48AD-9B9C-FB4A4DD5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355-0B2E-4C41-A401-1E011D3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2B1-AEAF-425A-B1B1-762B007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747-B6B6-42C1-A933-31460776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749-0EAE-4186-806C-FCE7EED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273-1F12-4C18-AAC8-24D0BF4C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3D5-57A5-4256-BEB4-318617B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0EA-B006-4306-9E51-F850896C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45F-2047-45BE-865A-8FB5B87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9FE6-AEA4-4C8B-AE6E-C9566BEFA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1 Ty sám si nás zhromažd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ám si nás zhromažd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z milosti nám svoje požehnan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č zlého nás zbav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a len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 zástup spasenýc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osláv sa v n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búrkach si prístavom záchrany bol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z úskalia skúšok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iedol s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blúdiacich hľa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ádej si dá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láskavý tvoj hl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prevád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s láskou ti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vzdávam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z úst našich zn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a nepre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nie sme tu s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, Pane, si s na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š si smer i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náš Spas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17:51Z</dcterms:modified>
  <cp:revision>21</cp:revision>
  <dc:subject/>
  <dc:title>Je veľký náš Pán, on slávy je Kráľ Nech do všetkých strán  spev vrúcnych znie chvál.</dc:title>
</cp:coreProperties>
</file>