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513-2626-483B-99A1-3D7A8B4D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6F2-4EB4-414A-B464-81E25E6C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5EE-0B68-448B-BB05-84657341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754-3981-467D-B03A-707A5EC7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5AA-24A9-4CEF-A792-83A32952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013-6020-4974-9C31-53207DE9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38B-7886-419D-AD71-08E995A4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71B-3E0E-4C56-8C0B-A318E6D5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C89-02F4-44B0-AC13-C72C9732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42F-8941-47BC-91B2-CD0B2C15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62E-6094-48A2-8805-9B4BF73B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0D2-7E87-4F99-9593-78B3FC5A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EACA-97E9-4654-854A-503774DFC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8 V šírom sve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amenia sa množ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šírom sve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amenia sa množ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hlasujú blízky Pánov deň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končí sa cesta plná hlož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plní sa našich túžob s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plní sa našich túžob 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, mesia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amenia už d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raz v hrôz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sa zachvel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budili sa národy, čo sp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roda už k žatve dozre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roda už k žatve dozr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z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o domo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a nádej už sa napln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lní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sľúbil v svojom slov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í svoj ľud žiaľov, tráp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í svoj ľud žiaľov, tráp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priamte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odvihnite hla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vzbudzuje Spasiteľov hla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a blíži víťaz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víta nás nová, večná vla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víta nás nová, večná vla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9:36:36Z</dcterms:modified>
  <cp:revision>9</cp:revision>
  <dc:subject/>
  <dc:title>Bez nadpisu</dc:title>
</cp:coreProperties>
</file>