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2E7-A3BF-4E86-BACA-A13C88C9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349-9EF4-4A07-BAE3-D6AF6177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CAA-CA9C-44B8-98F0-52F836F9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8D9-537B-4D37-A48F-368A0758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37F-A52A-4677-B5ED-1E84CE1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5E0-D7B7-4836-B5BB-7C885D8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E5D-C69F-4EF5-94F7-0745CE15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E01-B7AC-4F37-BFF5-B567DCF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4B4-9975-44D5-A914-FD798911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F9F-0311-4837-BE4B-EEBA843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FBF-6BF1-4551-A0E0-4ABEA9A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14B-B66A-4608-887A-2EFAC830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FD94-02C1-40D3-9219-8AF8233D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8 Len môjho Pána spravodliv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mô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avodliv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vadobného šatu skv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rúcho on mi daro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, aby som s ním veče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j náde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yzná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om blúd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ohokrá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jeho kr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zmyla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at môj je belší než sn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okušeniu odol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každej hriechu poha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a moc ma ochrá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 prachu z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kriesený raz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riem tu krásnu novú vla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kloním kol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Láska večná, bezmedzn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5T11:21:29Z</dcterms:modified>
  <cp:revision>36</cp:revision>
  <dc:subject/>
  <dc:title>Je veľký náš Pán, on slávy je Kráľ Nech do všetkých strán  spev vrúcnych znie chvál.</dc:title>
</cp:coreProperties>
</file>