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173-DB45-4A78-92FC-AF4DD309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517-35ED-4A28-B9AE-689DEE58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21B-AA38-47B4-96F9-E5E00DCD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D89-9A7F-4AD0-8ABA-C7035984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C7E-F9E3-4158-819D-C67108A9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C86-E668-4F89-B140-8493F80F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40B-786A-4D73-A442-F721BE2D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DE1-41B0-4C3C-B5F7-62D36415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DE6-3B98-45E5-9FCD-AC4E72F7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084-0D4A-42F1-8774-401D296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3F5-1726-4866-BA81-B4C41C2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F3C-8CBB-43C3-8D36-1247ACA5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914C-1046-43C3-9A5B-E397FC10A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0 Vďačne každý Boha chv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 každý Boha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m všetko dobré d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vod všetkého je v ň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slove tvorivo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ie, chráni, živ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 nad nami v každý č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droj nášho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om, mysľou ctime 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cu všemohúceho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milosť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droj nášho život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5:43Z</dcterms:modified>
  <cp:revision>30</cp:revision>
  <dc:subject/>
  <dc:title>Je veľký náš Pán, on slávy je Kráľ Nech do všetkých strán  spev vrúcnych znie chvál.</dc:title>
</cp:coreProperties>
</file>