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552-77FA-46F9-9A15-C37BEDA8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6D8-6BEF-47FB-90AA-152386F7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F9D-8A49-452F-B789-7CB2F19D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194-DCAB-4881-BC6A-D84628E2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8BA-A77D-415E-AF6D-3D15540A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4A6-98A7-46BE-8D9B-68A7CFD4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254-0D0D-4360-B878-4588D61C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E4E-6DD7-4A41-865A-87C88825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2C5-3881-4D88-82D8-9A0D682F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753-042C-45DB-8BD5-6A3D067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094-5525-40DD-A565-D82134B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102-B6F0-4484-A18A-834203F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291D-71EE-44D3-BF5B-6B4BCCB29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0 Reč tvoja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tvoja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tály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štítom pravdy odol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viery dobrý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tvoja svetlom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u hviezdou ná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 bludných, hriešnych sveta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k tebe dove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Pane,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 stá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boji časnom uveď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ečnej rad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5T11:32:24Z</dcterms:modified>
  <cp:revision>19</cp:revision>
  <dc:subject/>
  <dc:title>Je veľký náš Pán, on slávy je Kráľ Nech do všetkých strán  spev vrúcnych znie chvál.</dc:title>
</cp:coreProperties>
</file>