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D0F-A492-4688-B12D-C904B024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C95-713B-428C-B731-1DEF4B75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DF54-FDE1-4805-A58C-01A67848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196-C13D-47F8-8F05-6A67701E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B20-714A-4AC0-A3B5-6FA49146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AA2-BC63-4FFF-9C51-69E9C86C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8C6-48D8-4893-B24F-C53850B6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856-7A4A-49FB-BF54-0ABADF54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C906-3E04-4102-8228-C3C1E987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E9B-FF5D-474E-ABFE-B7F22EA9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B19-D899-4434-944C-872FB992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0E13-33C0-434F-BDE5-7D7F35E7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3EDC-6CF1-4EC5-8A89-38FA1EA86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60 Moje srdce stále túž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je srdce stále túž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tebe môj Krá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ti verne, ticho slú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ty si slúžil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vďačnosti a z lásky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 tebe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stierom keď ty si moj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usím sa nikdy b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dieš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do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í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4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chceš aj pri mne st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vďačnosti a z lásky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 tebe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za mňa mrel na kríž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u mám v tebe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raz viac sa preto blíž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ebe celým srdcom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vďačnosti a z lásky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 tebe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ti, drahý Spasiteľ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vot celý zasvät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m, že dovedieš ma k cieľ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áš mi večne s tebou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u v tebe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vďačnosti a z lásky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 tebe d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05:33:08Z</dcterms:modified>
  <cp:revision>20</cp:revision>
  <dc:subject/>
  <dc:title>Je veľký náš Pán, on slávy je Kráľ Nech do všetkých strán  spev vrúcnych znie chvál.</dc:title>
</cp:coreProperties>
</file>