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C98-8707-4DAA-9747-DEDE8B84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E65-B51B-48F8-A2A0-7D6821E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6EC-374B-4560-A49D-DD388B56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4DD-C670-4B07-BB4E-99579843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EF4-3B6A-46F2-8A2D-11C3F09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740-714D-4337-9C29-F5A7F32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CBA-795C-4A3B-8B1E-D1CD9DF3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027-F7D4-420A-A9F1-463C97C0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DEF-2BB8-40DD-8FCC-2D35D27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817-6EF2-4394-AAB6-DB15FB7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C53-75C4-402B-AD42-A08B287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B24-3944-4E34-BBAF-356AAAE0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AEE9-8476-4EB9-949A-98C792E09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4 Tvoj návrat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návrat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s túžbou čak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, v žiaľnom sveta úd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ešte dlho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bude panov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drahý Pane, príď už,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erných domov vz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tvoju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ť lásky tvoje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ývať s tebou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túžbou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rahý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eprestáva lk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krásu, ktorú strat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, prosíme, zas vrá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21:44Z</dcterms:modified>
  <cp:revision>5</cp:revision>
  <dc:subject/>
  <dc:title>Bez nadpisu</dc:title>
</cp:coreProperties>
</file>