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B55-FA37-4DFE-8B17-8601BCAD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CBA-134E-4BC3-8590-ECE8D9A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D76-4040-428A-B323-8093C050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5AA-F80B-4330-86EB-D2521CBA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2B2-6286-4152-AC03-1FA8109B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698-485B-4AD3-8503-ACCB3918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94D-0E71-4FAC-8284-AB05358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94D-2F07-42CD-A9F6-6020CC33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F64-FADA-4D51-B3F3-40092617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DFF-B881-4378-ABA3-D6CA3CC1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B54-2E46-4DE0-ADFD-FFEAE9DB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0DD-8AFE-45CD-92BA-2D9756A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1C4-989C-45C0-B990-9A98265555C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6 Ja chcem ti, Pane, slávu vzd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chcem ti, Pane, slávu vzd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chválu v tento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dôkaz, že ma miluj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dal si mnoho rá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vďaka ti za schopn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od teba som vz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teba nimi veleb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Spasiteľ a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m sluhom tvojím, Pan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 slúžiť ľuďom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pomôž radosť šíriť vžd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ť podľa tvojich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bez teba som úboh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č nedokážem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stále verne pri mne st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prosbu k tebe m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11:44Z</dcterms:modified>
  <cp:revision>50</cp:revision>
  <dc:subject/>
  <dc:title>Je veľký náš Pán, on slávy je Kráľ Nech do všetkých strán  spev vrúcnych znie chvál.</dc:title>
</cp:coreProperties>
</file>