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D7C-DA7C-4D94-A356-12177DF9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B0D-80E1-4416-82E5-725641A0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C1A-8CDF-4DDA-A130-4CDAB4C6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F01-CBD2-486A-A784-FF449EF9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B4D-2F4D-4C1E-92C5-D631D03E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B12-2E60-49EF-B5F5-74EE29EB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2C1-3655-4840-AB88-5C56998F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63A-89B8-4B70-A5DA-E0821D67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3C7-841C-48FD-BC6E-2C33A5A8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4FE-B7F0-470C-B80B-4F5ACAF6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143-B400-4207-B0B5-2538FF3F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45B-B29A-49E8-B05F-D9236DB0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5C87-C638-4B99-8CD5-428040067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0 H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a toto zhrom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en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ľaď na toto zhromažd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tče v láske bohat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me spol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vojom me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nás Duch tvoj posvät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vode živej z nebies tró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j dnes svoje deti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by nikto z tvojho do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odišiel smädný spä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tvojho Slova počuť chc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ásnej pravdy jasnú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ktorú až do končín z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moci Ducha máme ni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si naše útočiš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áštita, náš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s tebou zvíťazíme 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y si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, spása, c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6:57:19Z</dcterms:modified>
  <cp:revision>22</cp:revision>
  <dc:subject/>
  <dc:title>Je veľký náš Pán, on slávy je Kráľ Nech do všetkých strán  spev vrúcnych znie chvál.</dc:title>
</cp:coreProperties>
</file>