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DF60-AB6C-4E7D-80AA-47B1F2C95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6FE0-6613-4CD7-B805-CC6A3019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161D-2FD7-4D65-83A9-E5473F209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45C3-5A02-4072-B0BA-AEFE4CD7C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B799-09BF-449E-8AC5-DF36C579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C576-AA0F-4D5A-A7F7-2B882E24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F004-B463-4CAB-8754-B8E6B2E1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EA1E-1ED9-4E17-ABBD-28AEAAE6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C466-6C29-43FC-97D3-85E0AC5F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95BE-C937-4CA9-921A-941B262D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430D-9A53-4544-8F48-82E30EED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8A28-B81F-4385-BC5F-94BC7E1F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64AB-6F08-48B4-BDA3-7954F451E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00 Často zápasíš s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z to pochopíš sná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ťa Pán vždy má rá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on za teba svoj život d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ľub svoj on vypln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ných sám odmení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o z lásky mu daj na oltá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l si Spasiteľov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mal si mu dať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Pánom on tvojím sa stal?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Šťastný vždy môžeš by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íťazný život žiť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keď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mu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rád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všetko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dáš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na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oltár.</a:t>
            </a:r>
            <a:br>
              <a:rPr sz="47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asto zápasíš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vzdory sklamania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a stáť nechávaš opodia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arosti tvoje nie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vždy ochotný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vot svoj jemu daj na oltá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l si Spasiteľov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mal si mu dať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Pánom on tvojím sa stal?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Šťastný vždy môžeš by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íťazný život žiť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keď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mu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rád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všetko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dáš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na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oltár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áčaj len za Krist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č sa žiť ako o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ďačný buď za každý jeho d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užbe ho odovzd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rpiacim pomáh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eba daj Pánovi na oltá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l si Spasiteľov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mal si mu dať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Pánom on tvojím sa stal?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Šťastný vždy môžeš by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íťazný život žiť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keď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mu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rád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všetko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dáš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na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oltár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5T12:12:41Z</dcterms:modified>
  <cp:revision>21</cp:revision>
  <dc:subject/>
  <dc:title>Je veľký náš Pán, on slávy je Kráľ Nech do všetkých strán  spev vrúcnych znie chvál.</dc:title>
</cp:coreProperties>
</file>