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8E8-80EE-43F4-947B-469623AB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270-FB00-4FEB-84F6-014AC9AC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380-EFD0-4080-A033-5B3656C7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5F7-B3DE-4BDB-842A-5F3AF71B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8A8-99DD-4ABB-B719-A5C29008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DB4-2060-4D1B-9071-D6D7B00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8C7-05F3-4BD5-96A2-7C79357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C4E-9A10-4495-ACF9-2FE8F261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C9F-C3A8-4E9B-9732-F699AAA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409-C14B-4B73-BB58-5B845CF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93F-FDC8-4B33-965B-B2261B0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56E-35C6-460A-B0BD-FC0116CF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F43F-B946-4C84-A9F0-8DFCDA33C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8 Boží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hlas, Boží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ýva ťa,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e veriť, dúfať smel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e veriť, dúf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konať jeho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dokoná v svoj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Pánom len, s Pánom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j stále, 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slúž vždy odovzd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ch čokoľvek sa 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víhaj viery pocho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čo chcieť, prečo chc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úšti sveta biedne mrie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Pán z výšin slávy 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šiel vykúpiť aj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eky ho môžeš zr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cieľ, spásy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kázal ti Spasit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n slávne vyšiel z hrob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olal diabla moc a zlob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i raz s ním žiť sme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17:10Z</dcterms:modified>
  <cp:revision>21</cp:revision>
  <dc:subject/>
  <dc:title>Je veľký náš Pán, on slávy je Kráľ Nech do všetkých strán  spev vrúcnych znie chvál.</dc:title>
</cp:coreProperties>
</file>