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0B2-F7DC-4F62-824B-68C7C926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E09-26BF-4A74-9FAE-6093BD5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954-AFE0-42B9-887F-DEF075B1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CA1-3BF7-468E-9ADF-E6848D4C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77F-3CAC-4AFC-91BB-3721C396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497-D6EE-4BC1-B242-29CBF2D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E9B-797E-4AD8-A7B4-286E2E6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47B-10DC-475A-A91E-426212D4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B7F-0AED-4F67-B837-479DE707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E46-4951-4ACF-9527-F9D9C6E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0BD-44C7-40D7-B74B-66438F8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1A3-2B38-453C-A2AB-10B86A1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983-FF6A-4696-9DF2-0EF78F838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6 Ty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lásky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z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tovan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Bože lás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e zľutov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slať ráč s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sti nám d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pred pád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e ruky chrá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šade predchádz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a tvár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 svätej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mocne p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ezmedzne blíž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ilovať nás uč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to by pad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ôž mu, nech v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duši mu roz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jasnej viery l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o srdce tvrdé často bý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pozná sú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ce odpúšť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meň ho t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meno tvoje vz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 krivdy ho nauč zabúd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sa nad nami denne zľutová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;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kiež my ťa za to stále chválime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ocnú ru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mu rád dá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ás to nau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e, prosím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13:59Z</dcterms:modified>
  <cp:revision>22</cp:revision>
  <dc:subject/>
  <dc:title>Je veľký náš Pán, on slávy je Kráľ Nech do všetkých strán  spev vrúcnych znie chvál.</dc:title>
</cp:coreProperties>
</file>