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42C-9140-456E-89EA-B8039FA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7ED-602B-46A9-B9E5-A655075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46D-7F8F-4E7F-9BCA-58C382F4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B50-FD16-4BDA-81B7-6EC560E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188-A4CC-461E-B7D9-C50A977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13F-E626-42D2-8921-A2D6E1D6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E8C-9323-433B-A229-BDCA688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BF9-1304-49C8-BB01-703D035A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559-7A6B-4B33-9F78-C1E6653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706-F0FC-49F8-8DCB-B2C18EA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A13-C680-438B-9554-A3B127F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EF6-8FF6-45A6-90E4-1D8BB34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085D-89CF-486C-8CFA-84196873B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2 Spasiteľ môj, prosbu m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prosbu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tebe len sa utiek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iedny som a strápe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eba som strat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úrke žitia veď ma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eba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chry často bý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ou mojou zmietajú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ny zúriť prestan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tvoj rozkaz dosta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u len v tebe m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môj, veď ma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keď breh už blízko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ozivé je úskal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eď tebou viesť sa d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stavu doplá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hlas t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počuť smiem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j sa, ja viesť ťa chce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7T15:44:04Z</dcterms:modified>
  <cp:revision>21</cp:revision>
  <dc:subject/>
  <dc:title>Je veľký náš Pán, on slávy je Kráľ Nech do všetkých strán  spev vrúcnych znie chvál.</dc:title>
</cp:coreProperties>
</file>