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A9A-E2B2-4917-81E5-F27075F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235-58AA-4320-9222-6AB18D8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3BE-EEED-4B41-9946-52A8E553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6BA-CA04-4A54-B402-D7462A35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994-0322-43E5-B70C-B65322B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5FA-2D46-44B6-91AE-E654204B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A66-F627-4CAC-AF82-1BDBBFD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9A4-2F39-4E9D-8F0D-E86F74F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378-6BE4-4ACD-AED7-AA66B6D2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E46-3447-413A-8F92-2E5BBC4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E1F-BE45-4D7C-AB5D-75F1E3E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3C7-47EA-490F-B0DB-1987515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D01-C1FF-4167-9F37-E470E1D2F16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5 Dom ten je vždy požehna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m ten je vždy požehnan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torom láska preb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sŕdc Bohu odovzdan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ý spev sa oz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a všetci svorne s lásko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ia Pána poslúch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býva tam vecou ťaž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ni krivdy odpúšť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rád žehná také de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ctia si rodičov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na jar svieže kvet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mova sú ozdobou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27:13Z</dcterms:modified>
  <cp:revision>76</cp:revision>
  <dc:subject/>
  <dc:title>Je veľký náš Pán, on slávy je Kráľ Nech do všetkých strán  spev vrúcnych znie chvál.</dc:title>
</cp:coreProperties>
</file>