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91A-2D05-42BD-9707-90A13DC3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5D5-318C-4A2A-BBCD-3E47AC37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D1C-1089-4725-9DBA-05B3C615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121-B72A-4449-88F8-15A06426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84C-1341-4388-BD51-8208E2B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1D4-128B-4001-A832-429AB03F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96C-AB4A-427E-A40C-D052ACC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057-B4A8-478E-A6D3-3134DC28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2C0-D712-490C-BA5F-AF6B867D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162-1C66-4237-9C16-191E28A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19-32DA-4A01-89F0-E0C06B4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481-E4B1-47B9-A93C-925CFCC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EF87-1759-466F-ACC0-35A9B43E3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2 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m k nebu zalet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žim k nebu zalet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asiteľa uvid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, kde v bránach dom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 nár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Otc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žby moje letia v 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je on, môj Boha a Kráľ.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a k nemu privin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jeho láske s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udzinou je táto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mov, domov túžim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, kde Pán môj láska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esto aj mne priprav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esmierna to bude sla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mieť tú krásnu uzrieť vla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ôcť v tej ríši rad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ložiť bremä star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ymny chvály, rad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ť budem z 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Pán Boh bude sám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lnk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vetl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chrám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ná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de Kristus,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vojej sláve dá mi d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uje mi z 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úcho spravodliv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44:02Z</dcterms:modified>
  <cp:revision>21</cp:revision>
  <dc:subject/>
  <dc:title>Je veľký náš Pán, on slávy je Kráľ Nech do všetkých strán  spev vrúcnych znie chvál.</dc:title>
</cp:coreProperties>
</file>