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D59-6666-4356-8B31-D85BFDC5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716-576F-4690-9F74-C7537D96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180-7D66-454C-9F3B-B5520B83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7B1-A0A4-4ECE-83A6-A64086E1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7B6-2D1F-442F-845F-2308130C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EFB-189A-43DA-9DBE-50B68B71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CCB-1F61-450F-8A04-7DE44F2E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A7C-5412-4219-894C-9C7E9B93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6AF-4D37-4F84-B008-F59717D0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255-2D5E-48F0-AA4B-02E2F09A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6B1-0888-4F8B-85AC-3AD79FBD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E3F-3C91-4F93-A698-36760E1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3FB7-1E19-47CA-8F2E-9301155F7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3 Keď sa vôkol búria živly desiv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á iný ruže a ty tŕnie l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aj na Božie sľub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nemá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nad Božie dieťa šťastnejšieho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Pán 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už si vz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om ťa požeh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tvojom zaznie nová pieseň chvá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vôko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úria živly desiv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bavy keď dušu trápia tiesnivé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é Pán 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ňou vďaky znova prines obeť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Pán 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už si vz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om ťa požeh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tvojom zaznie nová pieseň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ažké bremä keď ťa k zemi stláča sná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je ľudská pomoc már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ebu hľaď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y da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zdáš Bohu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rád každú star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e ti n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Pán t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dary, ktoré už si vz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čítaj všetk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čom ťa požehn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tvojom zaznie nová pieseň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2:30:24Z</dcterms:modified>
  <cp:revision>21</cp:revision>
  <dc:subject/>
  <dc:title>Je veľký náš Pán, on slávy je Kráľ Nech do všetkých strán  spev vrúcnych znie chvál.</dc:title>
</cp:coreProperties>
</file>