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981-8EC6-4EDD-9523-0B1564D7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C10-CAEB-438F-A3E8-6B874F36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15C-95AB-45A2-B85B-CFCFD7F0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D02-5C18-4DA0-9F45-777A6530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A87-B57D-4B33-AED8-D58C8AD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A39-0F59-48B1-9B50-E30E2E74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7EE-52D3-44C5-B244-6EFF7F7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88-3D4B-4DFE-A5BC-CC9F1B89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2FC-F25B-4AEC-9F9F-41A35B2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AB7-AE4D-4FA5-BF84-90B19AD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527-6054-4BDD-BB92-9AD5742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856-6E47-44F7-9948-CC31D38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43B0-1084-445A-8C84-3D9DC207FCE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3 Buď, Pane, so mn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, Pane, so m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sa chýli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mnota hust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 mi pom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sť ma tiesn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ôľ mi zviera hru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ca môj ver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 mne stále buď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y si Skal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ho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útočište v chvíľach súženi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radcom v ž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om tráp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techa moja z teba pra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ty si so m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č sa neboj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strachu pôjde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sĺz údolím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osteň smr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ob kde kraľ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, Pane, vernou lás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ýchlo sa kon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ho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áva i radosť miznú ako sen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sa mení, všetko zani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zmien si len ty, Láska odveká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32:49Z</dcterms:modified>
  <cp:revision>57</cp:revision>
  <dc:subject/>
  <dc:title>Je veľký náš Pán, on slávy je Kráľ Nech do všetkých strán  spev vrúcnych znie chvál.</dc:title>
</cp:coreProperties>
</file>