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F5E-E9A7-42BA-B4B2-9A070C65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417-39B6-4EA7-8479-12EEFFA7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62F-7290-47F2-8C1D-0DD255BF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4CD-14D5-4606-807F-F8B73E2A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09D-ECFF-47F5-AE11-31F6194C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5C2-69CC-42DE-AE7D-F6D0659A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05E-2A55-4A9C-B8AF-C3D51842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DCA-57AE-428E-B64A-50A8CDD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CD3-C22D-47EC-8E5C-2E19D505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D9F-A685-49F6-9422-1C007A1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D0F-A207-4CED-B454-3B6B727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9F5-78F5-469C-A4BE-301EDEA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638D-FF4C-4E56-8321-1A5332597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7 Tebe len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a ti viac podob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naveky byť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blaha v tebe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a ti viac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hriechu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celkom oči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v tebe sily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avej veľk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ojom zria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s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a ti viac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,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tále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ojich túžob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 tebou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Svätým prí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života ma sý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09:38:46Z</dcterms:modified>
  <cp:revision>20</cp:revision>
  <dc:subject/>
  <dc:title>Je veľký náš Pán, on slávy je Kráľ Nech do všetkých strán  spev vrúcnych znie chvál.</dc:title>
</cp:coreProperties>
</file>