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EB9-D0E7-4354-A7FC-2F45CEF0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FCA-9169-4236-AC1B-09B5E5E3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54F-D0C5-4DA7-93FC-C27A3583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359-B6A9-428E-8B95-905315FB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639-1B83-4B53-B623-27972437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168-55EF-449F-8519-375AFE2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8D1-B260-425C-86C0-9052C71E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471-22E0-4ADE-B1E3-5241EDD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AC1-B28B-497B-868E-39725FEF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8FC-498B-4ECF-A30A-87063715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209-EF51-47F4-865C-0E17E65A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443-F5FD-410B-949D-4B78EEF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2F54-5BE8-4A7E-AE6B-D15116C83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2 Z lásky zdroja svojho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lásky zdroja svojho,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laž naše srdcia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kvitol požehn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írošíry sveta 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om svoj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ud svoj zvla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ej vlieva Slovo t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ši hriechom zmámen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ťazné viesť pomôž b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zbroji Ducha bezpečn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rž nad nami stálu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, ty si večný,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y svoje nemen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tvojej vzácne da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ojím rozhojníš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sou z n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ud svoj zvla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ojím, Bož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sob mocne, srdcia zm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ľud tvoj láskou spä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 chválil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júcich rád prijíma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2-05T20:56:08Z</dcterms:modified>
  <cp:revision>18</cp:revision>
  <dc:subject/>
  <dc:title>Je veľký náš Pán, on slávy je Kráľ Nech do všetkých strán  spev vrúcnych znie chvál.</dc:title>
</cp:coreProperties>
</file>