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1F2-FFF7-4911-958B-86269E44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93E-2FDD-4F0D-9F80-57B74B92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ECE-280E-447F-A844-84D36E89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CB1-8DCE-4E82-BBA0-6BED10D1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4E2-E217-4415-978C-8058CEBA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170-1ABC-4E19-952F-90023687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E1E-DEDA-4FF6-820B-7A04F980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D95-1EE1-4982-BF53-59DDB23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7F1-D01A-4CD5-B465-0B7F74B4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F10-0AEB-4BEC-99A6-41618A5A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5B7-1FA5-43B3-91E9-71F06A9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3D9-3882-4A69-A7DE-2F2F351D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789F-AD5F-4196-A6BF-91841F9E3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3 V dôvere sa utiek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dôvere sa utiek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ebe Pane Ježiš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úrkach žitia v tebe m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rýšu, pomoc najbližši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chrov príval upok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oďku moju k cieľu veď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mrak zastrie výhľad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ovom pravdy do tmy sv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ieťa svoje, Pane, chrá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mojej spásy hra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e Slovo – moja zbra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stvo ráč sám m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laňou svojou zaštíť m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úzkostí zbav, hriechu pú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eď vôkol hustne tm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jím vodcom, Pane, bu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o, čo treba k život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hojnosti mi dávaš s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aľ i bolesť, samot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vojej sile preko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ebe plnosť svätosti,</a:t>
            </a:r>
            <a:br>
              <a:rPr sz="4800"/>
            </a:b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mňa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však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premôcť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hrozí</a:t>
            </a:r>
            <a:r>
              <a:rPr b="1" lang="sk-SK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700" spc="-1" strike="noStrike">
                <a:solidFill>
                  <a:srgbClr val="66ff33"/>
                </a:solidFill>
                <a:latin typeface="Arial"/>
              </a:rPr>
              <a:t>hriech,</a:t>
            </a:r>
            <a:br>
              <a:rPr sz="47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ma, Pane, z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čisť, uzdrav, zbieľ jak sne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be moja istot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si jediný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lieb a vodu živo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vojom Slove dávaš 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, Pane, z 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e srdce dávam rá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len v tvojej blí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a môžem radov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6-29T13:44:53Z</dcterms:modified>
  <cp:revision>21</cp:revision>
  <dc:subject/>
  <dc:title>Je veľký náš Pán, on slávy je Kráľ Nech do všetkých strán  spev vrúcnych znie chvál.</dc:title>
</cp:coreProperties>
</file>