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908B-F9E9-417A-8BB0-14DFE37E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F132-8D2B-4F53-B5D6-F8C60DAF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8CB1-622E-4644-B3AA-200BE07C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50F5-BFDB-486E-9A21-3CD21F4A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D5BC-E7F1-4FF1-AFF4-289D17C1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A74B-0D45-4F4D-80AB-27F879B3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2732-34F3-4881-865A-40671BD6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FE83-9086-4C84-A298-500804D3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331E-965D-4C5F-8103-CE9993DD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3B48-2574-45EB-AC81-CD63CB1A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02E7-A6A1-4D65-B212-0833DCB4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E1AC-EAAC-4E9D-8303-1F0183E2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F2AA-8549-4A06-8615-89D5DB130495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85 Čoskoro sa na zem vrá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Čoskoro sa na zem vráti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Pán Ježiš, náš Kráľ,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vezme k sebe svojich verných,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sám nám sľub ten d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o hviezdy na neb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kvieť budú sa t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vot večný kde im dá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š Spasiteľ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šetkých vykúpených k seb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si privin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mu srdce odovzdal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 lásky, úprim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o hviezdy na neb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kvieť budú sa t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vot večný kde im dá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š Spasiteľ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to každý, veľký, malý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ďačne Pána chváľ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do svojej večnej slávy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d by všetkých vz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o hviezdy na neb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kvieť budú sa t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vot večný kde im dá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š Spasiteľ s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í, čo budú pripraven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musia sa bá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edlho budú Pán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mieť už privít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o hviezdy na neb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kvieť budú sa t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ivot večný kde im dá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š Spasiteľ sám.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17:09:49Z</dcterms:modified>
  <cp:revision>86</cp:revision>
  <dc:subject/>
  <dc:title>Je veľký náš Pán, on slávy je Kráľ Nech do všetkých strán  spev vrúcnych znie chvál.</dc:title>
</cp:coreProperties>
</file>