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A87-663E-4406-A6F1-439F6857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855-912B-4C85-B390-49E5C3D3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FD9-71D6-45C7-9C61-6DAC5797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C87-B4DC-4D17-862B-2ED96E2D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E47-C92D-4BB6-B915-BE1E7328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754-E96F-4323-8FD7-4AA4C35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42E-E789-46DC-A7C1-6EEFC364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3F0-A004-487C-9906-E03B1E8E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4C6-578A-4997-AEFC-6332C528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EAA-92D8-43D8-BA26-3658E5D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F09-073D-4325-B21D-2E8DB12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D47-411F-4659-80AA-02881FE6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8FB8-29ED-4088-A7D3-6C890AAE0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4 Bohu máme vďaku vzdá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máme vďaku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ad nami strážne bd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e v svojom svät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il svetu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za to máme vz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má ľudí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máme vďaku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a s nami zhovár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ou svojou v Písme svä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raj nám otvá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e slovo dáva z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že Pán Boh má ľudí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máme vďaku vzd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zvesť jeho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prebúdza v srdci naš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ú pieseň vďa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máme zvest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má ľudí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máme vďaku vzd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m myseľ zjasň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to, čo nám dosiaľ zja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s láskou zjav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ci máme ďak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má ľudí rá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7:57:42Z</dcterms:modified>
  <cp:revision>20</cp:revision>
  <dc:subject/>
  <dc:title>Je veľký náš Pán, on slávy je Kráľ Nech do všetkých strán  spev vrúcnych znie chvál.</dc:title>
</cp:coreProperties>
</file>