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7CA1-6820-4C46-9AB8-E5F5A0F54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960C-33FA-4A2C-8B77-7AE57FC4F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B1C0-FD1F-4364-9BF2-5F8BF66AE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A7C7-6BF1-499D-8482-816BECD34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825F-301B-4C5B-A820-B7686293E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DF6B-0E9B-4D29-B477-D0B048FAB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823C-584A-4692-BECA-14AFCC29E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4960-AE5E-4E10-B06C-FF35B7EFA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C3E5-0C98-4632-BF8B-AEEDC13DC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12B2-D740-4F90-B9BA-A8D1E3C76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E9C9-FE27-4412-A2F2-14F76341A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67AD-5656-4332-AC67-0B7BE7B33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5BC3D-1FE4-455B-A484-5CE90F6F81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207 Nejedným úskalím nám treba prejsť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Už celkom blízko j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en slávny cieľ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asľúbená otčina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de miesto pripravil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ám Spasiteľ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asľúbená otčin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 ním budeme naveky ta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lnkom a chrámom kd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bude sám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omovom pokojný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tane sa ná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asľúbená otčina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ejedným úskalím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ám treba prejsť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a ceste do otčin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Útrapy premnohé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usíme zniesť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na ceste do otčin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eď však len za Pánom pôjdeme vpred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rdce sa nebud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úzkosťou chvieť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 úst našich radostný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pev bude znieť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na ceste do otčin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án sľúbil, že bud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i nás vždy stá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nad nami stále bdi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skúškach a súženiach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omáha rád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nad nami stále bdi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Hoc číha nepriateľ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o všetkých strán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môže</a:t>
            </a:r>
            <a:r>
              <a:rPr b="1" lang="en-US" sz="40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víťaziť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,</a:t>
            </a:r>
            <a:r>
              <a:rPr b="1" lang="en-US" sz="40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mi</a:t>
            </a:r>
            <a:r>
              <a:rPr b="1" lang="en-US" sz="40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e</a:t>
            </a:r>
            <a:r>
              <a:rPr b="1" lang="en-US" sz="40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án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poľahnime sa bez výhrad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ždy naň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nad nami stále bdi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6-25T22:31:09Z</dcterms:modified>
  <cp:revision>21</cp:revision>
  <dc:subject/>
  <dc:title>Je veľký náš Pán, on slávy je Kráľ Nech do všetkých strán  spev vrúcnych znie chvál.</dc:title>
</cp:coreProperties>
</file>