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5F0-56EF-4F23-A81F-FC942F65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FB4-B2D6-4520-A56B-7288C8CD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D06-EEA9-4D7D-8620-248499BA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51CE-6D07-4C0B-B962-BBC5FB20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B5B-E912-4EB0-892F-C0B1C082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2F5-6D84-48E7-86EE-DC18C5F2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BE5D-F581-4C18-A94D-1C08C509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779-12DC-4FE6-8FF9-9E6880F0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6FA-2244-4D2E-8D86-E3A05656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11B-D497-443B-A0BF-2AD39D32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678-A985-4EC2-A142-DCFF5872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2A1-19D5-47E0-864F-F1FEC593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A569-DA79-4443-9C82-BDE7208285A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78 Pán Boh sa každému do srdca dí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sa každému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rdca dí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dí, kto lásku v ň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a kto hnev skrý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blížnych miluje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Pána prac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ú má cest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Božiemu mest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sa každému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rdca dí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dí, či radosť v ň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žiaľ sa skrýv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utný je, kto je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mu dá radosť Pá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kto vždy ho chvál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v láske stá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sa každému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rdca dí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dí, kto dobro v ň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kto zlo skrýv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jemu v mladost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rdce dá z vďačn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mu on dá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ynovské práva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41:43Z</dcterms:modified>
  <cp:revision>79</cp:revision>
  <dc:subject/>
  <dc:title>Je veľký náš Pán, on slávy je Kráľ Nech do všetkých strán  spev vrúcnych znie chvál.</dc:title>
</cp:coreProperties>
</file>