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031-82FC-409A-912E-E4C506C7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E12-A02A-4EA9-9270-351A7DFB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A3A-3431-48D3-BCF8-6777F558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F6F-887D-4147-A953-531A975D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421-8059-4D5F-AF50-FD05A93E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A7B-20F2-4041-BBCD-941CF49D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3E8-73B8-4FE5-AE37-9B7804CD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3BE-A614-4DED-ACC4-F94EDD66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037-9F6A-4477-B566-E8C59D14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936-90DA-4732-87E7-A9C5AA94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350-6A56-495F-90EA-94FF47B4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461-E94B-4B08-A6D0-B8CF3799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11C0-5993-4700-BC65-196F0CAAA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4 Boh sa v Kristu sklon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sa v Kristu sklonil k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u zjavil národ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šnych dvíha k výši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večný máme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lo tejto pravdy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ete spásne posl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ho cirkev Pán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lní vrúcne, odd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keď dielo doko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ho Ducha poslal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každý v pravde stá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ako Ježiš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ležitú ľuďom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me Duchom pud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nažme sa ich k Bohu 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boli spas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ročiami pieseň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ón pre veky u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piesni tej sa pridať sm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a chvála jasav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sa učí s Kristom ž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rom lásky zahorí;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vždy môže šťastný by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mu srdce otvorí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10:34:48Z</dcterms:modified>
  <cp:revision>20</cp:revision>
  <dc:subject/>
  <dc:title>Je veľký náš Pán, on slávy je Kráľ Nech do všetkých strán  spev vrúcnych znie chvál.</dc:title>
</cp:coreProperties>
</file>