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878-B756-4D6E-8A81-F4ACC9A8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C43-DBA1-4E03-B9D6-D0537C69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EDB-BEBE-4D48-8BF6-C20AA335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420-6C26-471A-8C5F-11023F41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E71-76BF-4024-A5DD-865CD6E3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635-FB35-4A8E-B358-5DF5F206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751-1530-40E1-826A-7CEB6531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9C9-0404-4B1A-807E-510F101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A3F-AB63-4194-9974-D25826F6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1DA-CC64-42E8-BB87-BE32229D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549-ED56-42B8-B7FB-E968972C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18B-8EC1-4112-B5E7-88047725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B26E-DBB1-4FA9-B108-172A3BEBE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4 V práci aj pri od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nk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práci aj pri odpočin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je mojou piesňou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dvtedy, čo jeho lás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aždodenne pozn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desí ma starosť, t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cu spásy velebí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znie vrúcnej vďak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ies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láva Bohu na neb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 úctou anjeli ho chvál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všetkej chvály hoden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 zemi ho vďačne sláv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áskou srdcia zmier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desí ma starosť, t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cu spásy velebí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znie vrúcnej vďak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ies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láva Bohu na neb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žiu milosť velebiť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ž tu, v hriešnej čas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ráľa slávy s anjelmi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j vo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osti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desí ma starosť, t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arcu spásy velebí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ch znie vrúcnej vďak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ies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láva Bohu na nebi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8:54:36Z</dcterms:modified>
  <cp:revision>22</cp:revision>
  <dc:subject/>
  <dc:title>Je veľký náš Pán, on slávy je Kráľ Nech do všetkých strán  spev vrúcnych znie chvál.</dc:title>
</cp:coreProperties>
</file>