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1A7-DDD6-460D-A66E-E01CB436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A46-CDBA-4ACE-9F59-25B8560D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9A3-2FE4-41DD-B245-1F27F246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D65-6010-4E6C-BB00-C0B25893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384-EDD1-4E9B-9288-4D148E1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BD3-1C71-4F1B-8514-6C73877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96E-95FE-487D-83A6-BD96C2B1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4C4-3302-4C66-91E1-789C35E7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E4E-1E4C-4F01-872B-BF8DAA8F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BD6-EE6A-4E1F-8C60-1078991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2BB-194F-4440-8E62-344D853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5D8-58DD-47BA-8570-FBFCF7DB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F850-38BB-4F0C-8B1D-B23DCDC8A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6 Príď k nám, Duch svät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k nám, Duch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bies výši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nieť sám v nás plam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šen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vojej moci, slávne čin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ŕdc ľudských úhor prem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iatbe s láskou rozsievan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rody dopraj požehnan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do vini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 hojnosť vlahy, vzrastu pr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áskou zohrej každé srd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cirkev svoju požehn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celý svet to vidieť mô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ty nás vedieš, svätý Bož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k nám a veď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zjednoť k práci Boží ľu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vetlo naše jasne svieti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dozrie pole, vydá klas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stane žatva, radosť spás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09:55:34Z</dcterms:modified>
  <cp:revision>15</cp:revision>
  <dc:subject/>
  <dc:title>Je veľký náš Pán, on slávy je Kráľ Nech do všetkých strán  spev vrúcnych znie chvál.</dc:title>
</cp:coreProperties>
</file>