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6DC-91C8-4FB2-981C-C0480043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2630-1149-46D3-B108-D97BAFED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63B-EFCF-4EC3-AB88-1AA46D8A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4B1B-A4D2-422D-A469-5188EB50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6C6-88C5-4C8B-8524-FC802C07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59D-DB04-4DAF-837C-DD3DCA75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DF79-E513-44E6-B175-EF298B21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0B5-5D17-46D2-A8C1-2F286DDA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2174-2CDA-41BC-BE26-0BEC81F7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15FF-E3BD-4799-A418-8D0AE5B1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ACC-449E-42DE-A7B5-F19AC6F2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2ADA-7704-45BE-A403-648E6638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83B2-081F-424D-B034-55E6C0D21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67 Môj Kráľ a Pá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v láske svojej nekoneč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ne chystáš blah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mov večný;</a:t>
            </a:r>
            <a:br>
              <a:rPr sz="4800"/>
            </a:b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so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celkom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tvoj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,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už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navždy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tvoj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.</a:t>
            </a:r>
            <a:br>
              <a:rPr sz="40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Kráľ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vojej lásky dar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ím sa ti odvďačí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ja ti d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čím prísť pred tvoju tvá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ím svoj dlh zaplatí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svoje srdce, drahý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tvojej prebodnutej dla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 vložiť chcem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viem, že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Kráľ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tebou sklone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hriech ti vyznáv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teba,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m biedny, strate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šetko je len kl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tebe moja nádej, sp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jediná si radosť, krá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žitia cieľ, môj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Kráľ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ebe ďakuj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šetko, čo smiem mať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spásy pl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krásnu novú z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chceš mi da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2T19:30:56Z</dcterms:modified>
  <cp:revision>20</cp:revision>
  <dc:subject/>
  <dc:title>Je veľký náš Pán, on slávy je Kráľ Nech do všetkých strán  spev vrúcnych znie chvál.</dc:title>
</cp:coreProperties>
</file>