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553-441A-4439-94BD-7402D53D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1D4-5FA7-4EA1-B4AC-1B16CEDB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76C-35C2-4D41-9DEF-C839AB50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B44-710B-488F-9F7F-5EDD7AE6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E39-065E-4DCD-886F-E0FF4D3B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E9C-E517-4B0D-9CE9-792382C6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304-048B-47F7-8CED-C888E0E8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7D9-2853-452D-ACC3-A51C9AB5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AA4-5D59-487A-8D48-CF09C325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A4E-92AD-4082-A643-1B4F9D2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01C-2581-46E7-A150-25535EE5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0C1-7BF1-4E13-9334-E68A6EF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6D9B-DF4C-4307-AE9F-D94DAE475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6 Pán na Sione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án na Sione vlád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ech jasá celý svet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n zve nás k trónu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ce zbaviť všetkých b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slávu jemu znej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naše piesne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d ním sa všetci pokloň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Pán je, slávy 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Pán je svetov Tvor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riadi dráhy hviez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mocnou rukou ch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naše kroky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stoj vždy v jeho služ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 ním zostaň v každ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 piesňam nebies zástup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nes svoj pripoj hl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vo vesmíre ce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 jemu vyrovná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nás bázeň svätú vzbudz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á láska úchvatn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v Synovi dal spás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miloval Boh sv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ej radostná zvesť záchrany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ez Krista spásy niet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29:58Z</dcterms:modified>
  <cp:revision>23</cp:revision>
  <dc:subject/>
  <dc:title>Je veľký náš Pán, on slávy je Kráľ Nech do všetkých strán  spev vrúcnych znie chvál.</dc:title>
</cp:coreProperties>
</file>