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AF9B-C18D-470E-A263-554182E9B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277F-F1B8-4DFD-879C-CE059129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E746-FD75-4D38-ADDB-0E051577F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3F58-CE10-4D54-82AC-01C0C3A9E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02C7-2536-46D5-8DE8-5AFFBBF5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61CD-9D00-45C0-83CD-FED58866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2871-8BAC-4E88-A5AB-2EF05E1A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343D-5A9C-4750-899D-FD84AD8A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70AF-B9AA-42CC-8989-1E1EA532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AE89-927F-4B13-AF07-79BA5D09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41A0-2E28-43B8-BA27-C9C7D157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41AA-C85D-4C24-ABE8-5330E0D3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F95D-E5D8-4C3D-B60A-9053F76F538F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73 Ty, Vládca všemohúc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, Vládca všemocn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v nebi trón svoj má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nám, deťom pozemský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a s láskou priznáva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áč chrániť našu otčin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nej svojich detí rodin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eň po dni, každú hodin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y bol si, Kriste, sám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ak dieťa na zem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ó, pomôž byť aj ná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ždy deťmi vďačným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ásť chceme z Božej milos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podľa tvojej múdrosti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s utvrď, Pane, v stál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íď, svätý Tešite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lásky roznieť  pla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č nás zrieť viery cie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zjavil Ježiš sám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s k nemu veď a pravdou chrá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aj v našom dome mieru chr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en tvoja vôľa vždy sa staň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08:19:41Z</dcterms:modified>
  <cp:revision>74</cp:revision>
  <dc:subject/>
  <dc:title>Je veľký náš Pán, on slávy je Kráľ Nech do všetkých strán  spev vrúcnych znie chvál.</dc:title>
</cp:coreProperties>
</file>