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6F68-6C3C-4340-8E4A-F98BF924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78FE-55C0-4BC1-B275-463CEEB9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74AD-5FAB-41F4-A2D1-CA42D494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1F3B-4A72-4F84-94C5-AAF01DC0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15BB-E0F9-46C9-AD6E-58D0C679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45B-44F9-40A4-94EB-CE430835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21A8-FB9D-44DE-A472-5944972B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516B-2E73-49DC-B7B2-33A4AB1F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9A63-FD71-4E88-816D-320D3B2C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E688-A975-4EE2-AAA7-AE37108E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E547-2AAA-47BA-BA7B-B59817B9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1134-1A17-4E98-85AE-96E6A9B3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88A2-700B-4FA8-ABA0-A3A01BAA2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59 Deň čo de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úzkostia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u vierou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dôver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u stále hľa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dôver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u stále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pre teba len t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záchrana vžd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stá, istá, ist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dôver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u stále hľaď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čo d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u vierou hľa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čo d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u vierou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z lásky k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mieral sám Syn Bož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sám, tak sám, tak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čo d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u vierou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klamania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u vierou hľa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klamania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u vierou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uj láskavý hl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kríža hriešnika č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ší, teší, teš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klamania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u vierou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úzkostia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u vierou hľa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úzkostia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u vierou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za teba náš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v svoju svät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lial, vylial, vyl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30:30Z</dcterms:modified>
  <cp:revision>32</cp:revision>
  <dc:subject/>
  <dc:title>Je veľký náš Pán, on slávy je Kráľ Nech do všetkých strán  spev vrúcnych znie chvál.</dc:title>
</cp:coreProperties>
</file>