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BB7-5B83-4112-8B57-E3BDC6BF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0C8-2F3C-4804-8FE8-2AF49199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334-9350-465D-9FCD-1297AFAB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4E2-89CD-4096-8479-9FD6A83C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D4A-965D-41A5-8234-247F24CA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C94-AF17-487B-9FA8-98C806BB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AB7-C06E-492D-8649-A75804B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3B1-FFE0-414B-8B4D-0145536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7D8-5A4F-46C6-A90D-E2ED2D39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DDD-F177-43EF-8CD7-478DF29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18C-E3A9-4E59-9378-406BBE20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6F1-E587-4E1D-BC9A-BD81E4C0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F1B2-5409-4130-8A3E-9170BC80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6 Kristov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je moja spás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n pri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J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 dá mi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ristov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je m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oja nádej, ochra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ku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 utiekam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lím zvodom sat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ba s Pánom mô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m obst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prudkých búrkach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d neho len pomoc dos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je vôkol mrákot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n pri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J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 dá mi s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é bremeno som nies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skalím tých bludných cie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eraz viem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sám 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ie so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e ma Pán môj chce v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dy vies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ma chráni rukou svoj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ilu dáva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musím s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j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jeho pomoc dúf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n pri kr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J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okoj stály nachádz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 ma teší svojím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 dá mi s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Ježišo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tra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m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ô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trác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zne všetka pochybn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srdca sa radosť vrac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mu vďačím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emučí už dušu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na kríž sa poze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a chváli moja p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mi dáva pokoj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3:40:04Z</dcterms:modified>
  <cp:revision>22</cp:revision>
  <dc:subject/>
  <dc:title>Je veľký náš Pán, on slávy je Kráľ Nech do všetkých strán  spev vrúcnych znie chvál.</dc:title>
</cp:coreProperties>
</file>