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484-7028-4F69-B920-1C05D897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D07-7EF7-4F15-ABCE-353AFBA0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B7C-4FA1-4F61-BA7A-26B42ABC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6C00-517F-4D5B-8C7E-514ED0CB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FED-E7BB-424E-AE4A-B658305A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6FB-89FF-49FC-A805-8837967D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9CA-C876-415A-A71D-E62087B8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C6C-B5B7-4A46-8B02-16BFE5B8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043-C44F-451F-AD44-3DA617D5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8F2-DF2E-4C91-A92F-6B038257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07B-7BC4-42FB-B6EF-785D1365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34C-54AF-4979-BDA9-D8070C8C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97FB-ABD1-4D19-B019-BBE7A03F9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5 V Kristovi len, duša mil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ristovi len, duša mil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jdeš pokoj, radosť, mier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je odpočinok, si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mu svoje srdce z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kto iný v šírom sve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íši bôľ tvoj, hlad a smäd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ho ranách ukrytý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aženosti večný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nepokoja, biedy sv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ätku srdca, jarma ví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chráni ťa láska svä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ú zjavil Boží Sy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čo hľadáš ustavič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o, čo je bezcenné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erlou, ktorá trvá večn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– naš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ľahni sa len na Kris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elo dúfaj, pevne ver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rada je vždy i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 aj tvojmu srdcu sm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pomoc ti dary Duch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ove pravdy zasľúb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imi spásu večnú núk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na kríži vydoby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0:28:54Z</dcterms:modified>
  <cp:revision>20</cp:revision>
  <dc:subject/>
  <dc:title>Je veľký náš Pán, on slávy je Kráľ Nech do všetkých strán  spev vrúcnych znie chvál.</dc:title>
</cp:coreProperties>
</file>