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1D47-1EA6-47A4-B332-291D09A8D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3EE3-72C5-4296-A95C-F62A29765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2F8C-564C-4BCC-B710-DB409C78F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5220-272C-4213-A190-63C052A1A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A065-5024-401A-8E88-D5ECF73EF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4A14-CB40-457B-B1C4-A5541908F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4D8F-FA04-4CB1-9E6C-AA61D72B2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E2EC-57C4-48A4-9101-9D5446370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7C6D-3F2F-4D7D-A5AA-59D00569B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3B6A-73B7-48AF-BFD5-AA1648D0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7E90-EA30-4DD2-9F08-E10E5F19E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386B-9E65-4AD5-9DF2-77302841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A38C7-359E-4338-9980-A7B05EA0D0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32 Pán Ježiš stále k sebe zv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Ježiš stále k sebe zv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ých, čo sú znaven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ád odpočinok, pokoj d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trasť v blaho premen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kajúceho hriešnik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ždy vľúdne prijím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 ním ničoho sa nebojí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v srdci radosť m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núka ľahké bremeno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jarmo osožné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z lásky vodu život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á všetkým ochotn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áš prístup k tomu prameň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, ktorý si zranen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všetky rany zahoj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aj vráti stratený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Ježiš všetkým hovorí: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 svetlo sveta som!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to blúdiš, vráť s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mňa hľaď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choď vždy v svetle tom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296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Už</a:t>
            </a: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nechcem</a:t>
            </a: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blúdiť</a:t>
            </a: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v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temnotách</a:t>
            </a: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,</a:t>
            </a:r>
            <a:br>
              <a:rPr sz="47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 ďalej kráčať s ní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ak cieľ svoj iste dosiahne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vár jeho uvidím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07T21:07:40Z</dcterms:modified>
  <cp:revision>20</cp:revision>
  <dc:subject/>
  <dc:title>Je veľký náš Pán, on slávy je Kráľ Nech do všetkých strán  spev vrúcnych znie chvál.</dc:title>
</cp:coreProperties>
</file>