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EA8-4232-46A7-8804-4C9CBCF9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AF6-C888-49D9-8E28-F3AFF3C5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6E9-5A9A-4B12-96B4-57DE1594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7BC-8109-4245-9DAD-72C53E67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C0B-42DC-4DC5-97DE-AE8E5108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9B2-811D-4972-B265-10D4469A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807-00D0-4587-8431-184EF595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16F-28AA-4FB5-9DE0-7823D645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BEB-C484-46B0-A963-825CD356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CD4-3403-430D-886F-6CBFED50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167-9121-4BA5-A2A8-9EC93079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BC7-4041-455B-AC7E-314C4496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42B3-EA99-45E4-B761-7C8952DE7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35 Pán Ježiš je prediv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ezmedzne žehná 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láskavý otec len vi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o, čo dosiaľ 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milost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z úst mojich veleba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mrákavách žiari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m mi bo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ešil ma, uzdravil z 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z úzkosti zo stra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ytrh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blíži sa nádher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ítania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 sláve a moci má prí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 svadobnom rúc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dá mi on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 v ústrety radostne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mrákavách žiari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m mi bo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ešil ma, uzdravil z 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z úzkosti zo stra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ytrh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je prediv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a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zo mňa sňal bremeno ví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spasenia večn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ot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j zárukou je 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mrákavách žiari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m mi bo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ešil ma, uzdravil z 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z úzkosti zo stra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ytrh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únavou pa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víha ma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ríž môj mi pomáha nies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lého sa obá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usím u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svet chce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hriechu z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mrákavách žiari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m mi bo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ešil ma, uzdravil z 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z úzkosti zo strac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ytrh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z vďačnosti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3-09T07:27:43Z</dcterms:modified>
  <cp:revision>19</cp:revision>
  <dc:subject/>
  <dc:title>Je veľký náš Pán, on slávy je Kráľ Nech do všetkých strán  spev vrúcnych znie chvál.</dc:title>
</cp:coreProperties>
</file>