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0D0-3184-4848-8733-EC6F1E42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638-0B1A-4D23-9CDF-EAAC57BE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629-1902-48BE-9F76-F96CC7A4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4FC-8FE9-4826-AA72-6E119509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EE0-1A67-49D3-902C-BFEDD275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0F5-4997-4210-85D0-B3D844BA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10B-65F9-4193-B861-4FA8513E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980-B512-448B-A2D0-8972AD39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F81-94A4-462F-AB27-9753F4AB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16D-F6C6-4FF3-858E-4526F5F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0FF-BB3A-4135-A836-B658E287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AEA-A3F4-4024-A0CA-FCCCA115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8057-2B37-4EB5-BEBA-FEF68160A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0 Sprevádzaj ná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revádzaj nás, večný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ím požehna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každý verne stá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vätom povola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y tvojej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vždy hojne dá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tvoj príchod v rad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d tvoj 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áv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ejto živej nádej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chovaj nás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sme všetci nájd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lužbe lásky čiste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by mnohí pozna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ásnej pravdy pram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milosti raz dosta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. Ame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48:04Z</dcterms:modified>
  <cp:revision>23</cp:revision>
  <dc:subject/>
  <dc:title>Je veľký náš Pán, on slávy je Kráľ Nech do všetkých strán  spev vrúcnych znie chvál.</dc:title>
</cp:coreProperties>
</file>