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CEDF-45F2-492B-BFF8-DE65DB4C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CE51-EAC1-4CF1-BED8-AA11966F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DFD6-2CFF-40A3-9721-5C70B871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0DA5-95D6-4696-95A1-9E5BE846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373C-6532-4A23-A289-5A30927C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3591-6C6C-469B-9BD0-C9FCF37E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C31E-0502-4DFE-AC7F-019AB2B0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4167-BB11-409B-8436-69494C23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7CD4-18F1-4F32-8D1E-55C8F831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C334-EF5E-4BA6-A1BC-B13AECD2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7051-F07D-411E-9310-2DB2F2D9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6D35-4AFE-4620-AB71-7E02E052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7A3F-EDCA-4570-99E8-7552D62DE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96 K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z 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j milost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z Božej 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svätý víta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ždy znovu z vďač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esť Bohu vzdáv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en deň od svetskej már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s vedie k Božej rad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ás privádza v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y k radosti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Pán a 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oj pokoj daruj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o sŕdc nám lásku vle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s povznes k výši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Arial"/>
              </a:rPr>
              <a:t>uj</a:t>
            </a:r>
            <a:r>
              <a:rPr b="1" lang="sk-SK" sz="36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Arial"/>
              </a:rPr>
              <a:t>našich</a:t>
            </a:r>
            <a:r>
              <a:rPr b="1" lang="sk-SK" sz="36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Arial"/>
              </a:rPr>
              <a:t>slabých</a:t>
            </a:r>
            <a:r>
              <a:rPr b="1" lang="sk-SK" sz="36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Arial"/>
              </a:rPr>
              <a:t>prosieb</a:t>
            </a:r>
            <a:r>
              <a:rPr b="1" lang="sk-SK" sz="36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Arial"/>
              </a:rPr>
              <a:t>hlas</a:t>
            </a:r>
            <a:br>
              <a:rPr sz="40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a odpusť viny, očisť nás,</a:t>
            </a:r>
            <a:br>
              <a:rPr sz="4800"/>
            </a:b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sám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Times New Roman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sklo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Times New Roman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sa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Times New Roman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k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Times New Roman"/>
              </a:rPr>
              <a:t> 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nám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Times New Roman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a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Times New Roman"/>
              </a:rPr>
              <a:t> 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o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is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  <a:ea typeface="Times New Roman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  <a:ea typeface="Times New Roman"/>
              </a:rPr>
              <a:t>nás</a:t>
            </a: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íď, Duchu Svätý, prí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moc svoju udeľ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vieme stáli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nás sprav si pravdy chr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aj v službe lásky vierou ž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víťazne boj dokonč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aj v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zne boj dokon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9:11:44Z</dcterms:modified>
  <cp:revision>22</cp:revision>
  <dc:subject/>
  <dc:title>Je veľký náš Pán, on slávy je Kráľ Nech do všetkých strán  spev vrúcnych znie chvál.</dc:title>
</cp:coreProperties>
</file>