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86BB-A273-49EA-A425-8F57D2241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5BF9-5F35-44A3-91D4-B41B683A4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2432-2B6C-40F2-8D02-1A519D2DD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F85C-0124-4D19-A775-38B5AA771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8402-392E-46D4-A3CD-B5AF9DE73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29BC-A877-4C3E-ACC5-B8D6A658D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57EC-FF74-4D60-A54E-C42EE9C57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68BC-7E03-41E7-8A10-C8B24D5F2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47D1-5671-4E48-B4BA-A47E25EF6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B443-D256-440C-9074-BBF2AE3C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A7F1-CD45-441D-B088-7DE680A9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C10F-6160-4A0A-BF2B-A52179B1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6938-24DB-4939-8C8E-246FF85FB9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88 Príď, Tešiteľ ná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íď, Tešiteľ ná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posilni ná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nes i v každý ča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uj modlitby hl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lam viery v nás roznie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č pravdu vždy cti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o tme cestu osvie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aj nám v láske ž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vedieš nás s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 darí sa n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ť radosť je ta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de mieru máš chr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príbytkov sláv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 usmerňuj ná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de domov je prav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lasť nadzemských krás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1-01-05T10:09:37Z</dcterms:modified>
  <cp:revision>13</cp:revision>
  <dc:subject/>
  <dc:title>Je veľký náš Pán, on slávy je Kráľ Nech do všetkých strán  spev vrúcnych znie chvál.</dc:title>
</cp:coreProperties>
</file>