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99C-44BC-4D9D-93CA-15CAAA04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24C-391D-4B6B-AD42-4873CE72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EF5-73FD-4428-96FF-12B2720F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74C-C9FD-43B2-B3CE-CE4E4BF6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2F8-1D7C-4C90-A259-B8503A10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F83-281C-44EB-82CE-5EB4A55A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B4A-9010-476C-931C-BD60087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C45-88DD-4F8A-9DA2-32A28A9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7BF-1CEB-461F-AB11-7E941EC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4D1-186F-4AEC-83F3-7EBC427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523-3540-4C51-82E9-C8403827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C19-29CB-4732-B438-F7FCEDBF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E868-0B7A-4117-9B2B-0F5E7FC2C32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2 Čas žatvy už sa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as žatvy už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do práce sa dá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yjde snopy zbier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ozrie úrod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áne, daj nám schopn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ilu prac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ieme blížnych s lás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k tebe pozý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minulosti tvoji š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lzách Slovo si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dával si im nád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budú úspech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nám daj pevnú vier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apáľ oheň v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ykročíme k die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ajvyšší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ie šíre sveta lán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lasy tvoje s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už pošli, Pane, ženc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erne slúžiť chc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obre vykonajú tú prác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im d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ako deti s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ch domov zavolá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1:59:27Z</dcterms:modified>
  <cp:revision>35</cp:revision>
  <dc:subject/>
  <dc:title>Je veľký náš Pán, on slávy je Kráľ Nech do všetkých strán  spev vrúcnych znie chvál.</dc:title>
</cp:coreProperties>
</file>