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1AD-B729-4912-86F3-164F118A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A41-BFCF-4F88-B5A5-A76D964D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BCB4-6B71-4A30-90E0-D9B6D133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220-4020-44A5-9488-E1830FD7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39E4-F579-4039-9416-9142A4E1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FEFB-1676-444B-8F6C-949E2747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AC4-E7FC-402A-AA58-C20234DB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5749-823A-4720-966C-2669201B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E3A-2D59-46E7-9AD6-AC08FA10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EF0-D237-40D0-98F8-894AB273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404A-DB46-4B9D-B996-5C2EAD67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77B-B785-4185-B1B2-295C6715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96D8-AE94-430F-AF9B-8910C6B41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4 Chváľte svojho Stvoriteľ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te svojho Stvoriteľ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y diela jeho rúk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bo šíre i zem cel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ní chvál nech čujú zvu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dy náš Boh trojjedi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love svojom nesklam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ľuboch stály, spoľahliv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e k nám sa priznáv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me Pána! On nás chrán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ustále o nás db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y svojich štedrých dla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ým s láskou rozdá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môže byť človek nem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e vďačne spievať smie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sa sklonil k ze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v ňom Boh s nami j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ajme chválu Pánu Boh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laňajme sa pokor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ďakujme za milosť mnoh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rdcia svoje otvor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všetkých už končín svet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slavná nech pieseň z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ocný Pán, tá Láska svät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čnej chvály hoden j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8:53:19Z</dcterms:modified>
  <cp:revision>18</cp:revision>
  <dc:subject/>
  <dc:title>Je veľký náš Pán, on slávy je Kráľ Nech do všetkých strán  spev vrúcnych znie chvál.</dc:title>
</cp:coreProperties>
</file>