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164-2DF4-44B2-87D1-9AB4DAFE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2E3-EB71-4DF9-BA83-4FCB824A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366-0674-45B2-B7CB-56C4BAD8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B9B-FDC7-4C72-82FB-866DFC66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9DB-EE6F-4605-8100-8585DB0B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C2F-3684-4574-B925-F9F2E050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23C-3156-480A-B877-2A523B57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61F-F6E8-4B78-9A29-ABFD17D2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F29-144B-4FEA-9A63-4A4C218A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334-99C5-4324-A6A3-C44888D0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301-3A2C-47C7-BEEE-DC0A265A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2CC-7457-4281-AA77-2CBB54E5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A3E6-1CA0-4E17-B0ED-0375B2460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3 Duchom svojím veď nás, Kr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uch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vojí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eď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ás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rist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0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nám pevnou opor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sme Slovo tvoje čist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tovali s pokor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a milosť nech nás chrá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zvodom a sklama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ch láska tvojich dla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revádza nás žehna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ocni ruky naše zno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é k tebe spín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nás milosť stále no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víha, hoc aj kles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ieť chabej viery plam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lni krok nesme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 sŕdc úzkosť navždy zaž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sme stáli, zmuži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jednoť, Pane, cirkev svoj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čisť krvou z Golg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v nej pre službu tvoj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o viacej och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by každý, kto ťa po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úžiť verne vždy ti chc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ť tvoja spásonos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zrieť večný dá nám ci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07:12:13Z</dcterms:modified>
  <cp:revision>20</cp:revision>
  <dc:subject/>
  <dc:title>Je veľký náš Pán, on slávy je Kráľ Nech do všetkých strán  spev vrúcnych znie chvál.</dc:title>
</cp:coreProperties>
</file>