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B8AA-43DE-406F-BAE6-7EBBD3F28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0043-4C4E-4086-B4B6-89A6D50A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4B4A-8F97-409D-B8C7-B66281F72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BE27-E1BF-4452-9076-AA818FB01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E070-EE0C-42E2-AB4D-AB29F869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AF25-165F-4CA3-BD5A-518420AC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047C-5E10-43FD-9AEE-5B953C28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ED6C-1D03-4750-8722-D701A55A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09DD-BCB1-4673-9302-053AEC68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EF25-479D-4040-9FD4-385AE6B5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C3FB-1F39-4336-A480-34A4DD65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F42C-D2E0-415D-992E-CFA8A234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C107-E272-4A2E-9C27-B34DA1BAD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04 Nič sa, dieťa, nebo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Nie, nezanech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e, nezanechá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ľúbil že bude so mn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kdy ma nezanechá. :||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č sa, dieťa, neb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k znie Pánov hl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ieti mi na cest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Slova j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lieva nádej novú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priek noci tm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uistenie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kdy ťa nezanech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Nie, nezanech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e, nezanechá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ľúbil že bude so mn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kdy ma nezanechá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ístie opad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vety spáli mráz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mivý je prelud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rnych sveta kr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ne však v svojej lásk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sľub dal môj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jeho Slova znie mi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Nikdy ťa nezanech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Nie, nezanech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e, nezanechá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ľúbil že bude so mn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kdy ma nezanechá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priateľa šípy hľadajú si cie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strachuj sa, ver l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ší Spas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žiadnych skúšok tiesn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zostávam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mojom srdci znie vždy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Nikdy ťa nezanech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5T13:31:50Z</dcterms:modified>
  <cp:revision>22</cp:revision>
  <dc:subject/>
  <dc:title>Je veľký náš Pán, on slávy je Kráľ Nech do všetkých strán  spev vrúcnych znie chvál.</dc:title>
</cp:coreProperties>
</file>