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377-E97E-4B9F-8991-6BF733A0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065-FA7B-4184-8CF0-DCD24FF0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E12-6C19-408C-841E-16B98F72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A3A-5518-4928-8BB6-CDDA9DE1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443-F236-4790-B2C5-4A675CC7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8D3-B900-4ADE-A1DF-C711FBC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A20-5EB0-483A-84C7-F579A430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86A-5AD1-4550-B0A0-4BB4C68E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690-3089-47E6-9968-11F94595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B7F-AE88-4531-B2C9-D03D503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B56-DDC3-41F4-8166-3A6A0A5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DE8-A0C0-4DD5-8317-2D52FB7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BF38-7CF9-4239-85F6-BDFE47A579D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4 K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a mil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z n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s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žia milosť z neb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Ježišovi skláňa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Duch Svätý ráči zmen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še srdcia na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oj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n u Krista môžeme náj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dosť, pokoj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sme preto ochotní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am Duch Svätý vedie n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56:05Z</dcterms:modified>
  <cp:revision>22</cp:revision>
  <dc:subject/>
  <dc:title>Je veľký náš Pán, on slávy je Kráľ Nech do všetkých strán  spev vrúcnych znie chvál.</dc:title>
</cp:coreProperties>
</file>