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009-3D8C-48C1-A493-DB659FEA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B34-AB88-49EF-BAA6-10992224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8D0-06F0-43CC-BCE7-DAB40B13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D28-59D9-49A0-B15F-F9EE2058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ED5-837A-4351-957C-B30B0603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CA9-F29A-4734-94B1-3B53A682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510-88BA-4C47-A754-71BA77E6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25B-CCD5-493F-B701-2E5636F8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28D-D198-413A-8744-193B043F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561-26C7-4D4A-8330-E1E699CB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37B-3342-4559-AE76-A14B68F9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5E2-CECB-4F01-8EC6-459A34C0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0880-2D07-4E60-9A92-E73C0B989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7 Tak ďaleko som zblúd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s istotou sa spolieh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jeho láske spás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ňa čaká ta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ďaleko som zblúd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Boha v hriechu stále 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ňa čaká t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mnoho rokov strádal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nechcem už byť cudzinc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ňa čaká t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život dosiaľ prázdny b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náruč Otca tíši bô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ňa čaká t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očistí ma, obmy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nové rúcho dar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už domov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 len, domov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blúdiť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áruč Otc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ňa čaká t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19:26:24Z</dcterms:modified>
  <cp:revision>20</cp:revision>
  <dc:subject/>
  <dc:title>Je veľký náš Pán, on slávy je Kráľ Nech do všetkých strán  spev vrúcnych znie chvál.</dc:title>
</cp:coreProperties>
</file>