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2A26-C463-41AE-98B0-195E710CE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1565-DDF9-4CA0-B064-2235081C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F20F-AAE0-429F-B350-6865B139D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96A2-CF51-4960-89EB-5883190B0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1903-FC10-48C7-A476-57D6CE64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30F7-EF05-47A9-BB54-59703A99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07EA-8898-456B-AB8B-619A8143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5444-4556-43A4-A8A3-B91D992F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45BA-658E-4230-8E94-7D8FE4CA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9288-1EC6-49EC-B016-434B15AC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EAAC-62E4-46E5-AEDC-DB3ECA83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DC04-BD5A-44F3-9272-00558B75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BF8D-08CB-4564-9CD8-C630BDE41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78 Tak príjemne je, B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 môj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2306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8 Tak príjemne je, Bože môj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Tak príjemne je, Bože mô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tam, kde ty prebýva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de, Hospodine zástupov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ám svoje miesto máš.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a prednosť vždy si pokladám byť blízko teba le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de z večnej spásy prameňa piť vodu živú smi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j vtáča vie si miest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jsť pri tvojom oltár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de milo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tvoja pokoj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ás hojne obdarí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 všetko tvorstvo pamätáš, nad nami hojne bdie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to s láskou k tebe blíži sa, rád si ho privinie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eň v tvojich sieňach najmilší zo všetkých pre mňa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tam z tvojho Slova vzácneho sa srdce raduj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7:42:31Z</dcterms:modified>
  <cp:revision>22</cp:revision>
  <dc:subject/>
  <dc:title>Je veľký náš Pán, on slávy je Kráľ Nech do všetkých strán  spev vrúcnych znie chvál.</dc:title>
</cp:coreProperties>
</file>