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F3C-9B45-4264-A55D-892E6EB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46F-CB8E-4127-A31D-9584E5B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36D-2954-4199-866E-C650615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B05-3E54-48F3-8C51-A97C1866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83E-267D-4ED2-8293-7B11DEE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68C-A9EC-477D-AB44-38ED9981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4BF-1C08-42AA-86AA-111DF70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D75-4FCC-4E81-9598-667C4B6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0BD-9442-4BB5-86F9-D2B0F943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BB9-975D-4EE5-A362-E0517F9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DC9-D244-43DF-A48F-A2856C1A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AE7-9FD5-4D7A-8F11-C4DC657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3AD-97AA-4DF3-A803-21EBE712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1 Boh tvorcom sveta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esmír zves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slávy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 ňom svoj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kraľ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 tom premýšľa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ko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dn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válu vzdať mu m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ďačný tvorstva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neba kruh len Boží D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odial krásou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ho slávou b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ustý kraj na vábny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krásy rozkvit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lávu marí pá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príde čas, keď Vládca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nových krás mu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vorcom svet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treba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len sám je slávy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ba Majestá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0:50Z</dcterms:modified>
  <cp:revision>29</cp:revision>
  <dc:subject/>
  <dc:title>Je veľký náš Pán, on slávy je Kráľ Nech do všetkých strán  spev vrúcnych znie chvál.</dc:title>
</cp:coreProperties>
</file>