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6564-9358-4948-A543-B0547522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2669-0621-47A3-BDE1-F096BD28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1BE4-7115-4955-B6A6-47B8A3D6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80BA-6601-4E11-BC05-A88C16E25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5908-8963-40F5-9855-9264C675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BAF7-E546-4BB1-99A9-80884D51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6130-48D5-4103-9BEE-25D41A2C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D9EA-74CE-4369-BF1B-F5F97EE0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19C2-EA8B-4DB7-949C-799E80E7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7771-F161-4C0B-B340-FE11F94B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0DC5-6695-4EDF-8E10-2E0D2BBC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B6ED-E5EC-4E55-AB80-6EBD4C15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CF4F-42FD-4BAE-9BEF-F04A9B012E84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82 Prosbu našu, Pane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osbu našu, Pane ču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sa teraz rozísť m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aždého z nás ochraňu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aj nám svoje požehna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môž nám vo viery boj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ch sme dnes i 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 tvoj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7:51:23Z</dcterms:modified>
  <cp:revision>22</cp:revision>
  <dc:subject/>
  <dc:title>Je veľký náš Pán, on slávy je Kráľ Nech do všetkých strán  spev vrúcnych znie chvál.</dc:title>
</cp:coreProperties>
</file>