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B81E-EE3D-41B4-93E9-579952186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3E14-194E-4D71-8FCD-3342475A1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886D-1DD4-4ED2-9CBC-F761568E6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3AC0-0E2B-4F80-8391-1285171F2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BC79-0E70-4C62-94AB-49085A9C0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5C03-B8F6-4B6B-BA1D-92406AC4E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16CE-A28A-45F6-9451-741815DB0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9A7C-6249-4223-BAE0-382555556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C7EF-659E-41F4-8871-75BDF5095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9F79-5D45-4F99-8BA8-0B8D4F008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D76D-D5CE-477C-9F41-1FE41C8EB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CC05-66B2-4567-8A57-33DC3BFC9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D82E7-055B-4C5D-9636-CC407C1BF1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05 Mám v Božom Slov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istoty zdroj stál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ám v Božom Slov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zácnu zvesť o spás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áskavý Otec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m ju poznať dal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š Vykupiteľ k nám s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slávy jas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ž skoro vrát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y nás k sebe vz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m Božím Slovo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arom neba vzácny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 celý život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enne dať sa viesť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ňom útechu m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klad viery spásn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zdávam zaň Boh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rúcnu vďaku, česť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ám v Božom Slov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istoty zdroj stál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 svetlom mojí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adcom bezpečný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oc budúcnosť mrak čiern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asto hal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ieľ viery v jeho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etle nestratí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m Božím Slovo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arom neba vzácny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 celý život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enne dať sa viesť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ňom útechu m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klad viery spásn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zdávam zaň Boh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rúcnu vďaku, če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ám v Božom Slov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adosti zdroj čist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ňom zjavil nám Boh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ojej lásky moc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 vzácnejšie nad všetk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eta zisk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ím rozjasnil m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aj smrti noc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m Božím Slovo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arom neba vzácny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 celý život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enne dať sa viesť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ňom útechu m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klad viery spásn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zdávam zaň Boh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rúcnu vďaku, če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06T08:06:31Z</dcterms:modified>
  <cp:revision>20</cp:revision>
  <dc:subject/>
  <dc:title>Je veľký náš Pán, on slávy je Kráľ Nech do všetkých strán  spev vrúcnych znie chvál.</dc:title>
</cp:coreProperties>
</file>