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4B8-EEA6-4E38-BBC8-BE88D11D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231-DBFF-430F-B378-E821C8BD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BE6-A635-4035-B056-3FC1224D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86C-8E75-4775-AE44-3B36977D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F38-708F-4E22-9032-B8AC8651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6AB-631C-479B-A10F-FD39400B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16B-3456-4BC5-9A60-B96C79CA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371-96CE-4E6D-8BC2-6E6A7775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1FB-5ECC-4659-8C95-9A51AB0A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582-6A4C-4B6D-A253-0A761B9D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D08-CED5-4BAD-BB81-1120B452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D41-3271-49DE-8818-4D168E30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809F-CE38-4F4C-B0E4-2AECCB5ADDA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93 Nový nastal r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ový nastal rok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ane, veď náš krok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o roku minulého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bavuj pokušenia zlého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lom v nás hriechu moc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íď nám na po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ijmi chválu, česť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ú vzácnu zve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že nás chráni tvoja ruk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nám milostivo nú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jnosť pokoja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miesto rozbroj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pasiteľu, sám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káž cestu nám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en ty poznáš našu mdlobu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trach zo smrti, úzkosť hrobu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oc aj klesá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 teba dúf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ajlepšie ty vi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kam nás doviesť chceš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nám hrozí v žitia boj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ký úklad zloba stroj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reto veď náš krok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ám po celý rok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53:19Z</dcterms:modified>
  <cp:revision>95</cp:revision>
  <dc:subject/>
  <dc:title>Je veľký náš Pán, on slávy je Kráľ Nech do všetkých strán  spev vrúcnych znie chvál.</dc:title>
</cp:coreProperties>
</file>