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BCF-3192-4F3A-8C64-5C328195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37E-DDEA-437A-97CB-C4DB2EA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00D-9836-43BB-BAC6-81C3AFD1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5F0-9DB1-4290-8E4C-5D198330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481-F8D1-4D73-96E8-831FAE4C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BB4-9EF3-493A-9A01-3D1CB681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7D6-FAC5-471C-91AD-E39E2DA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948-E062-49BC-86F9-01E14132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D99-E509-4B9E-8408-F1ADB608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F4B-3C1E-498C-83E1-4428A89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51C-38B5-41F4-A958-0849B8C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D57-ED0D-43A5-8004-50C58BA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7903-DD4D-411F-A2CD-5530E12A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129 Čuj, Otče, prosby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môž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vo prijmi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 odpusť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 srdcia stráp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iedne a zran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trat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rád nás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mô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by nás ne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klamať, zničiť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drahý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sloboď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pravú múdrosť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vždy sa priznáv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o sprevádz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, Otče, prosb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loň sa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 nami v tento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mô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deľ nám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stá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ísť z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viesť nás, Pane,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uď vždy svetlom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mieme žiť raz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0:29:24Z</dcterms:modified>
  <cp:revision>21</cp:revision>
  <dc:subject/>
  <dc:title>Je veľký náš Pán, on slávy je Kráľ Nech do všetkých strán  spev vrúcnych znie chvál.</dc:title>
</cp:coreProperties>
</file>