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667-A3D8-4683-883D-3A4DC2D9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A20-CBC8-40ED-AC50-D38D55C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DD4-3734-479A-A94F-8FD58AE9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6F5-DC39-4640-9F2E-CF914DF1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0FF-F73C-4CDB-9EEC-8C2CF454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136-D19E-4DA1-971F-6DF2151E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DAA-657E-4759-BFB4-751A9102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479-95B7-4D8D-B7F8-8DBA826B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382-0EE9-45B6-8A14-12001EBC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255-8A70-42CA-BFB5-F53AB596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CD3-BD4C-4858-80D8-FF4CF52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145-6B2E-475A-AB02-72ADCFC7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167D-63FF-470D-966B-29C503507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7 Ráč prísť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prav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prísť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prav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svoju daruj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úžbou našou na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kráčať 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ŕdc nám vlievaj st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javný lásky ži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auč obeť chv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ť vždy ti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mätok, blud sa šír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máha vôkol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pridaj, Pane, v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zmužilosti v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svojmu ľudu si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celú Ducha zb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delosť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dobrý je náš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na Turíce nov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denne priprav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v skutku ako v slov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idíš náprav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trpezlivosť v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láske stálosť praj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tvoj sa rýchlo bl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v pravde zachov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0:03:44Z</dcterms:modified>
  <cp:revision>13</cp:revision>
  <dc:subject/>
  <dc:title>Je veľký náš Pán, on slávy je Kráľ Nech do všetkých strán  spev vrúcnych znie chvál.</dc:title>
</cp:coreProperties>
</file>