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88D-9F90-4A0D-B0A6-950F7010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895-6674-49A5-91BD-37331E8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0C3-C93C-4ECE-8E51-7A5FFEC8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D96-94FF-47B8-910F-7CF5D1DF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DD6-2A70-440A-A561-A49EDC6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944-846D-4C5C-A996-9F13E84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331-8737-4973-AA5D-F4502522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D6A-F2A6-4FAB-A26D-C4809C5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84C-75F5-4578-AF4C-BFF57FA5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24E-854A-4F56-929D-699CED1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AA0-AB4C-460A-9636-BC16C44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439-94AA-4B65-A56B-BEE93EE3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A51F-B608-49B1-850F-58BC6A4B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6 Len v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pásy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pásy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úzkosti k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svoj upiera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iň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iň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u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 ochran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ím vždy buď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údil so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ietaný búrka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lásky tvojej žiari mi sv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bez teba, môj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chcem byť. :||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poblúde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zo mňa zm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ľavu výčitiek sám utíš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môjho usmerňuj b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ech i ja smiem uzr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ia breh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23:28Z</dcterms:modified>
  <cp:revision>21</cp:revision>
  <dc:subject/>
  <dc:title>Je veľký náš Pán, on slávy je Kráľ Nech do všetkých strán  spev vrúcnych znie chvál.</dc:title>
</cp:coreProperties>
</file>