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943-3AFD-4934-A216-7B0F226E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A24-1CEB-402A-9A21-832B7426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246-2643-464A-B275-286BD902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220-8F07-4FE4-A1C7-6A9A9C67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B5E-75B5-4FE7-8540-68F80B26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2B8-7CB1-4669-B214-3A32B12A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A90-C996-49FF-A2BD-4AD2C233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D1A-A7F6-4834-900A-B289FCE8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46D-E3A0-4781-91E4-B6C773B2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210-5697-4FDC-919F-860BC40D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C9B-E845-43F2-B717-593E7B11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983-7ACA-4DEB-BD14-AFE4273B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004-A5E9-49C1-8F51-1355D2DA7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9 Chcem teb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beť chvá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 mojej vier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né vyzn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tebe jedin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spaseni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 tebe, P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beť chvá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vďačným srdcom priniesť na oltá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v láske svojej k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stál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erne sprevádza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a tvá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be patr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a sláva,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tvojou mocnou ru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m sa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oň v milosti sa ku mne, Krist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ev vďaky te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oslavu zni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mne stvor srdce nov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st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j, nech v ňom dozr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a ovoc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o mne si zbudu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ej lásky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a ti stál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acej podob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prosby moje, Spasiteľ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ôj Záchranc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erný Obhajc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rukou svoj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ma k cieľ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domov chystá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mňa u Ot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43:57Z</dcterms:modified>
  <cp:revision>13</cp:revision>
  <dc:subject/>
  <dc:title>Je veľký náš Pán, on slávy je Kráľ Nech do všetkých strán  spev vrúcnych znie chvál.</dc:title>
</cp:coreProperties>
</file>