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8C8-7726-4E84-AEFD-E1D1C846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1FB-0BC7-43C1-9382-441B68B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CB3-7CC7-493E-A67A-CB9FA054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FE9-55FA-4C4A-B93E-5678E10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621-7792-4F04-84BD-F3F17DC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EC5-01A4-4DA8-90BD-84104BE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BBB-0C87-4A17-90E4-0410584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437-AB1F-4C81-8B0B-8ADAF12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120-B665-44F0-853C-A631396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68-857A-4D21-9EF5-88DED7A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172-67CD-486E-83C0-4D3C422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E1B-F838-4A5A-AEFB-0897796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B8A-1884-4576-85DA-689320389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5 Vzdaj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každý ho chv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áchrany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 Kristovi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odpustil vin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daroval mier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v hriechu svet hynu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pasiť ho 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 milosti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odujal n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est určený 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v Synovi zj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odveký ci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hriechu nás zbav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a kríži m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j Bohu vždy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istoty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aj nás chce vi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príbytku krá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nebude strast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večný je svi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m v blaženej vla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Boží má ži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3:38Z</dcterms:modified>
  <cp:revision>20</cp:revision>
  <dc:subject/>
  <dc:title>Je veľký náš Pán, on slávy je Kráľ Nech do všetkých strán  spev vrúcnych znie chvál.</dc:title>
</cp:coreProperties>
</file>