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A2F-B69F-40F1-AC2E-08FA9D2D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077-2527-47C2-9247-AA1ACCA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D81-0AE4-4110-AB3E-DC3331C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D87-1CD8-495B-8140-8D72837D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61F-8CF9-41DE-B88B-C8E2C09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A9C-11CD-458B-8201-4A1F8198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99B-BD08-4E61-A275-9B8BED42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B96-1A5C-4DD1-AD74-71444C2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48D-DF97-4D05-A0F7-F4880C96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6EB-381E-4614-820C-D118292D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5BF-7E13-40A5-8437-878D15B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F94-4872-42F3-92FB-2D96D0C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2D3-B891-4057-8C00-01D13BEED37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8 Pán Ježiš je mi všetký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mi všetk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Pastier môj i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biedny som bol pred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om ho nepozn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ám ma neoslov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prázdny život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 on sa ku mne sklon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íšil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chodiť s Pánom den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jeho rady db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erne v jeho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stále boj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čo on chystá pre mň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or tiesne z úskal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radosť zo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ič tu ne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šťastím srdce sp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pasiteľa m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okoj doň mi vl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emusím by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záleží len na 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 Bohu boha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nechcem striebro, zlat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zácne pokl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najväčší dar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lásku Kristov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iac mi ešte tr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k domov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31:57Z</dcterms:modified>
  <cp:revision>31</cp:revision>
  <dc:subject/>
  <dc:title>Je veľký náš Pán, on slávy je Kráľ Nech do všetkých strán  spev vrúcnych znie chvál.</dc:title>
</cp:coreProperties>
</file>