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F72-1F44-484F-BB46-41F67E74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04A-AAF4-4499-9C2E-7F42D390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925-BE57-499F-9F16-ECFD51B3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D46-498E-4C72-942F-B25B569F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5EF-3155-44C1-A60F-1FDC2B62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D3E-FCF1-4C15-9667-6562C09C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318-46AF-4702-9144-DF7347B1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99F-759C-489E-8A7F-111E2F8D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550-A005-4D0A-BD86-32AEEACF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DC0-F1E9-48D6-A0F4-EFE1B1F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7C6-C6FB-4EC9-84D1-3AD2ADE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F07-1C8D-4E92-9C2A-B6BC8B3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2D6B-9F10-4EAC-8420-EC1F9E1B4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4 Verný a stály s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náš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otcovskou vernosť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nás sa star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búdzaj túžbu 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í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púšťaš hriechy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lúdilých hľad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ždy si žiada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raz pr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vlej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a stály s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náš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, často never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predsa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prijať úprim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akov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, že láska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nás vždy db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vle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ivy v príro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ebe svedč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, česť vzdáva 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enstva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láska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tvoju väčš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svit je vzácnej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lnk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 s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nám stálu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vojou cirkvou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š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tvojej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ú vďačnos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vle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1:27Z</dcterms:modified>
  <cp:revision>29</cp:revision>
  <dc:subject/>
  <dc:title>Je veľký náš Pán, on slávy je Kráľ Nech do všetkých strán  spev vrúcnych znie chvál.</dc:title>
</cp:coreProperties>
</file>