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E06-63D4-4381-A4F4-55A8BB35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53E-5C7C-47D2-BE75-306440D2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321-E388-4244-838D-86F091A7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A1E-7E3A-46D4-A1BE-C0FAB988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01D-98C7-405C-924C-85B17886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069-4AF7-4D30-8F47-F4012F94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DD2-EA75-4F37-AEAA-D48166DC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0A0-8959-4CCE-AF65-060A66DE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FC1-CE18-4F1A-9E33-F6C4154E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DE1-9033-4239-B777-33A829B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985-4691-4876-9E5E-AD975CD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B57-02C9-4B95-85C4-A701C63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CB04-3C65-4E49-8CEE-FFB9D6CEA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7 S t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u zrak svoj k neb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u som iba pútni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udzinec a h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asiteľ mi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ú blažen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sa navždy skonč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lesť, tráp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budem 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ána za vykúpen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on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úžbou zrak svoj k nebu často obraci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tiaľ v krátk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čas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láve príd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je moja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ho žitia s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ríde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ý ten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on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ým, čo úzkou ces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odia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itne nové rán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mizne smrti ti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Pán slovo spl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ho cirkv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iluje ju vrúc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 sa obet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on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Spasiteľ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em vráti s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 svoj vziať k seb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príd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 nám z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12:29Z</dcterms:modified>
  <cp:revision>23</cp:revision>
  <dc:subject/>
  <dc:title>Je veľký náš Pán, on slávy je Kráľ Nech do všetkých strán  spev vrúcnych znie chvál.</dc:title>
</cp:coreProperties>
</file>