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558-9D7D-4941-8D1C-44E9F82B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33B-E7CA-43BB-BF21-3EA840E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214-FCE1-4695-BB28-592AA776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2B7-BBBB-4980-A5EF-60A6E537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601-DEFE-4D47-804B-88EBBBB8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DE6-2EA9-4738-948F-3904F0A5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971-8941-4393-B580-AC6D527F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DF9-1373-4569-88F1-38701FA1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19D-79B6-4CA9-B5C0-DCBCE98B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E3A-903B-46D1-847B-5D7FB55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75E-D4C2-481B-BC00-75C8389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9F1-A75F-4B8D-896D-2E41B48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FD96-7378-4E41-841C-5E6A7402A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1 Od Baránkovho trón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Baránkovho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prýšti prú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ako krištáľ čis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š pri ňom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prúdom vody ži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ýva on každý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bôľ a ra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hojivý vždy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pre nás z veľk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rameň otvoril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ho neu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me mu z všetkých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tom zdroji upok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voj duše smä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2-05T18:28:42Z</dcterms:modified>
  <cp:revision>15</cp:revision>
  <dc:subject/>
  <dc:title>Je veľký náš Pán, on slávy je Kráľ Nech do všetkých strán  spev vrúcnych znie chvál.</dc:title>
</cp:coreProperties>
</file>