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32E-6219-42A9-B80B-E69C4875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363-7034-410D-ACCD-5156E799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B5D-75FF-45B7-9955-A74C91C3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6F2-3DFD-40C4-914F-C255AB6F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FB3-164A-494D-9C09-C5AD0B34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F6A-39C9-4338-864D-6B60250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112-126C-4101-9609-D240A27D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16A-7A3D-47C1-B67C-2AE61F3D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487-008A-4195-904A-851AF849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9DE-718C-4E66-9661-6CD28F7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8F1-B0D2-4FBB-B264-5D830BA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56F-FDA2-41A8-BFEB-61C6A911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33E8-7FE3-41BD-A63B-9B413310B6D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89 Ako vtáča spokojné 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Ako vtáča spokojné je v hniezde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hoc aj vietor duje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my tiež nemusíme báť sa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keď je s nami nebies Vlád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h nás mannou z neba sýt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 neho sme zlom skryt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nás svojou rukou chrá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bdarúva požehna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keď bolesť srdce muč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nás dôverovať uč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eší v žiali, slzy stier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zahynie naša vie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ho Pána miluj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oliehať sa naňho smi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sa vôkol čo chce de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ďaleko on nikdy nie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i nám berie a či d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lovať nás neprestá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šetko iba na to slúž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nás k sebe doviesť túži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19:45Z</dcterms:modified>
  <cp:revision>91</cp:revision>
  <dc:subject/>
  <dc:title>Je veľký náš Pán, on slávy je Kráľ Nech do všetkých strán  spev vrúcnych znie chvál.</dc:title>
</cp:coreProperties>
</file>