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DF2-04FF-4E29-8ADA-7A26C9B3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796D-A26A-48BE-9C52-4027A722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5AE-B6F6-43A9-B5B9-370F5613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57C-4F15-4FC2-B445-745D4E71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315-0577-4161-80BC-DF3BE156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7EC-584B-4C99-980B-CA147F8B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5E7-C41A-460E-B465-10233653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D7A-F709-4078-B442-9EE214CF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04D-F7C1-4BDC-95E9-EF142877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8C91-CCD9-4E64-8FE1-5552F9BF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D5CA-4BA7-4F95-B279-79422A5A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036-2866-419F-A613-3BE8B5F8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5F86-B7A5-455F-93AB-F1935AAB53A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52 Keď sa blížia tmavej noci tie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a blížia tmavej noci tie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chraňuj n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ernú postav stráž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dopraj, nový deň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zri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staň s nami, Pane náš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nás láska tvoja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chrán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korných čuj našich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osieb h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otcovským vždy požehnaní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č sprevádzať všetkých nás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9:22:09Z</dcterms:modified>
  <cp:revision>56</cp:revision>
  <dc:subject/>
  <dc:title>Je veľký náš Pán, on slávy je Kráľ Nech do všetkých strán  spev vrúcnych znie chvál.</dc:title>
</cp:coreProperties>
</file>