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BC67-6BEF-4449-BA8F-43BC1568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34C-A185-4394-9B26-F03FC2A3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6E6-CD4A-4D5C-A4A9-B69D3FFA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549-BBB0-4BDB-A555-234D6895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5E1F-B142-4866-BAB1-5C94CD04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640-78CF-4C15-BF54-FC5DCCDD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66E-A968-44CF-8E8B-3660683A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354A-0FB2-40CD-A013-4BAA9EBA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BAA5-FE11-4F8F-8A3D-868E4B98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F69-380C-4EBC-80F7-0C7D658E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2FF9-9979-4F60-9D4F-1BC0CD18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02E-45ED-41B4-8D62-18337532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02FC-8751-43D3-B084-D044F066ED3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18 Čo ja ti d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ja ti dám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u stojím s rukou prázdn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mám už slov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mĺkne piesne tó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d tebou, Pane, 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om len hlinou márn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prosbou sa blíži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d tvoj slávy tró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v ťažkých skúška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raz vieru strác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 tebe daj mi silu načerp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som mnou stál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divný môj Radc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 nemôžem si nad to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ac už pria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9:34:17Z</dcterms:modified>
  <cp:revision>21</cp:revision>
  <dc:subject/>
  <dc:title>Je veľký náš Pán, on slávy je Kráľ Nech do všetkých strán  spev vrúcnych znie chvál.</dc:title>
</cp:coreProperties>
</file>