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80A-307F-48BC-8571-11AC5FF0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271-0830-4EE7-A123-E92F0FCA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741C-70E3-49F1-BF4E-0508DE48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99A-B8D4-4C1A-BE28-CDAF950B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36F-03F1-4DD1-A480-A26D7295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BA4-399A-407C-9AFD-95E4B94D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BFD-492A-4843-9E14-3004E9E9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026-9CC6-4111-9AA8-F05968EA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F0C-F8A4-475F-A195-FB4D86F2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E25-4680-426E-AD87-F0067DF9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7B2-8CB5-41D6-B263-DC5CC992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BBFB-D242-4C92-83EE-6E23BB5A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1A5D-4F94-4754-974F-66EF08C97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5 Vždy bližšie pri te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bližšie pri te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ť, Pane chcem,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bez teba na svete žiť nemôžem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íž, príval staro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ôľu a úzkost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tvojej blízk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esť nevládz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ako Jákob,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kamen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očiniem únavou premožen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sa zrieť rebrík te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spája s nebom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mojich túžob se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na ze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vždy sa pomi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c, spánku čas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ma dovedie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veta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veď ma z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údolia bole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vojej blízk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večný j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7T13:17:30Z</dcterms:modified>
  <cp:revision>21</cp:revision>
  <dc:subject/>
  <dc:title>Je veľký náš Pán, on slávy je Kráľ Nech do všetkých strán  spev vrúcnych znie chvál.</dc:title>
</cp:coreProperties>
</file>