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E90-059F-4A29-A734-2E591CB6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4F9-D867-401B-BE02-7524E8D2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F38-DCC9-4CD9-BB6E-FDC1F639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AEB-83FD-49DA-8780-6F4625D0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4F6-8215-4AF5-9516-D27CE1A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D3C-5B07-4835-ABE4-D664B9F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BBF-60C5-4595-899B-4468D31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23B-2598-4676-B51B-E3E6555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F0C-906D-4EF5-82E4-A742678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121-CD51-4E9D-B9A2-0B6139A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980-F5D5-4E79-9EF9-FF7440A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5EE-6E8F-4EF0-857C-83B29A6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F57-756E-4234-8A7D-38AF4ECA3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3 Takého ja Priateľ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ého ja Priateľ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pri mne vždycky st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úť sa smiem na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seba v obeť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krv keď za mňa vyli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e mi vydoby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golgotskom kríži zomr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o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lásku neochvej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ocením nikdy 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osťou jemu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ďačiť s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ísť už vlastnou cest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v jeho šľapaj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tále bude pr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mať nikdy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bi i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mnou bdie neu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dobré praje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sile chcem ísť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vpred až k výši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ím, že raz dovedi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Kráľom on j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1:09:20Z</dcterms:modified>
  <cp:revision>20</cp:revision>
  <dc:subject/>
  <dc:title>Je veľký náš Pán, on slávy je Kráľ Nech do všetkých strán  spev vrúcnych znie chvál.</dc:title>
</cp:coreProperties>
</file>