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E023-63E6-4DFD-BBAB-3ABD6987D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752E-E1BD-4D87-AA40-626915F8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1057-20CA-455D-8D0A-D319545F6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0D8B-4496-423F-AC85-3C226EB60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C9CB-B608-4CA2-915A-0F89E157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C463-2D1F-4CFC-9A2A-0ADDA479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D64C-2371-46C9-8BB9-1894D7B3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87BA-EC2F-468D-9173-FED26DA9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931E-C13D-41F7-8A4F-2FAE5967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1475-8FA9-4ACC-9DFE-A3E82FA6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B5D3-CDD5-4749-94AF-D3059D1C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D31F-C4B3-4986-B9C9-A84827F1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C5F2-AB24-4E22-8A81-2EB53EBF270F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30 Posielam vá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sielam vás do sveta noci chladnej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máhať biednym, chorým, strápeným,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moja lásk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srdciach vašich vládn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sielam vás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ť nádej stratený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sielam vás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víťazí nad hriecho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dvaha vier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avdy mocná zbra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balzam Slov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ojivým je liekom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sielam vá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a, Radca váš a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sielam vás!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a slabých svojou moco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silním rád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ám žitiu jasný cie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víťaziť môžet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nad smrti nocou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sielam vás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áš Kráľ a Spasit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sielam vá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vaša verná lásk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šetkým je znám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 vami som, váš Pá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dmena slávn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 práci už čaká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sielam vás!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voj pokoj dávam vám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1:46:51Z</dcterms:modified>
  <cp:revision>33</cp:revision>
  <dc:subject/>
  <dc:title>Je veľký náš Pán, on slávy je Kráľ Nech do všetkých strán  spev vrúcnych znie chvál.</dc:title>
</cp:coreProperties>
</file>