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5A3D-AA15-4E00-9DDA-7727A528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E47D-4565-4B1D-A712-7EE6C45F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874B-29BA-4F01-A8CC-C6B5D9CB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2216-FBCE-43D5-8210-E539A3E2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0440-5ABC-4BD2-9E8C-9332F704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9AB4-A749-46C8-9A37-1921D9FC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9183-DDC5-4717-918B-76787EDA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ADDF-81DE-4830-9A06-F1DA7727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36EF-DC49-4B84-8A6A-EDA6A03C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71FF-6CD6-424A-B395-79CABD93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9AC5-21A8-4BBE-8436-5394B9F5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95DE-4BAD-44C3-AAF5-3FB8A650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DE7A-CAB8-42A9-A619-12C5B7B21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93 Kto chce s Kristom zvíťazi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chce s Kristom zvíťaz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vodom odol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pred musí smelo vykroč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štít viery pevnej m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Pán raz velí vre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márne hľadieť späť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za ním, k cieľu domo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pred, cirkev Kristova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nás, ty Knieža pokoj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tále s nami bu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v svete plnom rozbroj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e v láske jeden ľu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ráč nám silu d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svietiť smieme, hri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ma hriech nech sa rozply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c smrti pomi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smieme láskou spoje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Krista praco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er jeho šíriť na zem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pásu zvest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blízko cesty cie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án náš,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bude v zemi večných kr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vrelo vítať ná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2T10:26:39Z</dcterms:modified>
  <cp:revision>20</cp:revision>
  <dc:subject/>
  <dc:title>Je veľký náš Pán, on slávy je Kráľ Nech do všetkých strán  spev vrúcnych znie chvál.</dc:title>
</cp:coreProperties>
</file>