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13A-3284-414F-8461-EB93223F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704-8FEA-4A2C-BE12-A95D4C1C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D0F-AED6-42B5-9BAF-1FB9E2A5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B59-91A4-4E05-A9F7-B22A754C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7E3-A441-4B37-BC32-73BCBA5F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851-CCF9-4417-BB38-A0B2FA2A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114-1407-4FBF-B3DE-00A928F6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9C4-ADC1-4258-A23A-0E1BC4E5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0C8-CAA7-421D-9DE1-878D4D14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219-F0AD-47D7-92F0-628F3252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CD0-0488-4694-803C-8898DCA8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A26-AE00-44B1-92B4-736C3944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0151-9B93-4B51-A5C4-50CFFBD2F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5 Deti Božie, vďačne, svor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uč nás vždy verne slú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vzájom sa mil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každý z nás vždy túž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blížnych privádz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ti Božie, vďačne, svor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loňme hlavy, kolen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chvále, prosb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ia spo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svoj ľud rád požeh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dami sme jeho tel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je Hlava, vedie nás;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slavujme Spas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bajme len na jeho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dnes opäť chc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luvu s Pánom obnov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seľ, srdce dať si smi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krvou očist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vieru a lásku čist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riateľ keď útoč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jdeme vždy pomoc ist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žišovom náruč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ý ako Boží sluh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č sa blížnych milov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rániť, podopierať druh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tový zaň život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ľaď na Pána, ktorý za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mrieť na kríž z lásky 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on, tak všade šír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svet ho poznať sm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ou láskou obdar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mocni, zjednoť Boží ľu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v nás lásky oheň pla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sloboď nás z hriechu pú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2T12:24:39Z</dcterms:modified>
  <cp:revision>20</cp:revision>
  <dc:subject/>
  <dc:title>Je veľký náš Pán, on slávy je Kráľ Nech do všetkých strán  spev vrúcnych znie chvál.</dc:title>
</cp:coreProperties>
</file>