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CB1-B8E2-4E0B-844C-3BD6E62C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5F1-2544-4A17-897E-14F6F009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DE9-0806-4AA5-9BF4-907ED787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C2C-4472-45B0-989A-3D1544BF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F73-1D61-468F-AFE9-CA9FE382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724-B939-42E1-AAF2-190CA907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D9A-6BBE-4E5B-8AE7-09933616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556-DC83-4B57-93BA-B80CC2C8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AD4-C179-49A1-A9FE-5E1854FB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33A-49E3-4D07-BA48-EA0055C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749-9861-4B36-9089-A082AA6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EDB-FAB2-4510-972C-BFC09FB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D66A-D5D3-46C4-A5F8-4F89196B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7 Sláva Pánu Bo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Pánu Bohu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blahú zves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nám novú nádej 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primne mu vzdajme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oci človek pre nev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rokom sa hriechu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y božej plnú mier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 nám uká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Kristovi Buď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u dal zmysel z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ľovského vzdal sa pr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al smrti trest za n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ás znášal úzkosť, t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golgotskom kríži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ú vložil do sŕdc pies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 Syn, náš Spasite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a, Záchrancovi sl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ohol smrť, z hrobu vstal.</a:t>
            </a:r>
            <a:br>
              <a:rPr sz="4800"/>
            </a:b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nech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znie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celý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veto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700" spc="-1" strike="noStrike">
                <a:solidFill>
                  <a:srgbClr val="66ff33"/>
                </a:solidFill>
                <a:latin typeface="Arial"/>
              </a:rPr>
              <a:t>správa,</a:t>
            </a:r>
            <a:br>
              <a:rPr sz="47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a vráti ak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tých, čo sú priprav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laženejšej správy niet: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ládnuť bude mier na zem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uje Boh tento svet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7:19Z</dcterms:modified>
  <cp:revision>19</cp:revision>
  <dc:subject/>
  <dc:title>Je veľký náš Pán, on slávy je Kráľ Nech do všetkých strán  spev vrúcnych znie chvál.</dc:title>
</cp:coreProperties>
</file>