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FA6-BD1E-4357-8910-5ABAD7E4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F7E-F605-4B78-A4E0-B504A98F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A53-C893-49CA-B338-67BBABD4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F5E-567C-492A-9081-AE0A1CDC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19A-1166-4A5A-8424-A57DBAF2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551-5696-4B71-8382-6828E273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9DC-2C61-426F-8689-E938D27E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0E9-8127-486E-8CA2-78656AF7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2BE-7E4B-4231-82E3-5C37F06E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201-E982-40BD-B498-6E22E67C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0B2-C38C-48A6-8760-3FDFB7E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E09-A6CA-4BA8-9532-6562BE48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8DA1-242A-4A65-8EF2-FEE00BAB2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6 Buď tebe, Bože,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tebe, Bože, č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enu tvojmu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 svojej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všetko dobré dáva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 celým živo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edieš, chrániš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láskou otcovs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nami držíš strá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chceš nám deň čo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ť svojej priazne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sme vždy vo vier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pravde pevne stál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š v skúškach zvíťaz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Duch tvoj vedie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pádom chráni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vojho Slov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tebe, Otč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Synovi vždy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Duchu Sväté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vojich deti pr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trojjediný Bo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ásy blahozv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vekov nave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patrí vďaka, če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08:03Z</dcterms:modified>
  <cp:revision>10</cp:revision>
  <dc:subject/>
  <dc:title>Je veľký náš Pán, on slávy je Kráľ Nech do všetkých strán  spev vrúcnych znie chvál.</dc:title>
</cp:coreProperties>
</file>