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842-F268-4264-8B03-07572D58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052-C33E-4F64-B8FE-69BF7D7C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267-4CF3-4315-A5CE-5886F527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3CD-97EB-477E-B4FB-E78C82C1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8FB-7B5D-4489-AF68-82A4B30C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19E-953D-4C40-A115-A2DB11E7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AB7-71F8-4292-B12F-F908C86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924-4236-4E4E-A9EF-EA6120B7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36A-BBCD-43C7-BBE8-F9EA5AD5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661-3CDD-484B-A248-0B67D87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D61-2310-4227-914F-1D06BEC8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54E-169B-41FC-BBD7-9B7B1EF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6C22-337E-4EE5-8E8A-3355B2FF3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6 Láska Božia, svätá čist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Božia, svätá, č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š,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ašich srdciach ubytuj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sloboď spod ťarchy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ty nás zastupuj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lucítiš s hriešnik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júcim rád milosť dáv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zemským pútni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ou Ducha, slovom prav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zbroj slabých, bezmoc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ľa svojho slova vrá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raj dávno stra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enie len v tebe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ám ži v nás život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celý svet ťa poz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jomnou nás láskou sp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konaj v nás, svät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lo, čo si započ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je tvoj ľud priprav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vrátiš ako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enu od slávy k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sob mocou svojou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teba oslav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i v zemi večných kr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0:29:15Z</dcterms:modified>
  <cp:revision>32</cp:revision>
  <dc:subject/>
  <dc:title>Je veľký náš Pán, on slávy je Kráľ Nech do všetkých strán  spev vrúcnych znie chvál.</dc:title>
</cp:coreProperties>
</file>