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33D-68FB-4B48-9131-9FA137A1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A78-A7B6-4317-A3CA-BF53FE6F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6EC-39BC-4B60-BD52-57088CF4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D4B-D40F-4C81-816B-CDA8D9F9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9F4-6D65-408E-B8E5-494CA415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E9E-CF46-47BC-9A70-BAD5FEC6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A9F-DC34-456C-950C-60683E1A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49D-A7BB-4526-9182-29956794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F7B-794A-4953-8A22-940F8E7A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A9F-7B7A-4FFB-BCC3-5222EDD6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926-CEB1-43A6-9D05-C582D96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EC8-1C6F-41F1-B4E1-775C496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1B10-E9B4-4FCE-808C-BF45080B2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3 Viem o domove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ch kr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žiariť bude več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radosť, pokoj dá nám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šetky slzy zotrie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em o domove večných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vládne mier a lásk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vať zem tú svojou otči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je mojou t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u jedinou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ádherná, zem ľúbe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ová, verným sľúb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stratí moc už smrt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žiariť bude več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radosť, pokoj dá nám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šetky slzy zotrie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Pán tam pre nás priprav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ešte nikto neza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dosiaľ nám je nezn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z pochopíme, pozn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ádherná, zem ľúbe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ová, verným sľúb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stratí moc už smrt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žiariť bude večn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radosť, pokoj dá nám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všetky slzy zotrie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Spasiteľa uzri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naveky s 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 bu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v jeho stál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a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é blaho rozh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ádherná, zem ľúbe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em nová, verným sľúb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stratí moc už smrt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58:08Z</dcterms:modified>
  <cp:revision>22</cp:revision>
  <dc:subject/>
  <dc:title>Je veľký náš Pán, on slávy je Kráľ Nech do všetkých strán  spev vrúcnych znie chvál.</dc:title>
</cp:coreProperties>
</file>